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67932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764200"/>
            <a:ext cx="3052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77B7-396C-4103-A4F2-D18A07630D6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5840" y="4383000"/>
            <a:ext cx="51912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. H. Cuenca, Hydrologic Science Team, Department of Bioengineering, Oregon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457200"/>
            <a:ext cx="777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Black"/>
              </a:rPr>
              <a:t>Profile Soil Moisture Content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863640"/>
            <a:ext cx="8724960" cy="63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126600" y="6468480"/>
            <a:ext cx="287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H. Cuenca  p.</a:t>
            </a:r>
            <a:fld id="{D6349AF7-8C0A-4E06-997A-7C011065800B}" type="slidenum"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IHOP -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96080" y="6377040"/>
            <a:ext cx="1447920" cy="480960"/>
            <a:chOff x="7696080" y="6377040"/>
            <a:chExt cx="1447920" cy="480960"/>
          </a:xfrm>
        </p:grpSpPr>
        <p:sp>
          <p:nvSpPr>
            <p:cNvPr id="5" name=""/>
            <p:cNvSpPr/>
            <p:nvPr/>
          </p:nvSpPr>
          <p:spPr>
            <a:xfrm>
              <a:off x="8001000" y="6453000"/>
              <a:ext cx="1143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UNIVERS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Arial Black"/>
                  <a:ea typeface="Arial"/>
                </a:rPr>
                <a:t>COLLEGE C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" name=""/>
            <p:cNvGraphicFramePr/>
            <p:nvPr/>
          </p:nvGraphicFramePr>
          <p:xfrm>
            <a:off x="7696080" y="6377040"/>
            <a:ext cx="38412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6377040"/>
                      <a:ext cx="384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rcRect l="0" t="0" r="0" b="7049"/>
          <a:stretch/>
        </p:blipFill>
        <p:spPr>
          <a:xfrm>
            <a:off x="0" y="6373800"/>
            <a:ext cx="1535040" cy="4842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265" r="49998" b="51692"/>
          <a:stretch/>
        </p:blipFill>
        <p:spPr>
          <a:xfrm>
            <a:off x="685800" y="914400"/>
            <a:ext cx="761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22:18:19Z</dcterms:created>
  <dc:creator>er</dc:creator>
  <dc:description/>
  <dc:language>en-US</dc:language>
  <cp:lastModifiedBy>lemone</cp:lastModifiedBy>
  <cp:lastPrinted>2003-02-03T20:51:18Z</cp:lastPrinted>
  <dcterms:modified xsi:type="dcterms:W3CDTF">2005-09-15T20:40:57Z</dcterms:modified>
  <cp:revision>42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4632623</vt:r8>
  </property>
  <property fmtid="{D5CDD505-2E9C-101B-9397-08002B2CF9AE}" pid="3" name="_AuthorEmail">
    <vt:lpwstr>cuenca@engr.orst.edu</vt:lpwstr>
  </property>
  <property fmtid="{D5CDD505-2E9C-101B-9397-08002B2CF9AE}" pid="4" name="_AuthorEmailDisplayName">
    <vt:lpwstr>Richard H. Cuenca</vt:lpwstr>
  </property>
  <property fmtid="{D5CDD505-2E9C-101B-9397-08002B2CF9AE}" pid="5" name="_EmailSubject">
    <vt:lpwstr>Soils Data</vt:lpwstr>
  </property>
  <property fmtid="{D5CDD505-2E9C-101B-9397-08002B2CF9AE}" pid="6" name="_ReviewingToolsShownOnce">
    <vt:lpwstr/>
  </property>
</Properties>
</file>