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01D-51D3-46EF-AECA-7AC13EE58D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9463B4F2-42E7-4038-963F-B242E56E9A9F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6T21:35:46Z</dcterms:modified>
  <cp:revision>4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3069584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 - Soil Profile 10</vt:lpwstr>
  </property>
  <property fmtid="{D5CDD505-2E9C-101B-9397-08002B2CF9AE}" pid="6" name="_ReviewingToolsShownOnce">
    <vt:lpwstr/>
  </property>
</Properties>
</file>