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9F0-B88D-4C68-9277-922A134CBE6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E5EF23FE-824B-484E-B46B-66969D654380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8:57Z</dcterms:modified>
  <cp:revision>4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550129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1</vt:lpwstr>
  </property>
  <property fmtid="{D5CDD505-2E9C-101B-9397-08002B2CF9AE}" pid="6" name="_ReviewingToolsShownOnce">
    <vt:lpwstr/>
  </property>
</Properties>
</file>