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1710-723D-4485-AFA9-58BB7621123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644FC5AE-0D8A-4175-8F30-5B117157008D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41:15Z</dcterms:modified>
  <cp:revision>4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2580840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2</vt:lpwstr>
  </property>
  <property fmtid="{D5CDD505-2E9C-101B-9397-08002B2CF9AE}" pid="6" name="_ReviewingToolsShownOnce">
    <vt:lpwstr/>
  </property>
</Properties>
</file>