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83D6-46BC-414B-B5A2-56865E92E02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AF33AB36-EC01-4C74-B2E3-4A7DCEC067B1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26T16:08:40Z</dcterms:modified>
  <cp:revision>4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 Profile 12 - Flux Site 5</vt:lpwstr>
  </property>
  <property fmtid="{D5CDD505-2E9C-101B-9397-08002B2CF9AE}" pid="6" name="_ReviewingToolsShownOnce">
    <vt:lpwstr/>
  </property>
</Properties>
</file>