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7A79-E1D6-4376-AFB3-3C934B46AE5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41F075E-2B09-4614-80EE-451C8A32D6BA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7:24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7903498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3 - Resend of PowerPoint File</vt:lpwstr>
  </property>
  <property fmtid="{D5CDD505-2E9C-101B-9397-08002B2CF9AE}" pid="6" name="_ReviewingToolsShownOnce">
    <vt:lpwstr/>
  </property>
</Properties>
</file>