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1E72-BEB1-408D-8198-09354E9B2D0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D625F55-1CD7-4DC2-B7FD-5458D96C132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00:15:22Z</dcterms:modified>
  <cp:revision>4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7449781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2</vt:lpwstr>
  </property>
  <property fmtid="{D5CDD505-2E9C-101B-9397-08002B2CF9AE}" pid="6" name="_ReviewingToolsShownOnce">
    <vt:lpwstr/>
  </property>
</Properties>
</file>