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E82-F309-40A4-9C30-5A5B2CEECD9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Profile #4, Flux Site #3 – Sage + Grass site, DOY 130 to 180, 2002.  Soil temperature data measured by CS107 probe.  (From R. H. Cuenca, Hydrologic Science Team, Oregon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4F23187-FAE2-443B-8A5F-34142243635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16:41:11Z</dcterms:modified>
  <cp:revision>4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9149716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4</vt:lpwstr>
  </property>
  <property fmtid="{D5CDD505-2E9C-101B-9397-08002B2CF9AE}" pid="6" name="_ReviewingToolsShownOnce">
    <vt:lpwstr/>
  </property>
</Properties>
</file>