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46CD-FCDB-4DEF-B3CE-87047B4E3B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8, Flux Site #9 – Grass site, DOY 130 to 180, 2002.  Precipitation data measured by TE525 tipping bucket rain guag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17002CB-E2CA-4F2D-A0D3-1D63E0FDB169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3:42Z</dcterms:modified>
  <cp:revision>4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5589110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5</vt:lpwstr>
  </property>
  <property fmtid="{D5CDD505-2E9C-101B-9397-08002B2CF9AE}" pid="6" name="_ReviewingToolsShownOnce">
    <vt:lpwstr/>
  </property>
</Properties>
</file>