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AE3-EC7E-4A53-A937-B148EBD0A0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92350A8-0AE1-4A40-AD88-608DD7444A88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7:55:35Z</dcterms:modified>
  <cp:revision>4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134782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6</vt:lpwstr>
  </property>
  <property fmtid="{D5CDD505-2E9C-101B-9397-08002B2CF9AE}" pid="6" name="_ReviewingToolsShownOnce">
    <vt:lpwstr/>
  </property>
</Properties>
</file>