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95A9-895D-47B9-AD4C-B93F1A92503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A0C33DCC-DEE9-4051-AB8D-1CFD02235D62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8:06Z</dcterms:modified>
  <cp:revision>4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7436221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7 + Data Catalog</vt:lpwstr>
  </property>
  <property fmtid="{D5CDD505-2E9C-101B-9397-08002B2CF9AE}" pid="6" name="_ReviewingToolsShownOnce">
    <vt:lpwstr/>
  </property>
</Properties>
</file>