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13212-610A-46BD-A8CB-75004F782311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59EEDBDC-138E-4965-ABCE-A30B89907FBF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26T16:05:01Z</dcterms:modified>
  <cp:revision>443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406727989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 Profile 8 - Flux Site 9</vt:lpwstr>
  </property>
  <property fmtid="{D5CDD505-2E9C-101B-9397-08002B2CF9AE}" pid="6" name="_ReviewingToolsShownOnce">
    <vt:lpwstr/>
  </property>
</Properties>
</file>