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ECA4-FBB8-4F50-A38D-FBCC595C7A1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437267D-A067-44DB-A465-47746F036435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2:44Z</dcterms:modified>
  <cp:revision>4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6506422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9</vt:lpwstr>
  </property>
  <property fmtid="{D5CDD505-2E9C-101B-9397-08002B2CF9AE}" pid="6" name="_ReviewingToolsShownOnce">
    <vt:lpwstr/>
  </property>
</Properties>
</file>