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9DE4-C773-4649-941F-04B4FC4F1A1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0B6F129D-D4C1-4117-84D3-01FFC1AC929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6:19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9 - Flux Site 9</vt:lpwstr>
  </property>
  <property fmtid="{D5CDD505-2E9C-101B-9397-08002B2CF9AE}" pid="6" name="_ReviewingToolsShownOnce">
    <vt:lpwstr/>
  </property>
</Properties>
</file>