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E74F-624A-4B99-B829-EBEB1C6CC34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C6F72023-D604-4C59-B61D-BF0FBE86A5B9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6:48:06Z</dcterms:modified>
  <cp:revision>43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74362211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7 + Data Catalog</vt:lpwstr>
  </property>
  <property fmtid="{D5CDD505-2E9C-101B-9397-08002B2CF9AE}" pid="6" name="_ReviewingToolsShownOnce">
    <vt:lpwstr/>
  </property>
</Properties>
</file>