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53491-C28D-436F-B047-2A12F2927AE8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DB0E4584-A83C-44B0-9D6E-E779D5252413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21:38:57Z</dcterms:modified>
  <cp:revision>447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58550129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11</vt:lpwstr>
  </property>
  <property fmtid="{D5CDD505-2E9C-101B-9397-08002B2CF9AE}" pid="6" name="_ReviewingToolsShownOnce">
    <vt:lpwstr/>
  </property>
</Properties>
</file>