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7929-6A0E-4202-B5B7-C482A70206B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55AE2F41-6DDA-4951-93FD-9F41D39D783A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10:42Z</dcterms:modified>
  <cp:revision>4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1869565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3 - Flux Site 9</vt:lpwstr>
  </property>
  <property fmtid="{D5CDD505-2E9C-101B-9397-08002B2CF9AE}" pid="6" name="_ReviewingToolsShownOnce">
    <vt:lpwstr/>
  </property>
</Properties>
</file>