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963A-891B-40AD-B1BD-9C2F4CBEDD9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4BA2AEAB-E2D8-4550-A4E0-32FFB5D4FB89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8:57Z</dcterms:modified>
  <cp:revision>44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8550129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1</vt:lpwstr>
  </property>
  <property fmtid="{D5CDD505-2E9C-101B-9397-08002B2CF9AE}" pid="6" name="_ReviewingToolsShownOnce">
    <vt:lpwstr/>
  </property>
</Properties>
</file>