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2771D-89EF-45A4-955B-FD6C97087880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D1EFE688-8C90-42F0-99F9-69D1F5738101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16T21:41:15Z</dcterms:modified>
  <cp:revision>450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632580840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s Data - Soil Profile 12</vt:lpwstr>
  </property>
  <property fmtid="{D5CDD505-2E9C-101B-9397-08002B2CF9AE}" pid="6" name="_ReviewingToolsShownOnce">
    <vt:lpwstr/>
  </property>
</Properties>
</file>