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1573-EC2C-4056-88F3-40EB3893A2B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8, Flux Site #9 – Grass site, DOY 130 to 180, 2002.  Soil temperature data measured by CS107 prob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8, Flux Site #9 – Grass site, DOY 130 to 180, 2002.  Precipitation data measured by TE525 tipping bucket rain guag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CB5F973F-D18E-484B-B288-92841DBD09EC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3:42Z</dcterms:modified>
  <cp:revision>43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55891103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5</vt:lpwstr>
  </property>
  <property fmtid="{D5CDD505-2E9C-101B-9397-08002B2CF9AE}" pid="6" name="_ReviewingToolsShownOnce">
    <vt:lpwstr/>
  </property>
</Properties>
</file>