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1B41-6E71-49A6-81A8-832717333A4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2780922F-82D0-4290-AF06-EE0C91F15B39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6:48:06Z</dcterms:modified>
  <cp:revision>43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74362211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7 + Data Catalog</vt:lpwstr>
  </property>
  <property fmtid="{D5CDD505-2E9C-101B-9397-08002B2CF9AE}" pid="6" name="_ReviewingToolsShownOnce">
    <vt:lpwstr/>
  </property>
</Properties>
</file>