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907FA-321D-4F35-9543-335102B6BE0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839E6B70-F797-4453-9ED7-26AB36BDC0B0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00:15:22Z</dcterms:modified>
  <cp:revision>421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277449781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2</vt:lpwstr>
  </property>
  <property fmtid="{D5CDD505-2E9C-101B-9397-08002B2CF9AE}" pid="6" name="_ReviewingToolsShownOnce">
    <vt:lpwstr/>
  </property>
</Properties>
</file>