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4040-07AC-4366-9F83-B485C814359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Precipitation data measured by TE525 tipping bucket rain guag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D6D5C17-4F2E-4614-B115-8E6BD236C75B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3:42Z</dcterms:modified>
  <cp:revision>4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5589110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5</vt:lpwstr>
  </property>
  <property fmtid="{D5CDD505-2E9C-101B-9397-08002B2CF9AE}" pid="6" name="_ReviewingToolsShownOnce">
    <vt:lpwstr/>
  </property>
</Properties>
</file>