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9BC0-5B5C-444B-A4A6-D93BE025D5F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3D293EC4-FC53-4B95-8416-967A1B532C8E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7:55:35Z</dcterms:modified>
  <cp:revision>4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2134782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6</vt:lpwstr>
  </property>
  <property fmtid="{D5CDD505-2E9C-101B-9397-08002B2CF9AE}" pid="6" name="_ReviewingToolsShownOnce">
    <vt:lpwstr/>
  </property>
</Properties>
</file>