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0060-35E6-4592-AF95-2A0A49AD823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DA06FB6-4510-41E7-9DA0-0499C1996EBB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5:01Z</dcterms:modified>
  <cp:revision>4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672798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8 - Flux Site 9</vt:lpwstr>
  </property>
  <property fmtid="{D5CDD505-2E9C-101B-9397-08002B2CF9AE}" pid="6" name="_ReviewingToolsShownOnce">
    <vt:lpwstr/>
  </property>
</Properties>
</file>