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8E4E-3FFB-4EB4-BED4-289B5BA8EE4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13D20126-2986-48C2-977C-70DDB1C3DDCC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5:46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3069584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0</vt:lpwstr>
  </property>
  <property fmtid="{D5CDD505-2E9C-101B-9397-08002B2CF9AE}" pid="6" name="_ReviewingToolsShownOnce">
    <vt:lpwstr/>
  </property>
</Properties>
</file>