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0278-5B28-4E82-8D6A-E11B9112855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E3278FFF-63C0-4DE3-8CD2-13404B186254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8:57Z</dcterms:modified>
  <cp:revision>44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8550129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1</vt:lpwstr>
  </property>
  <property fmtid="{D5CDD505-2E9C-101B-9397-08002B2CF9AE}" pid="6" name="_ReviewingToolsShownOnce">
    <vt:lpwstr/>
  </property>
</Properties>
</file>