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F446-B79B-47EB-8ED4-0CAC95AB598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2FA65992-B0BD-4A8F-9E3A-D5B5AF036EC9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8:40Z</dcterms:modified>
  <cp:revision>4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2 - Flux Site 5</vt:lpwstr>
  </property>
  <property fmtid="{D5CDD505-2E9C-101B-9397-08002B2CF9AE}" pid="6" name="_ReviewingToolsShownOnce">
    <vt:lpwstr/>
  </property>
</Properties>
</file>