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1047-896A-48DB-8DDB-AF86890E8E6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FFE7E969-8E9E-423D-89B2-07A892B06BC3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5T20:40:57Z</dcterms:modified>
  <cp:revision>42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44632623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</vt:lpwstr>
  </property>
  <property fmtid="{D5CDD505-2E9C-101B-9397-08002B2CF9AE}" pid="6" name="_ReviewingToolsShownOnce">
    <vt:lpwstr/>
  </property>
</Properties>
</file>