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2C8E0-B683-4828-983A-1475C97701C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71DE9C8B-7E3E-45AF-BF91-9CBE029C7F32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21:38:57Z</dcterms:modified>
  <cp:revision>44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8550129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11</vt:lpwstr>
  </property>
  <property fmtid="{D5CDD505-2E9C-101B-9397-08002B2CF9AE}" pid="6" name="_ReviewingToolsShownOnce">
    <vt:lpwstr/>
  </property>
</Properties>
</file>