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54A6-542D-436D-B187-D8EA1953B71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7F0BF4D-52C4-4733-A30A-6F9EEB8E764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1:15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2</vt:lpwstr>
  </property>
  <property fmtid="{D5CDD505-2E9C-101B-9397-08002B2CF9AE}" pid="6" name="_ReviewingToolsShownOnce">
    <vt:lpwstr/>
  </property>
</Properties>
</file>