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3C1B-AC42-486A-8545-59C03FA992B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A2E7DD3B-9AF4-4BCF-ACCF-D8EB29D00088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2:44Z</dcterms:modified>
  <cp:revision>4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9</vt:lpwstr>
  </property>
  <property fmtid="{D5CDD505-2E9C-101B-9397-08002B2CF9AE}" pid="6" name="_ReviewingToolsShownOnce">
    <vt:lpwstr/>
  </property>
</Properties>
</file>