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4C376-3E76-44DC-88DA-226EBB901B6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E2D501BC-694B-4706-89FF-24CCC019BA39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26T16:06:19Z</dcterms:modified>
  <cp:revision>44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66506422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 Profile 9 - Flux Site 9</vt:lpwstr>
  </property>
  <property fmtid="{D5CDD505-2E9C-101B-9397-08002B2CF9AE}" pid="6" name="_ReviewingToolsShownOnce">
    <vt:lpwstr/>
  </property>
</Properties>
</file>