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5939-ED24-4827-94CF-8A9887144A8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676166C4-CD0B-4D77-8F09-7A1AE53D15C6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2:44Z</dcterms:modified>
  <cp:revision>44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66506422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9</vt:lpwstr>
  </property>
  <property fmtid="{D5CDD505-2E9C-101B-9397-08002B2CF9AE}" pid="6" name="_ReviewingToolsShownOnce">
    <vt:lpwstr/>
  </property>
</Properties>
</file>