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332C-8CDD-46F0-A6DD-06697E8140F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A9DE3508-6491-4FD6-BF0E-6CE1DFBE8B4E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41:15Z</dcterms:modified>
  <cp:revision>45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32580840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2</vt:lpwstr>
  </property>
  <property fmtid="{D5CDD505-2E9C-101B-9397-08002B2CF9AE}" pid="6" name="_ReviewingToolsShownOnce">
    <vt:lpwstr/>
  </property>
</Properties>
</file>