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7D565-69D3-47DC-95D6-6AF21DE012CC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6C29FD31-0F19-485C-A53D-90CD7DA85325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26T16:08:40Z</dcterms:modified>
  <cp:revision>451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632580840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 Profile 12 - Flux Site 5</vt:lpwstr>
  </property>
  <property fmtid="{D5CDD505-2E9C-101B-9397-08002B2CF9AE}" pid="6" name="_ReviewingToolsShownOnce">
    <vt:lpwstr/>
  </property>
</Properties>
</file>