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CB585-1606-45A0-A3C8-C974D1ED085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C044CE53-2D73-4D18-A9DD-ECA9E5F6A82C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26T16:08:40Z</dcterms:modified>
  <cp:revision>45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32580840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 Profile 12 - Flux Site 5</vt:lpwstr>
  </property>
  <property fmtid="{D5CDD505-2E9C-101B-9397-08002B2CF9AE}" pid="6" name="_ReviewingToolsShownOnce">
    <vt:lpwstr/>
  </property>
</Properties>
</file>