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1F55-7878-415B-80ED-7A266D3EC41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0A520471-C5E8-457B-98CC-047BFF75AB5F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6:19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9 - Flux Site 9</vt:lpwstr>
  </property>
  <property fmtid="{D5CDD505-2E9C-101B-9397-08002B2CF9AE}" pid="6" name="_ReviewingToolsShownOnce">
    <vt:lpwstr/>
  </property>
</Properties>
</file>