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D68E-33E7-432B-B38C-34BA5D635B2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4, Flux Site #3 – Sage + Grass site, DOY 130 to 180, 2002.  Soil temperature data measured by CS107 prob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60013832-6388-47D2-BFB5-4BC88EFF6A7D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1:11Z</dcterms:modified>
  <cp:revision>43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89149716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4</vt:lpwstr>
  </property>
  <property fmtid="{D5CDD505-2E9C-101B-9397-08002B2CF9AE}" pid="6" name="_ReviewingToolsShownOnce">
    <vt:lpwstr/>
  </property>
</Properties>
</file>