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C378-40DC-4516-B61A-248197C87D3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9B411704-85AA-4040-B6B0-1759D0E4A9B2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5:01Z</dcterms:modified>
  <cp:revision>4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6727989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8 - Flux Site 9</vt:lpwstr>
  </property>
  <property fmtid="{D5CDD505-2E9C-101B-9397-08002B2CF9AE}" pid="6" name="_ReviewingToolsShownOnce">
    <vt:lpwstr/>
  </property>
</Properties>
</file>