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0EAC-0106-46D1-9FB5-E48102B835D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88418BB8-006A-4EC1-90EA-F1FD617017DA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32:44Z</dcterms:modified>
  <cp:revision>44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66506422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9</vt:lpwstr>
  </property>
  <property fmtid="{D5CDD505-2E9C-101B-9397-08002B2CF9AE}" pid="6" name="_ReviewingToolsShownOnce">
    <vt:lpwstr/>
  </property>
</Properties>
</file>