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2ACF-E647-4421-9866-322CAA56255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9E81E22-AA4C-4601-AE67-961680E44B6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1:15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2</vt:lpwstr>
  </property>
  <property fmtid="{D5CDD505-2E9C-101B-9397-08002B2CF9AE}" pid="6" name="_ReviewingToolsShownOnce">
    <vt:lpwstr/>
  </property>
</Properties>
</file>