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213E-EC02-47CD-BD8B-735EC417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93B6-DF46-42B2-98C0-1F844661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83A0-BFDC-4FC6-8A7A-26643B74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6F14-7F79-4775-BC5E-54F08A72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2CDC-2A35-4B85-8E18-5484348D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55B5-56F8-4202-86AA-757E281E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A3FE-43E0-42DE-ACF6-38C1DF5F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7EDF-D6D6-4AB6-A4D7-5125F0F6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4D4E-B526-4149-8EDF-769607BC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66C7-0D1E-4117-B31B-65CF8E74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AF5F-525B-426D-BEA3-9F4A2E7F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52B-BB02-4321-AC69-B15FFB29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198B-1B5F-4EC4-A492-F79BC41FA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view of WRFSI Upgrades and Enhancement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June 2002-June 200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 Smart, Brent Shaw, Paula McCaslin and Brian Jam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AA/FS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ement of Work  - FY0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Add remaining land state fields to WRFSI including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Max snow albedo: fractional discontinuous 1deg global (Feb/March 2003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- Terrain slope categories: 1 deg global (March 2003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- Max/min greenness fraction: computed from existing global .144 deg 12 month greenness fraction (April 2003)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1000" y="1371600"/>
            <a:ext cx="802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Coordinate with NCEP/NCAR/AFWA to add model background  land states for consistent soil moisture, ground temp, frozen soil, etc. (Spring 2003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 Further develop GUI for initial software relea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June 2003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 Enhance "ease of use" capabilities (Oct 2002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 Develop nesting capability (in progres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 Evaluate MODIS data as optional global land use data set (Summer 2003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 Prepare software tarfile for June 2003 tutorial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ding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WA (100K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AA  ( 75K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A     ( 25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23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7600" y="5713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e beta-release software tarfile for initial Noah 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22360" y="217152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Prepare remaining land states data for ingest by gridgen model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Develop gridgen model software to ingest remaining land states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Add new land states to hinterp (pass through to WRF-LS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Develop GUI; installation procedure; platform porting; graphics; and so fo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New tarfile is now released with all enhanc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www.wrf-model.org/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Add other land states (SST climatolog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Make localization software more efficient (parall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Enhancements to GU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dd wrf.nl ed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dditional graphics: display SI meteor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dd analysis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mart</cp:lastModifiedBy>
  <dcterms:modified xsi:type="dcterms:W3CDTF">2003-06-18T13:35:49Z</dcterms:modified>
  <cp:revision>4</cp:revision>
  <dc:subject/>
  <dc:title>PowerPoint Presentation</dc:title>
</cp:coreProperties>
</file>