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5AB-FC70-404B-AA63-4CF761BD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3E2-9057-44F0-8C8E-D2AB63E0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D31-E9EF-4CDC-B175-DAFC4B62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ED7-F2FD-43D1-8EFC-B8EDC704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0DB-3483-4646-89FC-C502673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E21-B0A3-453D-871B-16C77EA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A99-2D51-4714-B2C3-8B83CBB8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E6F-14FB-4E43-801F-09B587BE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DB0-F407-44DA-8EF6-80570CEA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64A-7557-432D-8F94-8C2E90B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FA3-0C6D-4E71-8209-859C304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5BF-B81B-4673-A030-5B7191C3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2D1-E938-436A-8A85-1B31987F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urrent and Future Initializ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RF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73720" y="2286000"/>
            <a:ext cx="19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EP/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564048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95840" y="5630760"/>
            <a:ext cx="130464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7120" y="5695920"/>
            <a:ext cx="924120" cy="9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9520" y="376704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F Land Working Group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8 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xpanding LSM-related content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 NCEP Eta/EDAS/NLDAS GRIB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and states at all soil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d liquid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and physical snow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use class and 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vegetation and soil parameter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est neighbor interpolation from native grid to chosen output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LSM Issues for WRF 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land-use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soil-class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external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flag for source of WRF land-use and soil class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=Default, False=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label indicating source of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EDAS, AGRMET, NLDAS, RUC, HR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Multiple GRIB tables employed in GRIB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GRIB Tables 2, 129 (cloud micro), 130 (land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How handle new GRIB grid nu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Eta output grid #’s 110, 218, 221 (drop 212 as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ation Requirements for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nified Noah LSM in NCEP Eta and WRF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gnostic 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moisture (liquid and frozen)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temperature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owpack: actual and water-equivalen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py water content: intercepted precip, d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Surfac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-use class (e.g vegetation, ur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phenology (seasonal cycle of green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and soil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WRF or Eta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a or WRF model has its 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ly cycled data assimilation system with 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SM physics, soil layers, grid, terrain, land mask, fixed fields of land use and soil class,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pled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DA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GD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land surface forcing from parent atmosphere model (may include precipitation assimi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coupled (NLDAS/GLDA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cipitation and solar insolation forcing are from non-mode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alternative when continuous cycling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F or Eta executed on a domain different from cycled WRF or Eta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 runs as coarser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ra high resolution: dispers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meso model runs: field offices, lab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land states, land-use map, soil map, parameters from most-similar fully cycled land data assimilation syst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SM, same soi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arest neighbor interpolation to obtain land states, land-use map, soil class map and apply same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ptchart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56272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4343400"/>
            <a:ext cx="70102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recast period between the analysis steps of the 12h pre-forecast data assimilation period, at each time step and at each point where observed precipitation is available, we comp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modify the model’s temperature, moisture, cloud and rain field to be more consistent with observed precipi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AS: Eta/Noah, 12-k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precip assimi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676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forecast data assimilation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 forecas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ta_rean_3245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67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80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86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88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93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00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04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116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121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126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128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134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140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ources of Noah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2-km Eta/Noah (4 soil layers: 10, 30, 60, 10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AS: 1-deg GFS/OSU (2 soil layers: 10, 19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: 1948- 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I: 1979-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gional Re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979-2004 (EDAS: 32-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upled cycled LDAS: Realtime parall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. American Land Data Assimila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8-deg, CONUS grid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DAS: Global Land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-deg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 spearhe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ing 8-km WRF/Noah run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12-km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s same Noah LSM as 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 same Noah LSM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States from nearest neighbor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-class and soil class from nearest neigh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temperature profile adjusted for terrain height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soil moisture adjusted if soil temperature adj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8-km NLDAS executing on WRF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0:48:51Z</dcterms:created>
  <dc:creator>M. EK</dc:creator>
  <dc:description/>
  <dc:language>en-US</dc:language>
  <cp:lastModifiedBy>kemitchell</cp:lastModifiedBy>
  <dcterms:modified xsi:type="dcterms:W3CDTF">2003-07-02T16:55:47Z</dcterms:modified>
  <cp:revision>10</cp:revision>
  <dc:subject/>
  <dc:title>PowerPoint Presentation</dc:title>
</cp:coreProperties>
</file>