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32.png" ContentType="image/png"/>
  <Override PartName="/ppt/media/image12.png" ContentType="image/png"/>
  <Override PartName="/ppt/media/image40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22.jpeg" ContentType="image/jpeg"/>
  <Override PartName="/ppt/media/image39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B610-67D8-4FA1-96B7-D51F7C89A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E86B-2DF7-45D5-9E95-E3929FC8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0DB2-2A33-4A5D-8DE1-FA7988775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7F44-1CFB-43DC-BB6F-0D8A7E6F3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20DFC-6190-4C99-8949-9B6590FC2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D57A-2227-4F91-ACA6-A790AF43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6610-1253-4EB7-AE83-293B8AAD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B2D1-33BB-413D-AF0A-222FC7B2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867B-AD25-44B5-A8E7-2E04A3A0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63FD-E284-47D7-ADCF-6C77D7F7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2920-50FD-4DAD-A3D4-B7BB8BD0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119A-1178-4311-AD92-06F182C4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14A7-6EF2-473D-99AF-6A0379B0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6595-8A1F-4370-8A59-A8FC2703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A629-110A-4B65-8F07-875A16CB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2AB0-69AA-4320-95B3-CD26B320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18FA-6E2D-48F8-B7F6-094786B58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58CA-2DC3-40C1-AC85-1FDB7537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A1A4-B7C4-4813-A9AC-26F73497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A8E4-D83A-45EA-8ED7-34D6DA33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4D44-035C-4E36-8101-5DFB68E5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E870-EB55-44EF-8B3E-5E04AABD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E142-CD5A-4F15-B6FF-AC7CAA51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6308-C4C4-495A-9BBF-48CB5F5A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0F23-B9DD-42CD-9855-19048CBC42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F82E-BBF0-47FE-A2D1-9D8CDAE24A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c.fsl.noaa.gov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zmoroz2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915400" cy="5937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2819520"/>
            <a:ext cx="891540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 Unicode MS"/>
              </a:rPr>
              <a:t>RUC Land Surface Model implementation in WRF</a:t>
            </a: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Tanya Smirnova, WRFLSM Workshop, 18 June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C21D-2BE0-4651-97E8-14056853BC3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0"/>
            <a:ext cx="8839440" cy="66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Physics options used in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WRFRUC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 at FS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NCEP 5-class microphysics scheme (option 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RRTM longwave radiation (option 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Dudhia shortwave radiation (option 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Mellor-Yamada-Janjic Monin-Obukhov surfac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yer (option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RUC land-surface model (option 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Mellor-Yamada-Janjic TKE scheme (option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Kain-Fritsch (for CONUS) and Betts-Miller 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njic (for TAQ) cumulus parameteriza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option 1, 2) as of May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1FDB-8424-432C-B7FD-07838C012A4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rucvgmdl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5943600" cy="4754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80880" y="586728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Schematic presentation of processes included into RUC-LSM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5562720"/>
            <a:ext cx="8915400" cy="1130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6 levels in soil – 0, 5, 20, 40, 160, 300 c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State variables -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volumetric soil moisture, soil temperature, snow  cover/depth/temperature  - cycled in </a:t>
            </a: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RUC 1h cycle since 1997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15200" y="205740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81FC-64DA-4D77-AE0E-CD57CC0AB44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6440" y="3189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04920"/>
            <a:ext cx="914400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RFRUC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 initialization needed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s to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WRF S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Brent Shaw) –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f native RUC vertical coordinate rather tha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obaric levels to provide initial fields of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mospheric variables including hydrometeor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vapor, cloud, ice, rain, snow, graup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4648320"/>
            <a:ext cx="870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most recent official release of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WRF S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includes all these ch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4BE5-0C40-4B12-B03D-CAF0860C262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228600"/>
            <a:ext cx="9144000" cy="62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RE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hanges for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WRFRUC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 initialization</a:t>
            </a: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s to </a:t>
            </a: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REAL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Dave Gill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ommodate for level structure in RUC soil domai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ss through hydrometeor fiel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Further changes needed to pass through from SI to WRF model other land-surface related variables such as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 fields for snow temperatu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now dens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ter vapor mixing ratio at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quid volumetric soil moisture and oth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C601-E232-4D6E-B6C9-9132D91C9C7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2280" y="304920"/>
            <a:ext cx="8763120" cy="71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WRFRUC LSM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s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il and vegetation parameters, vegetation    fraction and albedo provided by 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WRF S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ycled soil temperature and moisture from RUC20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(RUC and WRFRUC use the same LSM, land-use and soil classifications, and the same parameter tabl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ycled snow depth and temperature from RUC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ce in soil is initialized in WR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mospheric forcing is provided by WRF. Still need from WRF modeling framewor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precipitation type (solid versus liqui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tion in surface driver for implicit solution of energy and moisture bud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E61A-D4E8-426B-9665-20B1976CEC9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ruc20_vegtyp" descr=""/>
          <p:cNvPicPr/>
          <p:nvPr/>
        </p:nvPicPr>
        <p:blipFill>
          <a:blip r:embed="rId1"/>
          <a:srcRect l="50007" t="21752" r="2631" b="33770"/>
          <a:stretch/>
        </p:blipFill>
        <p:spPr>
          <a:xfrm>
            <a:off x="0" y="685800"/>
            <a:ext cx="4495680" cy="3890880"/>
          </a:xfrm>
          <a:prstGeom prst="rect">
            <a:avLst/>
          </a:prstGeom>
          <a:ln w="0">
            <a:noFill/>
          </a:ln>
        </p:spPr>
      </p:pic>
      <p:pic>
        <p:nvPicPr>
          <p:cNvPr id="136" name="wrf10_vegtyp" descr=""/>
          <p:cNvPicPr/>
          <p:nvPr/>
        </p:nvPicPr>
        <p:blipFill>
          <a:blip r:embed="rId2"/>
          <a:srcRect l="1890" t="0" r="3662" b="0"/>
          <a:stretch/>
        </p:blipFill>
        <p:spPr>
          <a:xfrm>
            <a:off x="4575240" y="1676520"/>
            <a:ext cx="4568760" cy="51814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501800" y="179280"/>
            <a:ext cx="426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Vegetation types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 –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th provided by WRF S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(24 USGS class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46600" y="380988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C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63680" y="541008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F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7080" y="4800600"/>
            <a:ext cx="383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nd-use paramet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ughness leng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iss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t coeffic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1756-539D-4693-83D7-49D23E6E9D9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ruc20_soiltex" descr=""/>
          <p:cNvPicPr/>
          <p:nvPr/>
        </p:nvPicPr>
        <p:blipFill>
          <a:blip r:embed="rId1"/>
          <a:srcRect l="49104" t="0" r="0" b="38492"/>
          <a:stretch/>
        </p:blipFill>
        <p:spPr>
          <a:xfrm>
            <a:off x="152280" y="228600"/>
            <a:ext cx="4303800" cy="4724280"/>
          </a:xfrm>
          <a:prstGeom prst="rect">
            <a:avLst/>
          </a:prstGeom>
          <a:ln w="0">
            <a:noFill/>
          </a:ln>
        </p:spPr>
      </p:pic>
      <p:pic>
        <p:nvPicPr>
          <p:cNvPr id="142" name="wrf10_soiltex" descr=""/>
          <p:cNvPicPr/>
          <p:nvPr/>
        </p:nvPicPr>
        <p:blipFill>
          <a:blip r:embed="rId2"/>
          <a:srcRect l="2822" t="0" r="3814" b="0"/>
          <a:stretch/>
        </p:blipFill>
        <p:spPr>
          <a:xfrm>
            <a:off x="4648320" y="1752480"/>
            <a:ext cx="4303440" cy="51055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641680" y="396252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RUC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08240" y="533412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WRF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1280" y="84240"/>
            <a:ext cx="4362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Soil types –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both provided by WRF 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(16 class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2920" y="5410080"/>
            <a:ext cx="307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il parameters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k-up 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1261-8B71-45A1-8C9D-A6EF757296A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ruc20_smc_17june" descr=""/>
          <p:cNvPicPr/>
          <p:nvPr/>
        </p:nvPicPr>
        <p:blipFill>
          <a:blip r:embed="rId1"/>
          <a:srcRect l="50050" t="0" r="0" b="40599"/>
          <a:stretch/>
        </p:blipFill>
        <p:spPr>
          <a:xfrm>
            <a:off x="93600" y="152280"/>
            <a:ext cx="4378320" cy="4953240"/>
          </a:xfrm>
          <a:prstGeom prst="rect">
            <a:avLst/>
          </a:prstGeom>
          <a:ln w="0">
            <a:noFill/>
          </a:ln>
        </p:spPr>
      </p:pic>
      <p:pic>
        <p:nvPicPr>
          <p:cNvPr id="148" name="wrf10_smc_17june" descr=""/>
          <p:cNvPicPr/>
          <p:nvPr/>
        </p:nvPicPr>
        <p:blipFill>
          <a:blip r:embed="rId2"/>
          <a:stretch/>
        </p:blipFill>
        <p:spPr>
          <a:xfrm>
            <a:off x="4533840" y="1533600"/>
            <a:ext cx="4610160" cy="5324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587480" y="0"/>
            <a:ext cx="431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Soil moisture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lid 0000 U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 June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22920" y="449568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C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84200" y="533412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F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A1DC-1D8F-4DB4-8E32-F5F3F71927A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taq-wrf-topo" descr=""/>
          <p:cNvPicPr/>
          <p:nvPr/>
        </p:nvPicPr>
        <p:blipFill>
          <a:blip r:embed="rId1"/>
          <a:srcRect l="8913" t="10331" r="7496" b="4661"/>
          <a:stretch/>
        </p:blipFill>
        <p:spPr>
          <a:xfrm>
            <a:off x="3738600" y="0"/>
            <a:ext cx="5172120" cy="5257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92160" y="457200"/>
            <a:ext cx="1995480" cy="2286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rr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e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d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Q dom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20kmtopo" descr=""/>
          <p:cNvPicPr/>
          <p:nvPr/>
        </p:nvPicPr>
        <p:blipFill>
          <a:blip r:embed="rId2"/>
          <a:srcRect l="4399" t="15602" r="3598" b="9199"/>
          <a:stretch/>
        </p:blipFill>
        <p:spPr>
          <a:xfrm>
            <a:off x="0" y="2706840"/>
            <a:ext cx="4800600" cy="3924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03400" y="563868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C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B737-281A-4B72-A9B5-837AE23C1C7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ruc20_sfctem_17june" descr=""/>
          <p:cNvPicPr/>
          <p:nvPr/>
        </p:nvPicPr>
        <p:blipFill>
          <a:blip r:embed="rId1"/>
          <a:srcRect l="55362" t="15965" r="2677" b="39907"/>
          <a:stretch/>
        </p:blipFill>
        <p:spPr>
          <a:xfrm>
            <a:off x="228600" y="83808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157" name="wrf20_sfctgem_17june" descr=""/>
          <p:cNvPicPr/>
          <p:nvPr/>
        </p:nvPicPr>
        <p:blipFill>
          <a:blip r:embed="rId2"/>
          <a:stretch/>
        </p:blipFill>
        <p:spPr>
          <a:xfrm>
            <a:off x="4267080" y="1295280"/>
            <a:ext cx="4676760" cy="5400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229280" y="160200"/>
            <a:ext cx="4257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Surface temperatu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000 UTC, 17 June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22720" y="502920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RUC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905120" y="4800240"/>
            <a:ext cx="0" cy="30492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7C01-5835-4B3B-9EC1-00E43366B25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soil_atm2" descr=""/>
          <p:cNvPicPr/>
          <p:nvPr/>
        </p:nvPicPr>
        <p:blipFill>
          <a:blip r:embed="rId1"/>
          <a:srcRect l="16218" t="0" r="0" b="0"/>
          <a:stretch/>
        </p:blipFill>
        <p:spPr>
          <a:xfrm>
            <a:off x="457200" y="609480"/>
            <a:ext cx="8381880" cy="5340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62120" y="83808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Unicode MS"/>
              </a:rPr>
              <a:t>Part 1:  Current and Future </a:t>
            </a:r>
            <a:r>
              <a:rPr b="0" lang="en-US" sz="4000" spc="-1" strike="noStrike">
                <a:solidFill>
                  <a:srgbClr val="cc0000"/>
                </a:solidFill>
                <a:latin typeface="Arial Unicode MS"/>
              </a:rPr>
              <a:t>	</a:t>
            </a:r>
            <a:r>
              <a:rPr b="0" lang="en-US" sz="4000" spc="-1" strike="noStrike">
                <a:solidFill>
                  <a:srgbClr val="cc0000"/>
                </a:solidFill>
                <a:latin typeface="Arial Unicode MS"/>
              </a:rPr>
              <a:t> </a:t>
            </a:r>
            <a:r>
              <a:rPr b="0" lang="en-US" sz="4000" spc="-1" strike="noStrike">
                <a:solidFill>
                  <a:srgbClr val="cc0000"/>
                </a:solidFill>
                <a:latin typeface="Arial Unicode MS"/>
              </a:rPr>
              <a:t>	</a:t>
            </a:r>
            <a:r>
              <a:rPr b="0" lang="en-US" sz="4000" spc="-1" strike="noStrike">
                <a:solidFill>
                  <a:srgbClr val="cc0000"/>
                </a:solidFill>
                <a:latin typeface="Arial Unicode MS"/>
              </a:rPr>
              <a:t>	</a:t>
            </a:r>
            <a:r>
              <a:rPr b="0" lang="en-US" sz="4000" spc="-1" strike="noStrike">
                <a:solidFill>
                  <a:srgbClr val="cc0000"/>
                </a:solidFill>
                <a:latin typeface="Arial Unicode MS"/>
              </a:rPr>
              <a:t>	</a:t>
            </a:r>
            <a:r>
              <a:rPr b="0" lang="en-US" sz="4000" spc="-1" strike="noStrike">
                <a:solidFill>
                  <a:srgbClr val="cc0000"/>
                </a:solidFill>
                <a:latin typeface="Arial Unicode MS"/>
              </a:rPr>
              <a:t>Initialization of WRF </a:t>
            </a:r>
            <a:r>
              <a:rPr b="0" lang="en-US" sz="4000" spc="-1" strike="noStrike">
                <a:solidFill>
                  <a:srgbClr val="cc0000"/>
                </a:solidFill>
                <a:latin typeface="Arial Unicode MS"/>
              </a:rPr>
              <a:t>	</a:t>
            </a:r>
            <a:r>
              <a:rPr b="0" lang="en-US" sz="4000" spc="-1" strike="noStrike">
                <a:solidFill>
                  <a:srgbClr val="cc0000"/>
                </a:solidFill>
                <a:latin typeface="Arial Unicode MS"/>
              </a:rPr>
              <a:t>	</a:t>
            </a:r>
            <a:r>
              <a:rPr b="0" lang="en-US" sz="4000" spc="-1" strike="noStrike">
                <a:solidFill>
                  <a:srgbClr val="cc0000"/>
                </a:solidFill>
                <a:latin typeface="Arial Unicode MS"/>
              </a:rPr>
              <a:t>	</a:t>
            </a:r>
            <a:r>
              <a:rPr b="0" lang="en-US" sz="4000" spc="-1" strike="noStrike">
                <a:solidFill>
                  <a:srgbClr val="cc0000"/>
                </a:solidFill>
                <a:latin typeface="Arial Unicode MS"/>
              </a:rPr>
              <a:t>Land States at FS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D4BB-31AD-4FE8-BB00-D1E6151BC09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soil_atm3" descr=""/>
          <p:cNvPicPr/>
          <p:nvPr/>
        </p:nvPicPr>
        <p:blipFill>
          <a:blip r:embed="rId1"/>
          <a:srcRect l="0" t="0" r="27046" b="0"/>
          <a:stretch/>
        </p:blipFill>
        <p:spPr>
          <a:xfrm>
            <a:off x="457200" y="304920"/>
            <a:ext cx="8381880" cy="6134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508040" y="2952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99072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Unicode MS"/>
              </a:rPr>
              <a:t>Part 2:  Evaluation of LSM </a:t>
            </a:r>
            <a:r>
              <a:rPr b="0" lang="en-US" sz="4000" spc="-1" strike="noStrike">
                <a:solidFill>
                  <a:srgbClr val="ff3300"/>
                </a:solidFill>
                <a:latin typeface="Arial Unicode MS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Arial Unicode MS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Arial Unicode MS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Arial Unicode MS"/>
              </a:rPr>
              <a:t>performan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4799-270A-4431-BDD7-4709E769390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228600"/>
            <a:ext cx="9144000" cy="65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C LSM participated 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99ff99"/>
                </a:solidFill>
                <a:latin typeface="Tahoma"/>
              </a:rPr>
              <a:t>Project for the Intercomparison of Land-Surface  </a:t>
            </a:r>
            <a:r>
              <a:rPr b="0" lang="en-US" sz="2400" spc="-1" strike="noStrike">
                <a:solidFill>
                  <a:srgbClr val="99ff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99ff99"/>
                </a:solidFill>
                <a:latin typeface="Tahoma"/>
              </a:rPr>
              <a:t>Parameterization Schemes </a:t>
            </a:r>
            <a:r>
              <a:rPr b="0" lang="en-US" sz="2400" spc="-1" strike="noStrike">
                <a:solidFill>
                  <a:srgbClr val="ffccff"/>
                </a:solidFill>
                <a:latin typeface="Tahoma"/>
              </a:rPr>
              <a:t>(PILPS)</a:t>
            </a:r>
            <a:r>
              <a:rPr b="0" lang="en-US" sz="2400" spc="-1" strike="noStrike">
                <a:solidFill>
                  <a:srgbClr val="99ff99"/>
                </a:solidFill>
                <a:latin typeface="Tahoma"/>
              </a:rPr>
              <a:t> - Phase 2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Snow Models Intercomparison Project </a:t>
            </a:r>
            <a:r>
              <a:rPr b="0" lang="en-US" sz="2400" spc="-1" strike="noStrike">
                <a:solidFill>
                  <a:srgbClr val="ffccff"/>
                </a:solidFill>
                <a:latin typeface="Tahoma"/>
              </a:rPr>
              <a:t>(SNOWMIP)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 – Phase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C LSM is implemented 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Operational </a:t>
            </a:r>
            <a:r>
              <a:rPr b="0" lang="en-US" sz="2400" spc="-1" strike="noStrike">
                <a:solidFill>
                  <a:srgbClr val="66ff66"/>
                </a:solidFill>
                <a:latin typeface="Tahoma"/>
              </a:rPr>
              <a:t>RUC20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at NC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Real-time </a:t>
            </a:r>
            <a:r>
              <a:rPr b="0" lang="en-US" sz="2400" spc="-1" strike="noStrike">
                <a:solidFill>
                  <a:srgbClr val="66ff66"/>
                </a:solidFill>
                <a:latin typeface="Tahoma"/>
              </a:rPr>
              <a:t>RUC20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at FSL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CD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66ff66"/>
                </a:solidFill>
                <a:latin typeface="Tahoma"/>
              </a:rPr>
              <a:t>MM5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hemistry package (Georg Grell) used f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- air quality predi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- regional climate simulations (FSL, Germany, Israel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66ff66"/>
                </a:solidFill>
                <a:latin typeface="Tahoma"/>
              </a:rPr>
              <a:t>WRF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204D-4844-4761-B9B0-3E39EE58DEF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roved 1-d (PILPS 2d – Valdai, Russia)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otal runoff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snow water equivalen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ecasts with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improved snow and soil physic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MAPS land-surface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1400" y="3516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5800" y="129528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tal runo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7000" y="3962520"/>
            <a:ext cx="29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now water equival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swevald_76-77" descr=""/>
          <p:cNvPicPr/>
          <p:nvPr/>
        </p:nvPicPr>
        <p:blipFill>
          <a:blip r:embed="rId1"/>
          <a:stretch/>
        </p:blipFill>
        <p:spPr>
          <a:xfrm>
            <a:off x="0" y="4432320"/>
            <a:ext cx="4876920" cy="2244600"/>
          </a:xfrm>
          <a:prstGeom prst="rect">
            <a:avLst/>
          </a:prstGeom>
          <a:ln w="0">
            <a:noFill/>
          </a:ln>
        </p:spPr>
      </p:pic>
      <p:pic>
        <p:nvPicPr>
          <p:cNvPr id="170" name="rffvald_76-77" descr=""/>
          <p:cNvPicPr/>
          <p:nvPr/>
        </p:nvPicPr>
        <p:blipFill>
          <a:blip r:embed="rId2"/>
          <a:stretch/>
        </p:blipFill>
        <p:spPr>
          <a:xfrm>
            <a:off x="0" y="1782720"/>
            <a:ext cx="4876920" cy="2257560"/>
          </a:xfrm>
          <a:prstGeom prst="rect">
            <a:avLst/>
          </a:prstGeom>
          <a:ln w="0">
            <a:noFill/>
          </a:ln>
        </p:spPr>
      </p:pic>
      <p:pic>
        <p:nvPicPr>
          <p:cNvPr id="171" name="tsfcvald_76-77" descr=""/>
          <p:cNvPicPr/>
          <p:nvPr/>
        </p:nvPicPr>
        <p:blipFill>
          <a:blip r:embed="rId3"/>
          <a:stretch/>
        </p:blipFill>
        <p:spPr>
          <a:xfrm>
            <a:off x="4572000" y="3505320"/>
            <a:ext cx="4572000" cy="2124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712840" y="297180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kin temp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29920" y="1828800"/>
            <a:ext cx="37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vember 1976 - May 197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4F9C-2B09-4925-97ED-73A586B0253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valdai_melt" descr=""/>
          <p:cNvPicPr/>
          <p:nvPr/>
        </p:nvPicPr>
        <p:blipFill>
          <a:blip r:embed="rId1"/>
          <a:srcRect l="0" t="32477" r="0" b="0"/>
          <a:stretch/>
        </p:blipFill>
        <p:spPr>
          <a:xfrm>
            <a:off x="457200" y="1143000"/>
            <a:ext cx="5257800" cy="5033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57200" y="152280"/>
            <a:ext cx="8381880" cy="825480"/>
          </a:xfrm>
          <a:prstGeom prst="rect">
            <a:avLst/>
          </a:prstGeom>
          <a:noFill/>
          <a:ln w="381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Effects of frozen soil physics on the simulation of the melting seasons,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aldai, Russia (1966-198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27760" y="1717560"/>
            <a:ext cx="321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es when snow ablation sta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43600" y="4343400"/>
            <a:ext cx="29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es when snow pack is all mel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62485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(Smirnova et al., JGR (2000),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105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, 4077-408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F81D-E540-4489-A2DA-0191C5E88D6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fig_snowmip_paper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47000" cy="47689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17000" y="228600"/>
            <a:ext cx="87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NOWMIP, an intercomparison of snow models: first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. Etchevers, E. Martin, R. Brown et 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SW meeting, August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114800" y="5105160"/>
            <a:ext cx="0" cy="5331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38480" y="3886200"/>
            <a:ext cx="228600" cy="83808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28A9-F969-48F1-A57F-28446B2C00E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snd_RUC_NCEP_00" descr=""/>
          <p:cNvPicPr/>
          <p:nvPr/>
        </p:nvPicPr>
        <p:blipFill>
          <a:blip r:embed="rId1"/>
          <a:srcRect l="0" t="0" r="0" b="29901"/>
          <a:stretch/>
        </p:blipFill>
        <p:spPr>
          <a:xfrm>
            <a:off x="3962520" y="3200400"/>
            <a:ext cx="5181480" cy="3454560"/>
          </a:xfrm>
          <a:prstGeom prst="rect">
            <a:avLst/>
          </a:prstGeom>
          <a:ln w="0">
            <a:noFill/>
          </a:ln>
        </p:spPr>
      </p:pic>
      <p:pic>
        <p:nvPicPr>
          <p:cNvPr id="184" name="syn_snow_ste_03008new" descr=""/>
          <p:cNvPicPr/>
          <p:nvPr/>
        </p:nvPicPr>
        <p:blipFill>
          <a:blip r:embed="rId2"/>
          <a:srcRect l="25915" t="44333" r="23792" b="7496"/>
          <a:stretch/>
        </p:blipFill>
        <p:spPr>
          <a:xfrm>
            <a:off x="304920" y="3657600"/>
            <a:ext cx="4190760" cy="3011400"/>
          </a:xfrm>
          <a:prstGeom prst="rect">
            <a:avLst/>
          </a:prstGeom>
          <a:ln w="0">
            <a:noFill/>
          </a:ln>
        </p:spPr>
      </p:pic>
      <p:pic>
        <p:nvPicPr>
          <p:cNvPr id="185" name="syn_snow_ste_03007)new" descr=""/>
          <p:cNvPicPr/>
          <p:nvPr/>
        </p:nvPicPr>
        <p:blipFill>
          <a:blip r:embed="rId3"/>
          <a:srcRect l="26624" t="45278" r="22372" b="7727"/>
          <a:stretch/>
        </p:blipFill>
        <p:spPr>
          <a:xfrm>
            <a:off x="380880" y="152280"/>
            <a:ext cx="4191120" cy="28958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25680" y="3200400"/>
            <a:ext cx="31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SDIS daily snow co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02280" y="2597040"/>
            <a:ext cx="194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7 January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78600" y="6178680"/>
            <a:ext cx="194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8 January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27680" y="533520"/>
            <a:ext cx="3946680" cy="210600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Cycled field of snow dep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from operational RUC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t NC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Tahoma"/>
              </a:rPr>
              <a:t>Valid at 2100 UT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Tahoma"/>
              </a:rPr>
              <a:t>8 January 2003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56960" y="6095880"/>
            <a:ext cx="194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8 January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1005-B836-4AC0-B5A5-90933FD7EBE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rad_us-12" descr=""/>
          <p:cNvPicPr/>
          <p:nvPr/>
        </p:nvPicPr>
        <p:blipFill>
          <a:blip r:embed="rId1"/>
          <a:srcRect l="48469" t="18636" r="0" b="13379"/>
          <a:stretch/>
        </p:blipFill>
        <p:spPr>
          <a:xfrm>
            <a:off x="2514600" y="3429000"/>
            <a:ext cx="3597120" cy="3429000"/>
          </a:xfrm>
          <a:prstGeom prst="rect">
            <a:avLst/>
          </a:prstGeom>
          <a:ln w="0">
            <a:noFill/>
          </a:ln>
        </p:spPr>
      </p:pic>
      <p:pic>
        <p:nvPicPr>
          <p:cNvPr id="192" name="ruc-12h_pcpn" descr=""/>
          <p:cNvPicPr/>
          <p:nvPr/>
        </p:nvPicPr>
        <p:blipFill>
          <a:blip r:embed="rId2"/>
          <a:srcRect l="3790" t="0" r="14800" b="0"/>
          <a:stretch/>
        </p:blipFill>
        <p:spPr>
          <a:xfrm>
            <a:off x="0" y="152280"/>
            <a:ext cx="3276720" cy="4648320"/>
          </a:xfrm>
          <a:prstGeom prst="rect">
            <a:avLst/>
          </a:prstGeom>
          <a:ln w="0">
            <a:noFill/>
          </a:ln>
        </p:spPr>
      </p:pic>
      <p:pic>
        <p:nvPicPr>
          <p:cNvPr id="193" name="wrfruc-12h_pcpn" descr=""/>
          <p:cNvPicPr/>
          <p:nvPr/>
        </p:nvPicPr>
        <p:blipFill>
          <a:blip r:embed="rId3"/>
          <a:srcRect l="2326" t="0" r="13827" b="0"/>
          <a:stretch/>
        </p:blipFill>
        <p:spPr>
          <a:xfrm>
            <a:off x="5715000" y="152280"/>
            <a:ext cx="342900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930720" y="838080"/>
            <a:ext cx="10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WR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22840" y="762120"/>
            <a:ext cx="98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RU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228600"/>
            <a:ext cx="1981080" cy="308016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-h foreca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l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00 U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9 Januar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C52D-B462-4760-8A1F-63128DABDA2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ruc20_anal_18z" descr=""/>
          <p:cNvPicPr/>
          <p:nvPr/>
        </p:nvPicPr>
        <p:blipFill>
          <a:blip r:embed="rId1"/>
          <a:srcRect l="58346" t="16166" r="4697" b="39958"/>
          <a:stretch/>
        </p:blipFill>
        <p:spPr>
          <a:xfrm>
            <a:off x="3124080" y="3200400"/>
            <a:ext cx="2970360" cy="3352680"/>
          </a:xfrm>
          <a:prstGeom prst="rect">
            <a:avLst/>
          </a:prstGeom>
          <a:ln w="0">
            <a:noFill/>
          </a:ln>
        </p:spPr>
      </p:pic>
      <p:pic>
        <p:nvPicPr>
          <p:cNvPr id="198" name="ruc_18" descr=""/>
          <p:cNvPicPr/>
          <p:nvPr/>
        </p:nvPicPr>
        <p:blipFill>
          <a:blip r:embed="rId2"/>
          <a:srcRect l="3169" t="0" r="4950" b="1228"/>
          <a:stretch/>
        </p:blipFill>
        <p:spPr>
          <a:xfrm>
            <a:off x="0" y="1523880"/>
            <a:ext cx="3500280" cy="4343400"/>
          </a:xfrm>
          <a:prstGeom prst="rect">
            <a:avLst/>
          </a:prstGeom>
          <a:ln w="0">
            <a:noFill/>
          </a:ln>
        </p:spPr>
      </p:pic>
      <p:pic>
        <p:nvPicPr>
          <p:cNvPr id="199" name="wrfruc_temp_tl_18" descr=""/>
          <p:cNvPicPr/>
          <p:nvPr/>
        </p:nvPicPr>
        <p:blipFill>
          <a:blip r:embed="rId3"/>
          <a:srcRect l="2927" t="0" r="6313" b="1136"/>
          <a:stretch/>
        </p:blipFill>
        <p:spPr>
          <a:xfrm>
            <a:off x="5486400" y="1523880"/>
            <a:ext cx="3513240" cy="44197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546600" y="2971800"/>
            <a:ext cx="16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F-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5560" y="2895480"/>
            <a:ext cx="15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C-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216720" y="0"/>
            <a:ext cx="9590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8-h forecast of surface temperature from RUC and WR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RUC-20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800 UTC 29 January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87200" y="3733920"/>
            <a:ext cx="15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C-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6215-A5D3-4CC2-8C4C-648408A67F2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9320" y="6357960"/>
            <a:ext cx="82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http://www.etl.noaa.gov/programs/2002/taq/ver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15480" y="2133720"/>
            <a:ext cx="2318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rtford, 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 June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000 UTC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 June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000 U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79600" y="133200"/>
            <a:ext cx="330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tation ver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r TAQ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bdl0316000_met" descr=""/>
          <p:cNvPicPr/>
          <p:nvPr/>
        </p:nvPicPr>
        <p:blipFill>
          <a:blip r:embed="rId1"/>
          <a:srcRect l="2192" t="0" r="7502" b="0"/>
          <a:stretch/>
        </p:blipFill>
        <p:spPr>
          <a:xfrm>
            <a:off x="228600" y="152280"/>
            <a:ext cx="5643720" cy="624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FD2B-7E9E-4D1D-9830-6F4CFBF18D9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-239760" y="6400800"/>
            <a:ext cx="82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http://www.etl.noaa.gov/programs/2002/taq/ver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15480" y="2666880"/>
            <a:ext cx="2318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ston, 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 June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000 UTC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 June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000 U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943600" y="304920"/>
            <a:ext cx="32004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tation ver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r TAQ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bos0316000_met" descr=""/>
          <p:cNvPicPr/>
          <p:nvPr/>
        </p:nvPicPr>
        <p:blipFill>
          <a:blip r:embed="rId1"/>
          <a:srcRect l="2192" t="0" r="7502" b="0"/>
          <a:stretch/>
        </p:blipFill>
        <p:spPr>
          <a:xfrm>
            <a:off x="152280" y="152280"/>
            <a:ext cx="5715000" cy="632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0F99-DB21-4CD1-89BD-E3AFB5F70CE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1447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Goal for use of WRF in the Rapid Update Cycle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057400"/>
            <a:ext cx="8001000" cy="4899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06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WRF model in Rapid Update Cycle (or Rapid Refresh) application at NCE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step – test WRF model against current RUC hydrostatic model using common RUC initial cond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WRFRUC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WRF initialized with RUC-20 initial conditions, full-resolution nativ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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ordinate data, including 3-d hydrometeor, land-sfc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8B9C-5807-4B8A-A683-CBB13924FC3A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-87480" y="6400800"/>
            <a:ext cx="82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http://www.etl.noaa.gov/programs/2002/taq/ver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75800" y="2514600"/>
            <a:ext cx="2623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cester, 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 June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000 UTC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 June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000 U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3600" y="609480"/>
            <a:ext cx="32004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tation ver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r TAQ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orh0316000_met" descr=""/>
          <p:cNvPicPr/>
          <p:nvPr/>
        </p:nvPicPr>
        <p:blipFill>
          <a:blip r:embed="rId1"/>
          <a:srcRect l="2192" t="0" r="7502" b="0"/>
          <a:stretch/>
        </p:blipFill>
        <p:spPr>
          <a:xfrm>
            <a:off x="152280" y="152280"/>
            <a:ext cx="5641920" cy="624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184C-BF58-4F71-9237-54B6536514F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1523880" y="2362320"/>
          <a:ext cx="6019920" cy="3622680"/>
        </p:xfrm>
        <a:graphic>
          <a:graphicData uri="http://schemas.openxmlformats.org/drawingml/2006/table">
            <a:tbl>
              <a:tblPr/>
              <a:tblGrid>
                <a:gridCol w="2895840"/>
                <a:gridCol w="1218960"/>
                <a:gridCol w="1905120"/>
              </a:tblGrid>
              <a:tr h="5205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ari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U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WRFRU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ind spd – s.d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ind spd bi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mp –s.d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mp – bias-00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.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wpoint – s.d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wpoint – bi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0.6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3.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43200" y="228600"/>
            <a:ext cx="9073440" cy="1556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2-h surface forecasts verified vs. METAR ob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 April – 11 June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RUC-20 vs. WRFRUC-20 – all METARs in dom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15F9-66D9-4200-BC28-BB9FF6A2BCDA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781680" y="768240"/>
            <a:ext cx="2210040" cy="4483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2-h winds aloft foreca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rified against rawinson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RUC-20 vs. WRFRUC-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wind-ruc-wrf-17apr-12jun03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6464520" cy="5573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ECEE-4FAC-4BA4-B3C1-D24E440FF87F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uc_10jun03" descr=""/>
          <p:cNvPicPr/>
          <p:nvPr/>
        </p:nvPicPr>
        <p:blipFill>
          <a:blip r:embed="rId1"/>
          <a:srcRect l="43684" t="23591" r="20334" b="31278"/>
          <a:stretch/>
        </p:blipFill>
        <p:spPr>
          <a:xfrm>
            <a:off x="152280" y="152280"/>
            <a:ext cx="3322800" cy="3962520"/>
          </a:xfrm>
          <a:prstGeom prst="rect">
            <a:avLst/>
          </a:prstGeom>
          <a:ln w="0">
            <a:noFill/>
          </a:ln>
        </p:spPr>
      </p:pic>
      <p:pic>
        <p:nvPicPr>
          <p:cNvPr id="221" name="wrf_10june2003" descr=""/>
          <p:cNvPicPr/>
          <p:nvPr/>
        </p:nvPicPr>
        <p:blipFill>
          <a:blip r:embed="rId2"/>
          <a:srcRect l="43154" t="21768" r="18882" b="31730"/>
          <a:stretch/>
        </p:blipFill>
        <p:spPr>
          <a:xfrm>
            <a:off x="5808600" y="0"/>
            <a:ext cx="3335400" cy="3886200"/>
          </a:xfrm>
          <a:prstGeom prst="rect">
            <a:avLst/>
          </a:prstGeom>
          <a:ln w="0">
            <a:noFill/>
          </a:ln>
        </p:spPr>
      </p:pic>
      <p:pic>
        <p:nvPicPr>
          <p:cNvPr id="222" name="rad_us_10jun03" descr=""/>
          <p:cNvPicPr/>
          <p:nvPr/>
        </p:nvPicPr>
        <p:blipFill>
          <a:blip r:embed="rId3"/>
          <a:srcRect l="39193" t="13949" r="18918" b="14839"/>
          <a:stretch/>
        </p:blipFill>
        <p:spPr>
          <a:xfrm>
            <a:off x="2819520" y="2971800"/>
            <a:ext cx="3163680" cy="38862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57200" y="4800600"/>
            <a:ext cx="1828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C-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Grell-Devenyi cumulu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30600" y="228600"/>
            <a:ext cx="231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FRUC-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KF cumulu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72200" y="4267080"/>
            <a:ext cx="297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21-h foreca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lid  2100 U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 June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76920" y="1219320"/>
            <a:ext cx="129528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762120" y="3886200"/>
            <a:ext cx="45720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7BA8-008F-4EBC-8C3D-E98E941200E5}" type="slidenum">
              <a:t>3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914400"/>
            <a:ext cx="8610840" cy="62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CAR mass-coordinate dynamic core - v.1.2.1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5 vertical sigma-p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tial conditions including </a:t>
            </a: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land states for WRFRU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ive coordinate data from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FSL RUC2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ycl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luding assimilation of observations  not yet used i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CEP operational RUC20 –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upled Data Assimilation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System (CDAS)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– available for outside users fr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the FSL ftp site in GRIB forma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teral boundary conditions from the same FSL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C20 48h forecas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C post-processing adapted to WRF output to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duce RUC look-alike GRIB outpu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1320" y="152280"/>
            <a:ext cx="65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WRFRUC model configu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4A58-251B-43C1-B3FC-BF50C1553AC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33280" y="228600"/>
            <a:ext cx="86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UC CDAS -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our-dimensional system (funded by GAPP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152280"/>
            <a:ext cx="8686800" cy="762120"/>
          </a:xfrm>
          <a:prstGeom prst="rect">
            <a:avLst/>
          </a:prstGeom>
          <a:noFill/>
          <a:ln w="381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762120"/>
            <a:ext cx="8626320" cy="61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Uses a forward full-physics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Cycles surface/soil fields depending on the RUC atmospheric forc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Cycles 5 hydrometor species : cloud, ice, rain, snow and graupel. Cloud clearing/building based on GOES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compared to RUC operational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Forecast length (48-hour forecasts with hourly outputs)</a:t>
            </a:r>
            <a:r>
              <a:rPr b="0" lang="en-US" sz="2000" spc="-1" strike="noStrike">
                <a:solidFill>
                  <a:srgbClr val="ffccff"/>
                </a:solidFill>
                <a:latin typeface="Times New Roman"/>
              </a:rPr>
              <a:t>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Assimilation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XRAD Radar reflectivity observ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PS precipitable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undary-layer profil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sonet observations collected at 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ain Goal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improve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1-h precipit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orcing and the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land surface model clim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20F9-0731-4731-8765-22908817B89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RUC20_oper_7may03" descr=""/>
          <p:cNvPicPr/>
          <p:nvPr/>
        </p:nvPicPr>
        <p:blipFill>
          <a:blip r:embed="rId1"/>
          <a:srcRect l="0" t="9719" r="0" b="7689"/>
          <a:stretch/>
        </p:blipFill>
        <p:spPr>
          <a:xfrm>
            <a:off x="152280" y="152280"/>
            <a:ext cx="3886200" cy="3210120"/>
          </a:xfrm>
          <a:prstGeom prst="rect">
            <a:avLst/>
          </a:prstGeom>
          <a:ln w="0">
            <a:noFill/>
          </a:ln>
        </p:spPr>
      </p:pic>
      <p:pic>
        <p:nvPicPr>
          <p:cNvPr id="102" name="RUC20_cdas_7may03" descr=""/>
          <p:cNvPicPr/>
          <p:nvPr/>
        </p:nvPicPr>
        <p:blipFill>
          <a:blip r:embed="rId2"/>
          <a:srcRect l="0" t="9719" r="0" b="7689"/>
          <a:stretch/>
        </p:blipFill>
        <p:spPr>
          <a:xfrm>
            <a:off x="152280" y="3495600"/>
            <a:ext cx="3886200" cy="3210120"/>
          </a:xfrm>
          <a:prstGeom prst="rect">
            <a:avLst/>
          </a:prstGeom>
          <a:ln w="0">
            <a:noFill/>
          </a:ln>
        </p:spPr>
      </p:pic>
      <p:pic>
        <p:nvPicPr>
          <p:cNvPr id="103" name="ST4_obs_7may03" descr=""/>
          <p:cNvPicPr/>
          <p:nvPr/>
        </p:nvPicPr>
        <p:blipFill>
          <a:blip r:embed="rId3"/>
          <a:srcRect l="0" t="9719" r="0" b="10119"/>
          <a:stretch/>
        </p:blipFill>
        <p:spPr>
          <a:xfrm>
            <a:off x="4191120" y="152280"/>
            <a:ext cx="4813200" cy="38577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30480" y="4572000"/>
            <a:ext cx="523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4-hour precipitation accum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ding at 1200 UTC 6 May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9800" y="2209680"/>
            <a:ext cx="164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UC Contr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1240" y="5638680"/>
            <a:ext cx="14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UC C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6760" y="3200400"/>
            <a:ext cx="18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tage IV Rainf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DAE2-CFA7-408F-8E8E-AC1049306D3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Xcorr_oper_7may03" descr=""/>
          <p:cNvPicPr/>
          <p:nvPr/>
        </p:nvPicPr>
        <p:blipFill>
          <a:blip r:embed="rId1"/>
          <a:srcRect l="12149" t="7289" r="12549" b="10119"/>
          <a:stretch/>
        </p:blipFill>
        <p:spPr>
          <a:xfrm>
            <a:off x="685800" y="152280"/>
            <a:ext cx="2987640" cy="3276720"/>
          </a:xfrm>
          <a:prstGeom prst="rect">
            <a:avLst/>
          </a:prstGeom>
          <a:ln w="0">
            <a:noFill/>
          </a:ln>
        </p:spPr>
      </p:pic>
      <p:pic>
        <p:nvPicPr>
          <p:cNvPr id="109" name="Xcorr_cdas_7may03" descr=""/>
          <p:cNvPicPr/>
          <p:nvPr/>
        </p:nvPicPr>
        <p:blipFill>
          <a:blip r:embed="rId2"/>
          <a:srcRect l="12149" t="7289" r="12549" b="10119"/>
          <a:stretch/>
        </p:blipFill>
        <p:spPr>
          <a:xfrm>
            <a:off x="685800" y="3429000"/>
            <a:ext cx="2987640" cy="3276720"/>
          </a:xfrm>
          <a:prstGeom prst="rect">
            <a:avLst/>
          </a:prstGeom>
          <a:ln w="0">
            <a:noFill/>
          </a:ln>
        </p:spPr>
      </p:pic>
      <p:pic>
        <p:nvPicPr>
          <p:cNvPr id="110" name="Acorr_7may03" descr=""/>
          <p:cNvPicPr/>
          <p:nvPr/>
        </p:nvPicPr>
        <p:blipFill>
          <a:blip r:embed="rId3"/>
          <a:srcRect l="12149" t="7289" r="12549" b="10119"/>
          <a:stretch/>
        </p:blipFill>
        <p:spPr>
          <a:xfrm>
            <a:off x="5410080" y="228600"/>
            <a:ext cx="3264120" cy="3581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038480" y="4572000"/>
            <a:ext cx="48895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atial Correlation fields of 24-h Accumulated Precipitation ending at 1200 UTC 6 May 2003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Dongsoo Ki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13960" y="5943600"/>
            <a:ext cx="164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C C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1200" y="266688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C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A149-1670-46FD-B6AA-1D3D87A1F20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3hfcst_sfctdm_west_dec-feb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5159520" cy="2441520"/>
          </a:xfrm>
          <a:prstGeom prst="rect">
            <a:avLst/>
          </a:prstGeom>
          <a:ln w="0">
            <a:noFill/>
          </a:ln>
        </p:spPr>
      </p:pic>
      <p:pic>
        <p:nvPicPr>
          <p:cNvPr id="115" name="3hfcst_sfctem_west_dec-feb" descr=""/>
          <p:cNvPicPr/>
          <p:nvPr/>
        </p:nvPicPr>
        <p:blipFill>
          <a:blip r:embed="rId2"/>
          <a:stretch/>
        </p:blipFill>
        <p:spPr>
          <a:xfrm>
            <a:off x="3581280" y="4114800"/>
            <a:ext cx="5329440" cy="25876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819160" y="2971800"/>
            <a:ext cx="14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stern 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55360" y="152280"/>
            <a:ext cx="7482240" cy="825480"/>
          </a:xfrm>
          <a:prstGeom prst="rect">
            <a:avLst/>
          </a:prstGeom>
          <a:solidFill>
            <a:srgbClr val="3333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urnal cycle of biases from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UC contro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UC CD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eraged for the period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1 December – 1 March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6560" y="108108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-m dew po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5480" y="3657600"/>
            <a:ext cx="202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-m tempera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360" y="6019920"/>
            <a:ext cx="14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stern 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D6B9-F7A0-4B96-B9BB-0CF45B3557D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380880"/>
            <a:ext cx="807732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Two WRFRUC systems run at FSL in real tim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FRUC with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10-k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horizontal resolution for the TAQ (Temperature and Air Quality)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48-hour forecasts twice a day (00 and 12     UTC, runs on JET since June 200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WRFRUC with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20-k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horizontal resolution 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US dom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24-hour forecasts twice a day (00 and 12  UTC, runs on JET since February 200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3120" y="6076800"/>
            <a:ext cx="6672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ff"/>
                </a:solidFill>
                <a:uFillTx/>
                <a:latin typeface="Tahoma"/>
                <a:hlinkClick r:id="rId1"/>
              </a:rPr>
              <a:t>http://ruc.fsl.noaa.gov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 - real-time fie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9A4D-5525-46BA-907D-CFF23188CC9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7T14:02:38Z</dcterms:created>
  <dc:creator>Stan Benjamin</dc:creator>
  <dc:description/>
  <dc:language>en-US</dc:language>
  <cp:lastModifiedBy>smirnova</cp:lastModifiedBy>
  <cp:lastPrinted>1999-08-30T20:10:40Z</cp:lastPrinted>
  <dcterms:modified xsi:type="dcterms:W3CDTF">2003-06-17T22:19:02Z</dcterms:modified>
  <cp:revision>246</cp:revision>
  <dc:subject/>
  <dc:title>Operational Use of the  Rapid Update Cycle</dc:title>
</cp:coreProperties>
</file>