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84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" name="shield" descr=""/>
          <p:cNvPicPr/>
          <p:nvPr/>
        </p:nvPicPr>
        <p:blipFill>
          <a:blip r:embed="rId2"/>
          <a:stretch/>
        </p:blipFill>
        <p:spPr>
          <a:xfrm>
            <a:off x="7991640" y="25560"/>
            <a:ext cx="966600" cy="895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98520" y="64864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entury Schoolbook"/>
              </a:rPr>
              <a:t>I n t e g r i t y  -  S e r v i c e  -  E x c e l l e n c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477120"/>
            <a:ext cx="83822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480" y="6548400"/>
            <a:ext cx="10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s of:  </a:t>
            </a:r>
            <a:fld id="{85EB1A76-53B4-44BA-BF65-177F8BA56F05}" type="datetime">
              <a:rPr b="0" lang="en-US" sz="10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77760"/>
            <a:ext cx="83822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AFShield" descr=""/>
          <p:cNvPicPr/>
          <p:nvPr/>
        </p:nvPicPr>
        <p:blipFill>
          <a:blip r:embed="rId3"/>
          <a:stretch/>
        </p:blipFill>
        <p:spPr>
          <a:xfrm>
            <a:off x="216000" y="25560"/>
            <a:ext cx="952560" cy="922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ir Force Weather Ag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1641600"/>
            <a:ext cx="853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WA 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n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120" y="4232160"/>
            <a:ext cx="8531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rge Gayno – AF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i Chen – N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n Mitchell and Mike Ek – NC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dnesday June 18, 2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0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3200" y="1574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GRMET – Agriculture Meteorology Model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obal land data assimilation syste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urly analyses at 48 km resolu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soil layers – 0-10, 10-40, 40-100, 100-200 c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atmospheric layer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lyzed fields include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il moisture (liquid/frozen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il temperatur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vapotranspir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and longwave radi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inuously cycl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ns “uncoupled” or “off-line.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oil hydrology physics are forced with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alys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elter height temperature, relative humidity and wind spe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and longwave radiation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cipit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7960" y="1819440"/>
            <a:ext cx="8531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ch work has been done to make AGRMET fields compatible with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s Noah soil hydrology physics (Ek et. al, 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vegetation type database (NCAR/USG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soil type database (STATSGO/FA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lower thermal boundary condition (ISLSC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greenness fraction database (Gutman and Ignato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nt Model Chang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1285920"/>
            <a:ext cx="85312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w lower thermal boundary condition file – 8/8/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-degree ISLSCP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lied at 8 meters depth instead of 3 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elve month parallel “spin up” peri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placed four-degree data 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itional GFS levels used in shelter height analysis – 8/29/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teen levels between 1000 and 500 m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iously used only 1000, 850 and 700 m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ed NCEP improved (Ek) snow albedo database – 10/18/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nded Robinson and Kukla (1985) database glob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IB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3520" y="1285920"/>
            <a:ext cx="853128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GRMET runs on two polar stereographic gri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convenient for use in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fore, interpolate data to a global lat/lon 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lf degree resolu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nearest neighbor approach to avoid interpolation across different soil typ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fields needed to run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tmap section to save disk space/bandwid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 available to WG-14 users in real-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ty day restriction to general public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year archive at AFWA available for resear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(00/12z) or four files (00/06/12/18z) per day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50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IB Da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5240" y="1828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CAR archive – started October 2002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CAR’s mass storage under directory: /MESOUSER/DATASETS/AGRME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ly data older than thirty day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ormat handbook available at: http://www.mmm.ucar.edu/mm5/mm5v3/data/agrmet.htm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nt Data Cha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3520" y="1285920"/>
            <a:ext cx="853128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of canopy water changed to mm – May 29, 2003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ed instantaneous skin temperature – Nov 7,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ed numerous fields – May 30,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2971800"/>
          <a:ext cx="7238880" cy="31892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quid volum. soil mois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otal volum. soil mois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erage albe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reenness f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sensible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latent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getation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w dep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aseflow run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urface run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downward so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downward 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ground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skin tempera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22640" y="269892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fd00"/>
                </a:solidFill>
                <a:latin typeface="Times New Roman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3T19:52:46Z</dcterms:created>
  <dc:creator>Maj Anthony L. Scafidi</dc:creator>
  <dc:description/>
  <dc:language>en-US</dc:language>
  <cp:lastModifiedBy>gaynog</cp:lastModifiedBy>
  <cp:lastPrinted>2000-03-13T23:02:59Z</cp:lastPrinted>
  <dcterms:modified xsi:type="dcterms:W3CDTF">2003-06-13T19:35:28Z</dcterms:modified>
  <cp:revision>180</cp:revision>
  <dc:subject/>
  <dc:title>Templete for Wing CC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595946</vt:r8>
  </property>
  <property fmtid="{D5CDD505-2E9C-101B-9397-08002B2CF9AE}" pid="3" name="_AuthorEmail">
    <vt:lpwstr>Russ.Barnes@USAFA.af.mil</vt:lpwstr>
  </property>
  <property fmtid="{D5CDD505-2E9C-101B-9397-08002B2CF9AE}" pid="4" name="_AuthorEmailDisplayName">
    <vt:lpwstr>Barnes Russ MSgt 34 SPTG/CCA</vt:lpwstr>
  </property>
  <property fmtid="{D5CDD505-2E9C-101B-9397-08002B2CF9AE}" pid="5" name="_EmailSubject">
    <vt:lpwstr>TRWSAFETY0108.ppt</vt:lpwstr>
  </property>
</Properties>
</file>