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4.png" ContentType="image/png"/>
  <Override PartName="/ppt/media/image33.png" ContentType="image/png"/>
  <Override PartName="/ppt/media/image31.jpeg" ContentType="image/jpeg"/>
  <Override PartName="/ppt/media/image30.jpeg" ContentType="image/jpe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1.jpeg" ContentType="image/jpeg"/>
  <Override PartName="/ppt/media/image28.jpeg" ContentType="image/jpe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89.png" ContentType="image/png"/>
  <Override PartName="/ppt/media/image52.png" ContentType="image/png"/>
  <Override PartName="/ppt/media/image42.png" ContentType="image/png"/>
  <Override PartName="/ppt/media/image26.jpeg" ContentType="image/jpeg"/>
  <Override PartName="/ppt/media/image27.jpeg" ContentType="image/jpeg"/>
  <Override PartName="/ppt/media/image82.wmf" ContentType="image/x-wmf"/>
  <Override PartName="/ppt/media/image77.png" ContentType="image/png"/>
  <Override PartName="/ppt/media/image58.png" ContentType="image/png"/>
  <Override PartName="/ppt/media/image80.wmf" ContentType="image/x-wmf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59.png" ContentType="image/png"/>
  <Override PartName="/ppt/media/image66.jpeg" ContentType="image/jpeg"/>
  <Override PartName="/ppt/media/image81.wmf" ContentType="image/x-wmf"/>
  <Override PartName="/ppt/media/image78.png" ContentType="image/png"/>
  <Override PartName="/ppt/media/image61.png" ContentType="image/png"/>
  <Override PartName="/ppt/media/image79.wmf" ContentType="image/x-wmf"/>
  <Override PartName="/ppt/media/image74.png" ContentType="image/png"/>
  <Override PartName="/ppt/media/image73.png" ContentType="image/png"/>
  <Override PartName="/ppt/media/image72.png" ContentType="image/png"/>
  <Override PartName="/ppt/media/image29.jpeg" ContentType="image/jpeg"/>
  <Override PartName="/ppt/media/image67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71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6.png" ContentType="image/png"/>
  <Override PartName="/ppt/media/image1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CD8-BEB5-42F9-BAE2-4357AA49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83E-244E-4625-80D4-869E5658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E2C-563D-4536-A6B0-488E7125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0CB-0FBD-4E38-940E-819D3D80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404-7CAA-43CE-841F-773395F0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A16-BF3E-41EE-BF97-4C389F84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1E7-3089-40A7-BA4F-0ABE6B82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BE4-F79E-44BC-86A0-411626D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04E-757A-4630-9ECE-BFA1CAE9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8DA-0D8D-4DB3-81DB-C8E0C56E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4E6-EF9F-46B7-AF0E-51E8E256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060-2BC7-46CD-A3BD-EBE2229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AA91-D75F-4092-B916-2CCFBAA24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4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9051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7d05"/>
                </a:solidFill>
                <a:latin typeface="Arial"/>
              </a:rPr>
              <a:t>Land-Surface Modeling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7d05"/>
                </a:solidFill>
                <a:latin typeface="Arial"/>
              </a:rPr>
              <a:t>At NC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95680"/>
            <a:ext cx="586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290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33280" y="210960"/>
            <a:ext cx="8616960" cy="987480"/>
            <a:chOff x="233280" y="210960"/>
            <a:chExt cx="8616960" cy="98748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7850160" y="210960"/>
              <a:ext cx="100008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33280" y="241200"/>
              <a:ext cx="93816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687840" y="222120"/>
              <a:ext cx="1644480" cy="96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NCE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ere America's Climate and Weather Services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5105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2228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562720"/>
            <a:ext cx="701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RF Land Working Group Workshop: 18 June 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680" y="3352680"/>
            <a:ext cx="212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n Mitche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380988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CEP Environmental Modeling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012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297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765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008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414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1938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010" descr=""/>
          <p:cNvPicPr/>
          <p:nvPr/>
        </p:nvPicPr>
        <p:blipFill>
          <a:blip r:embed="rId3"/>
          <a:stretch/>
        </p:blipFill>
        <p:spPr>
          <a:xfrm>
            <a:off x="0" y="3500280"/>
            <a:ext cx="4343400" cy="3357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375680" y="484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005" descr=""/>
          <p:cNvPicPr/>
          <p:nvPr/>
        </p:nvPicPr>
        <p:blipFill>
          <a:blip r:embed="rId4"/>
          <a:stretch/>
        </p:blipFill>
        <p:spPr>
          <a:xfrm>
            <a:off x="4800600" y="3502080"/>
            <a:ext cx="43434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80880"/>
            <a:ext cx="91440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July 2001 NOAH LSM improvements in coupled Eta mo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Helvetica-Narrow"/>
                <a:ea typeface="Times New Roman"/>
              </a:rPr>
              <a:t>Successfully Targeted Impacts</a:t>
            </a:r>
            <a:r>
              <a:rPr b="1" lang="en-US" sz="28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Helvetica-Narrow"/>
                <a:ea typeface="Times New Roman"/>
              </a:rPr>
              <a:t>1 - Cold season processes (snow melt, frozen soil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Helvetica-Narrow"/>
                <a:ea typeface="Times New Roman"/>
              </a:rPr>
              <a:t>*** reduce near-surface cool bias over snow c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Helvetica-Narrow"/>
                <a:ea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-Narrow"/>
                <a:ea typeface="Times New Roman"/>
              </a:rPr>
              <a:t>2 - Early spring wet soils (soil heat flux, bare soil evapo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-Narrow"/>
                <a:ea typeface="Times New Roman"/>
              </a:rPr>
              <a:t>*** reduce near-surface moist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Helvetica-Narrow"/>
                <a:ea typeface="Times New Roman"/>
              </a:rPr>
              <a:t>3 - Summer over non-sparse green veg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Helvetica-Narrow"/>
                <a:ea typeface="MS Mincho"/>
              </a:rPr>
              <a:t>*** reduce near-surface warm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etav_725315.sfc_2001042712_legend" descr=""/>
          <p:cNvPicPr/>
          <p:nvPr/>
        </p:nvPicPr>
        <p:blipFill>
          <a:blip r:embed="rId1"/>
          <a:stretch/>
        </p:blipFill>
        <p:spPr>
          <a:xfrm>
            <a:off x="1604880" y="4802040"/>
            <a:ext cx="7234200" cy="435240"/>
          </a:xfrm>
          <a:prstGeom prst="rect">
            <a:avLst/>
          </a:prstGeom>
          <a:ln w="0">
            <a:noFill/>
          </a:ln>
        </p:spPr>
      </p:pic>
      <p:pic>
        <p:nvPicPr>
          <p:cNvPr id="255" name="etav_725315.sfc_2001042712_T_Td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7467480" cy="1546200"/>
          </a:xfrm>
          <a:prstGeom prst="rect">
            <a:avLst/>
          </a:prstGeom>
          <a:ln w="0">
            <a:noFill/>
          </a:ln>
        </p:spPr>
      </p:pic>
      <p:pic>
        <p:nvPicPr>
          <p:cNvPr id="256" name="etay_725315.sfc_2001042712_T_Td" descr=""/>
          <p:cNvPicPr/>
          <p:nvPr/>
        </p:nvPicPr>
        <p:blipFill>
          <a:blip r:embed="rId3"/>
          <a:stretch/>
        </p:blipFill>
        <p:spPr>
          <a:xfrm>
            <a:off x="1371600" y="3308400"/>
            <a:ext cx="7467480" cy="1560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90720" y="5334120"/>
            <a:ext cx="7696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Old model formulation -  cool, moist bias in 2-m T, 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New model formulation –  reduced cool, moist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hysics change: new soil thermal conductivity, nonlinear vs linear dependence of direct evap on top layer soil moi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68920" y="219240"/>
            <a:ext cx="7970040" cy="1245240"/>
            <a:chOff x="1168920" y="219240"/>
            <a:chExt cx="7970040" cy="1245240"/>
          </a:xfrm>
        </p:grpSpPr>
        <p:sp>
          <p:nvSpPr>
            <p:cNvPr id="259" name=""/>
            <p:cNvSpPr/>
            <p:nvPr/>
          </p:nvSpPr>
          <p:spPr>
            <a:xfrm>
              <a:off x="1168920" y="219240"/>
              <a:ext cx="797004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Helvetica-Narrow"/>
                  <a:ea typeface="MS Mincho"/>
                </a:rPr>
                <a:t>REDUCING SURFACE MOIST-COOL BI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Helvetica-Narrow"/>
                  <a:ea typeface="MS Mincho"/>
                </a:rPr>
                <a:t>OVER WET-BARE GROU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12Z, 27 APR 2001, 60-hr model r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67200" y="718920"/>
              <a:ext cx="183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656320" y="3048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36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943600" y="1523880"/>
            <a:ext cx="0" cy="335304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2371320" y="1942920"/>
            <a:ext cx="182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4560" y="958680"/>
            <a:ext cx="13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292120" y="3692160"/>
            <a:ext cx="182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052720" y="4331880"/>
            <a:ext cx="182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127240" y="2552400"/>
            <a:ext cx="1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560" y="2970360"/>
            <a:ext cx="13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mpaign, Ill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eta48km_ctl.2mtd60" descr=""/>
          <p:cNvPicPr/>
          <p:nvPr/>
        </p:nvPicPr>
        <p:blipFill>
          <a:blip r:embed="rId1"/>
          <a:stretch/>
        </p:blipFill>
        <p:spPr>
          <a:xfrm>
            <a:off x="669960" y="1168560"/>
            <a:ext cx="3897360" cy="3284280"/>
          </a:xfrm>
          <a:prstGeom prst="rect">
            <a:avLst/>
          </a:prstGeom>
          <a:ln w="0">
            <a:noFill/>
          </a:ln>
        </p:spPr>
      </p:pic>
      <p:pic>
        <p:nvPicPr>
          <p:cNvPr id="271" name="eta48km_lsm.2mtd60" descr=""/>
          <p:cNvPicPr/>
          <p:nvPr/>
        </p:nvPicPr>
        <p:blipFill>
          <a:blip r:embed="rId2"/>
          <a:stretch/>
        </p:blipFill>
        <p:spPr>
          <a:xfrm>
            <a:off x="4734000" y="1168560"/>
            <a:ext cx="3897360" cy="328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90720" y="228600"/>
            <a:ext cx="70866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elvetica-Narrow"/>
                <a:ea typeface="MS Mincho"/>
              </a:rPr>
              <a:t>REDUCING SURFACE MOIST-COOL 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elvetica-Narrow"/>
                <a:ea typeface="MS Mincho"/>
              </a:rPr>
              <a:t>OVER WET-BAR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4572000"/>
            <a:ext cx="3349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00Z lowest boundary-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level (~ 100-15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dew point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48-km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old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40360" y="4524480"/>
            <a:ext cx="5091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00Z lowest boundary-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level (~ 100-15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dew point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48-km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new formulation (NOAH L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3049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Helvetica-Narrow"/>
                <a:ea typeface="MS Mincho"/>
              </a:rPr>
              <a:t>REDUCING NEAR-SURFACE MOIST-COOL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Helvetica-Narrow"/>
                <a:ea typeface="MS Mincho"/>
              </a:rPr>
              <a:t>OVER WET-BARE GROUND IN 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6095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Improved 2-m RH in 48-hour diurnal forecast cycle during Apr-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RH2M_12_diurnal_APR2001_NMW_SOIL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419720" cy="3535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191120" y="1981080"/>
            <a:ext cx="53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NO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L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75080" y="4505400"/>
            <a:ext cx="2761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33560" y="4267080"/>
            <a:ext cx="276120" cy="24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962520" y="2666880"/>
            <a:ext cx="27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334120"/>
            <a:ext cx="1754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Eta forecast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76520" y="5029200"/>
            <a:ext cx="4190400" cy="166680"/>
            <a:chOff x="1676520" y="5029200"/>
            <a:chExt cx="4190400" cy="166680"/>
          </a:xfrm>
        </p:grpSpPr>
        <p:sp>
          <p:nvSpPr>
            <p:cNvPr id="284" name=""/>
            <p:cNvSpPr/>
            <p:nvPr/>
          </p:nvSpPr>
          <p:spPr>
            <a:xfrm>
              <a:off x="1676520" y="5029200"/>
              <a:ext cx="4017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55000" y="5029200"/>
              <a:ext cx="4064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23680" y="5029200"/>
              <a:ext cx="3830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7200" y="5029200"/>
              <a:ext cx="403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59760" y="5029200"/>
              <a:ext cx="4071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003320" y="4495680"/>
            <a:ext cx="291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981080"/>
            <a:ext cx="304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3600" y="2824200"/>
            <a:ext cx="3016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74320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NO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L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590920" y="3352680"/>
            <a:ext cx="247680" cy="27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118080" y="3242520"/>
            <a:ext cx="1849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</a:rPr>
              <a:t>2-m relative humidity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3600" y="3659040"/>
            <a:ext cx="3016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095880" y="3048120"/>
            <a:ext cx="2272680" cy="1377360"/>
            <a:chOff x="6095880" y="3048120"/>
            <a:chExt cx="2272680" cy="1377360"/>
          </a:xfrm>
        </p:grpSpPr>
        <p:sp>
          <p:nvSpPr>
            <p:cNvPr id="297" name=""/>
            <p:cNvSpPr/>
            <p:nvPr/>
          </p:nvSpPr>
          <p:spPr>
            <a:xfrm>
              <a:off x="6095880" y="3447360"/>
              <a:ext cx="977040" cy="799920"/>
            </a:xfrm>
            <a:custGeom>
              <a:avLst/>
              <a:gdLst/>
              <a:ahLst/>
              <a:rect l="l" t="t" r="r" b="b"/>
              <a:pathLst>
                <a:path w="389" h="359">
                  <a:moveTo>
                    <a:pt x="5" y="0"/>
                  </a:moveTo>
                  <a:lnTo>
                    <a:pt x="1" y="40"/>
                  </a:lnTo>
                  <a:lnTo>
                    <a:pt x="1" y="40"/>
                  </a:lnTo>
                  <a:lnTo>
                    <a:pt x="0" y="75"/>
                  </a:lnTo>
                  <a:lnTo>
                    <a:pt x="15" y="159"/>
                  </a:lnTo>
                  <a:lnTo>
                    <a:pt x="55" y="222"/>
                  </a:lnTo>
                  <a:lnTo>
                    <a:pt x="109" y="226"/>
                  </a:lnTo>
                  <a:lnTo>
                    <a:pt x="180" y="276"/>
                  </a:lnTo>
                  <a:lnTo>
                    <a:pt x="237" y="283"/>
                  </a:lnTo>
                  <a:lnTo>
                    <a:pt x="240" y="276"/>
                  </a:lnTo>
                  <a:lnTo>
                    <a:pt x="273" y="283"/>
                  </a:lnTo>
                  <a:lnTo>
                    <a:pt x="340" y="359"/>
                  </a:lnTo>
                  <a:lnTo>
                    <a:pt x="367" y="343"/>
                  </a:lnTo>
                  <a:lnTo>
                    <a:pt x="389" y="96"/>
                  </a:lnTo>
                  <a:lnTo>
                    <a:pt x="305" y="89"/>
                  </a:lnTo>
                  <a:lnTo>
                    <a:pt x="241" y="86"/>
                  </a:lnTo>
                  <a:lnTo>
                    <a:pt x="194" y="77"/>
                  </a:lnTo>
                  <a:lnTo>
                    <a:pt x="188" y="63"/>
                  </a:lnTo>
                  <a:lnTo>
                    <a:pt x="147" y="56"/>
                  </a:lnTo>
                  <a:lnTo>
                    <a:pt x="98" y="49"/>
                  </a:lnTo>
                  <a:lnTo>
                    <a:pt x="90" y="33"/>
                  </a:lnTo>
                  <a:lnTo>
                    <a:pt x="67" y="32"/>
                  </a:lnTo>
                  <a:lnTo>
                    <a:pt x="67" y="17"/>
                  </a:lnTo>
                  <a:lnTo>
                    <a:pt x="60" y="24"/>
                  </a:lnTo>
                  <a:lnTo>
                    <a:pt x="46" y="24"/>
                  </a:lnTo>
                  <a:lnTo>
                    <a:pt x="34" y="25"/>
                  </a:lnTo>
                  <a:lnTo>
                    <a:pt x="29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1100000">
              <a:off x="7110000" y="3783240"/>
              <a:ext cx="100080" cy="84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1160000">
              <a:off x="7120440" y="3701160"/>
              <a:ext cx="97920" cy="82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160000">
              <a:off x="7218360" y="3709800"/>
              <a:ext cx="102240" cy="82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1220000">
              <a:off x="7208280" y="3792240"/>
              <a:ext cx="102960" cy="84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1160000">
              <a:off x="7097400" y="3689280"/>
              <a:ext cx="233280" cy="198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12080" y="3645360"/>
              <a:ext cx="388800" cy="733320"/>
            </a:xfrm>
            <a:custGeom>
              <a:avLst/>
              <a:gdLst/>
              <a:ahLst/>
              <a:rect l="l" t="t" r="r" b="b"/>
              <a:pathLst>
                <a:path w="155" h="329">
                  <a:moveTo>
                    <a:pt x="118" y="329"/>
                  </a:moveTo>
                  <a:lnTo>
                    <a:pt x="143" y="316"/>
                  </a:lnTo>
                  <a:lnTo>
                    <a:pt x="143" y="316"/>
                  </a:lnTo>
                  <a:lnTo>
                    <a:pt x="146" y="268"/>
                  </a:lnTo>
                  <a:lnTo>
                    <a:pt x="79" y="169"/>
                  </a:lnTo>
                  <a:lnTo>
                    <a:pt x="94" y="124"/>
                  </a:lnTo>
                  <a:lnTo>
                    <a:pt x="153" y="30"/>
                  </a:lnTo>
                  <a:lnTo>
                    <a:pt x="155" y="18"/>
                  </a:lnTo>
                  <a:lnTo>
                    <a:pt x="133" y="0"/>
                  </a:lnTo>
                  <a:lnTo>
                    <a:pt x="81" y="14"/>
                  </a:lnTo>
                  <a:lnTo>
                    <a:pt x="81" y="32"/>
                  </a:lnTo>
                  <a:lnTo>
                    <a:pt x="59" y="39"/>
                  </a:lnTo>
                  <a:lnTo>
                    <a:pt x="56" y="124"/>
                  </a:lnTo>
                  <a:lnTo>
                    <a:pt x="30" y="130"/>
                  </a:lnTo>
                  <a:lnTo>
                    <a:pt x="1" y="145"/>
                  </a:lnTo>
                  <a:lnTo>
                    <a:pt x="0" y="175"/>
                  </a:lnTo>
                  <a:lnTo>
                    <a:pt x="17" y="215"/>
                  </a:lnTo>
                  <a:lnTo>
                    <a:pt x="36" y="206"/>
                  </a:lnTo>
                  <a:lnTo>
                    <a:pt x="121" y="303"/>
                  </a:lnTo>
                  <a:lnTo>
                    <a:pt x="118" y="32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10640" y="3058920"/>
              <a:ext cx="942120" cy="595440"/>
            </a:xfrm>
            <a:custGeom>
              <a:avLst/>
              <a:gdLst/>
              <a:ahLst/>
              <a:rect l="l" t="t" r="r" b="b"/>
              <a:pathLst>
                <a:path w="375" h="267">
                  <a:moveTo>
                    <a:pt x="0" y="179"/>
                  </a:moveTo>
                  <a:lnTo>
                    <a:pt x="24" y="180"/>
                  </a:lnTo>
                  <a:lnTo>
                    <a:pt x="24" y="180"/>
                  </a:lnTo>
                  <a:lnTo>
                    <a:pt x="29" y="196"/>
                  </a:lnTo>
                  <a:lnTo>
                    <a:pt x="62" y="199"/>
                  </a:lnTo>
                  <a:lnTo>
                    <a:pt x="65" y="204"/>
                  </a:lnTo>
                  <a:lnTo>
                    <a:pt x="86" y="211"/>
                  </a:lnTo>
                  <a:lnTo>
                    <a:pt x="94" y="225"/>
                  </a:lnTo>
                  <a:lnTo>
                    <a:pt x="186" y="238"/>
                  </a:lnTo>
                  <a:lnTo>
                    <a:pt x="188" y="253"/>
                  </a:lnTo>
                  <a:lnTo>
                    <a:pt x="267" y="261"/>
                  </a:lnTo>
                  <a:lnTo>
                    <a:pt x="369" y="267"/>
                  </a:lnTo>
                  <a:lnTo>
                    <a:pt x="375" y="190"/>
                  </a:lnTo>
                  <a:lnTo>
                    <a:pt x="346" y="187"/>
                  </a:lnTo>
                  <a:lnTo>
                    <a:pt x="347" y="169"/>
                  </a:lnTo>
                  <a:lnTo>
                    <a:pt x="327" y="166"/>
                  </a:lnTo>
                  <a:lnTo>
                    <a:pt x="329" y="149"/>
                  </a:lnTo>
                  <a:lnTo>
                    <a:pt x="298" y="145"/>
                  </a:lnTo>
                  <a:lnTo>
                    <a:pt x="302" y="98"/>
                  </a:lnTo>
                  <a:lnTo>
                    <a:pt x="289" y="94"/>
                  </a:lnTo>
                  <a:lnTo>
                    <a:pt x="293" y="58"/>
                  </a:lnTo>
                  <a:lnTo>
                    <a:pt x="225" y="47"/>
                  </a:lnTo>
                  <a:lnTo>
                    <a:pt x="152" y="24"/>
                  </a:lnTo>
                  <a:lnTo>
                    <a:pt x="100" y="0"/>
                  </a:lnTo>
                  <a:lnTo>
                    <a:pt x="90" y="18"/>
                  </a:lnTo>
                  <a:lnTo>
                    <a:pt x="66" y="9"/>
                  </a:lnTo>
                  <a:lnTo>
                    <a:pt x="48" y="70"/>
                  </a:lnTo>
                  <a:lnTo>
                    <a:pt x="24" y="107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33880" y="3193200"/>
              <a:ext cx="1238400" cy="653040"/>
            </a:xfrm>
            <a:custGeom>
              <a:avLst/>
              <a:gdLst/>
              <a:ahLst/>
              <a:rect l="l" t="t" r="r" b="b"/>
              <a:pathLst>
                <a:path w="493" h="293">
                  <a:moveTo>
                    <a:pt x="5" y="0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14" y="39"/>
                  </a:lnTo>
                  <a:lnTo>
                    <a:pt x="8" y="85"/>
                  </a:lnTo>
                  <a:lnTo>
                    <a:pt x="39" y="89"/>
                  </a:lnTo>
                  <a:lnTo>
                    <a:pt x="40" y="108"/>
                  </a:lnTo>
                  <a:lnTo>
                    <a:pt x="58" y="108"/>
                  </a:lnTo>
                  <a:lnTo>
                    <a:pt x="58" y="127"/>
                  </a:lnTo>
                  <a:lnTo>
                    <a:pt x="86" y="129"/>
                  </a:lnTo>
                  <a:lnTo>
                    <a:pt x="80" y="207"/>
                  </a:lnTo>
                  <a:lnTo>
                    <a:pt x="177" y="217"/>
                  </a:lnTo>
                  <a:lnTo>
                    <a:pt x="179" y="206"/>
                  </a:lnTo>
                  <a:lnTo>
                    <a:pt x="223" y="204"/>
                  </a:lnTo>
                  <a:lnTo>
                    <a:pt x="219" y="293"/>
                  </a:lnTo>
                  <a:lnTo>
                    <a:pt x="301" y="283"/>
                  </a:lnTo>
                  <a:lnTo>
                    <a:pt x="422" y="249"/>
                  </a:lnTo>
                  <a:lnTo>
                    <a:pt x="431" y="221"/>
                  </a:lnTo>
                  <a:lnTo>
                    <a:pt x="450" y="198"/>
                  </a:lnTo>
                  <a:lnTo>
                    <a:pt x="458" y="127"/>
                  </a:lnTo>
                  <a:lnTo>
                    <a:pt x="473" y="108"/>
                  </a:lnTo>
                  <a:lnTo>
                    <a:pt x="476" y="83"/>
                  </a:lnTo>
                  <a:lnTo>
                    <a:pt x="493" y="59"/>
                  </a:lnTo>
                  <a:lnTo>
                    <a:pt x="492" y="39"/>
                  </a:lnTo>
                  <a:lnTo>
                    <a:pt x="464" y="80"/>
                  </a:lnTo>
                  <a:lnTo>
                    <a:pt x="431" y="102"/>
                  </a:lnTo>
                  <a:lnTo>
                    <a:pt x="429" y="116"/>
                  </a:lnTo>
                  <a:lnTo>
                    <a:pt x="401" y="114"/>
                  </a:lnTo>
                  <a:lnTo>
                    <a:pt x="417" y="93"/>
                  </a:lnTo>
                  <a:lnTo>
                    <a:pt x="392" y="51"/>
                  </a:lnTo>
                  <a:lnTo>
                    <a:pt x="350" y="26"/>
                  </a:lnTo>
                  <a:lnTo>
                    <a:pt x="308" y="3"/>
                  </a:lnTo>
                  <a:lnTo>
                    <a:pt x="291" y="2"/>
                  </a:lnTo>
                  <a:lnTo>
                    <a:pt x="278" y="16"/>
                  </a:lnTo>
                  <a:lnTo>
                    <a:pt x="232" y="18"/>
                  </a:lnTo>
                  <a:lnTo>
                    <a:pt x="191" y="3"/>
                  </a:lnTo>
                  <a:lnTo>
                    <a:pt x="180" y="12"/>
                  </a:lnTo>
                  <a:lnTo>
                    <a:pt x="132" y="12"/>
                  </a:lnTo>
                  <a:lnTo>
                    <a:pt x="72" y="8"/>
                  </a:lnTo>
                  <a:lnTo>
                    <a:pt x="27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02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51600" y="3048120"/>
              <a:ext cx="507600" cy="918360"/>
            </a:xfrm>
            <a:custGeom>
              <a:avLst/>
              <a:gdLst/>
              <a:ahLst/>
              <a:rect l="l" t="t" r="r" b="b"/>
              <a:pathLst>
                <a:path w="202" h="412">
                  <a:moveTo>
                    <a:pt x="88" y="105"/>
                  </a:moveTo>
                  <a:lnTo>
                    <a:pt x="86" y="128"/>
                  </a:lnTo>
                  <a:lnTo>
                    <a:pt x="86" y="128"/>
                  </a:lnTo>
                  <a:lnTo>
                    <a:pt x="72" y="150"/>
                  </a:lnTo>
                  <a:lnTo>
                    <a:pt x="67" y="172"/>
                  </a:lnTo>
                  <a:lnTo>
                    <a:pt x="51" y="193"/>
                  </a:lnTo>
                  <a:lnTo>
                    <a:pt x="44" y="265"/>
                  </a:lnTo>
                  <a:lnTo>
                    <a:pt x="25" y="285"/>
                  </a:lnTo>
                  <a:lnTo>
                    <a:pt x="22" y="311"/>
                  </a:lnTo>
                  <a:lnTo>
                    <a:pt x="1" y="336"/>
                  </a:lnTo>
                  <a:lnTo>
                    <a:pt x="0" y="357"/>
                  </a:lnTo>
                  <a:lnTo>
                    <a:pt x="12" y="372"/>
                  </a:lnTo>
                  <a:lnTo>
                    <a:pt x="12" y="398"/>
                  </a:lnTo>
                  <a:lnTo>
                    <a:pt x="26" y="412"/>
                  </a:lnTo>
                  <a:lnTo>
                    <a:pt x="51" y="399"/>
                  </a:lnTo>
                  <a:lnTo>
                    <a:pt x="79" y="395"/>
                  </a:lnTo>
                  <a:lnTo>
                    <a:pt x="86" y="306"/>
                  </a:lnTo>
                  <a:lnTo>
                    <a:pt x="104" y="300"/>
                  </a:lnTo>
                  <a:lnTo>
                    <a:pt x="103" y="285"/>
                  </a:lnTo>
                  <a:lnTo>
                    <a:pt x="158" y="267"/>
                  </a:lnTo>
                  <a:lnTo>
                    <a:pt x="157" y="172"/>
                  </a:lnTo>
                  <a:lnTo>
                    <a:pt x="202" y="122"/>
                  </a:lnTo>
                  <a:lnTo>
                    <a:pt x="175" y="96"/>
                  </a:lnTo>
                  <a:lnTo>
                    <a:pt x="202" y="31"/>
                  </a:lnTo>
                  <a:lnTo>
                    <a:pt x="173" y="0"/>
                  </a:lnTo>
                  <a:lnTo>
                    <a:pt x="151" y="10"/>
                  </a:lnTo>
                  <a:lnTo>
                    <a:pt x="146" y="62"/>
                  </a:lnTo>
                  <a:lnTo>
                    <a:pt x="101" y="85"/>
                  </a:lnTo>
                  <a:lnTo>
                    <a:pt x="88" y="105"/>
                  </a:lnTo>
                  <a:close/>
                </a:path>
              </a:pathLst>
            </a:custGeom>
            <a:solidFill>
              <a:srgbClr val="ff7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17480" y="3647520"/>
              <a:ext cx="934200" cy="769320"/>
            </a:xfrm>
            <a:custGeom>
              <a:avLst/>
              <a:gdLst/>
              <a:ahLst/>
              <a:rect l="l" t="t" r="r" b="b"/>
              <a:pathLst>
                <a:path w="372" h="346">
                  <a:moveTo>
                    <a:pt x="0" y="252"/>
                  </a:moveTo>
                  <a:lnTo>
                    <a:pt x="23" y="4"/>
                  </a:lnTo>
                  <a:lnTo>
                    <a:pt x="104" y="14"/>
                  </a:lnTo>
                  <a:lnTo>
                    <a:pt x="110" y="0"/>
                  </a:lnTo>
                  <a:lnTo>
                    <a:pt x="154" y="2"/>
                  </a:lnTo>
                  <a:lnTo>
                    <a:pt x="148" y="89"/>
                  </a:lnTo>
                  <a:lnTo>
                    <a:pt x="213" y="82"/>
                  </a:lnTo>
                  <a:lnTo>
                    <a:pt x="283" y="64"/>
                  </a:lnTo>
                  <a:lnTo>
                    <a:pt x="345" y="44"/>
                  </a:lnTo>
                  <a:lnTo>
                    <a:pt x="335" y="69"/>
                  </a:lnTo>
                  <a:lnTo>
                    <a:pt x="335" y="93"/>
                  </a:lnTo>
                  <a:lnTo>
                    <a:pt x="344" y="103"/>
                  </a:lnTo>
                  <a:lnTo>
                    <a:pt x="343" y="132"/>
                  </a:lnTo>
                  <a:lnTo>
                    <a:pt x="356" y="145"/>
                  </a:lnTo>
                  <a:lnTo>
                    <a:pt x="356" y="177"/>
                  </a:lnTo>
                  <a:lnTo>
                    <a:pt x="372" y="215"/>
                  </a:lnTo>
                  <a:lnTo>
                    <a:pt x="366" y="219"/>
                  </a:lnTo>
                  <a:lnTo>
                    <a:pt x="340" y="206"/>
                  </a:lnTo>
                  <a:lnTo>
                    <a:pt x="277" y="223"/>
                  </a:lnTo>
                  <a:lnTo>
                    <a:pt x="274" y="249"/>
                  </a:lnTo>
                  <a:lnTo>
                    <a:pt x="243" y="257"/>
                  </a:lnTo>
                  <a:lnTo>
                    <a:pt x="181" y="248"/>
                  </a:lnTo>
                  <a:lnTo>
                    <a:pt x="122" y="284"/>
                  </a:lnTo>
                  <a:lnTo>
                    <a:pt x="108" y="321"/>
                  </a:lnTo>
                  <a:lnTo>
                    <a:pt x="106" y="346"/>
                  </a:lnTo>
                  <a:lnTo>
                    <a:pt x="82" y="344"/>
                  </a:lnTo>
                  <a:lnTo>
                    <a:pt x="49" y="308"/>
                  </a:lnTo>
                  <a:lnTo>
                    <a:pt x="26" y="265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ba5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80960" y="3641040"/>
              <a:ext cx="263520" cy="2016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0" y="0"/>
                  </a:moveTo>
                  <a:lnTo>
                    <a:pt x="104" y="8"/>
                  </a:lnTo>
                  <a:lnTo>
                    <a:pt x="10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17640" y="3645360"/>
              <a:ext cx="128160" cy="4212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0" y="20"/>
                  </a:moveTo>
                  <a:lnTo>
                    <a:pt x="51" y="0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0640" y="3099600"/>
              <a:ext cx="331560" cy="403200"/>
            </a:xfrm>
            <a:custGeom>
              <a:avLst/>
              <a:gdLst/>
              <a:ahLst/>
              <a:rect l="l" t="t" r="r" b="b"/>
              <a:pathLst>
                <a:path w="131" h="181">
                  <a:moveTo>
                    <a:pt x="131" y="0"/>
                  </a:moveTo>
                  <a:lnTo>
                    <a:pt x="120" y="43"/>
                  </a:lnTo>
                  <a:lnTo>
                    <a:pt x="120" y="43"/>
                  </a:lnTo>
                  <a:lnTo>
                    <a:pt x="109" y="43"/>
                  </a:lnTo>
                  <a:lnTo>
                    <a:pt x="100" y="103"/>
                  </a:lnTo>
                  <a:lnTo>
                    <a:pt x="83" y="108"/>
                  </a:lnTo>
                  <a:lnTo>
                    <a:pt x="79" y="167"/>
                  </a:lnTo>
                  <a:lnTo>
                    <a:pt x="59" y="181"/>
                  </a:lnTo>
                  <a:lnTo>
                    <a:pt x="28" y="181"/>
                  </a:lnTo>
                  <a:lnTo>
                    <a:pt x="24" y="166"/>
                  </a:lnTo>
                  <a:lnTo>
                    <a:pt x="0" y="16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61480" y="3487320"/>
              <a:ext cx="165600" cy="459000"/>
            </a:xfrm>
            <a:custGeom>
              <a:avLst/>
              <a:gdLst/>
              <a:ahLst/>
              <a:rect l="l" t="t" r="r" b="b"/>
              <a:pathLst>
                <a:path w="67" h="206">
                  <a:moveTo>
                    <a:pt x="5" y="0"/>
                  </a:moveTo>
                  <a:lnTo>
                    <a:pt x="0" y="44"/>
                  </a:lnTo>
                  <a:lnTo>
                    <a:pt x="61" y="143"/>
                  </a:lnTo>
                  <a:lnTo>
                    <a:pt x="67" y="175"/>
                  </a:lnTo>
                  <a:lnTo>
                    <a:pt x="48" y="2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69040" y="3520440"/>
              <a:ext cx="516960" cy="532800"/>
            </a:xfrm>
            <a:custGeom>
              <a:avLst/>
              <a:gdLst/>
              <a:ahLst/>
              <a:rect l="l" t="t" r="r" b="b"/>
              <a:pathLst>
                <a:path w="206" h="239">
                  <a:moveTo>
                    <a:pt x="0" y="0"/>
                  </a:moveTo>
                  <a:lnTo>
                    <a:pt x="26" y="6"/>
                  </a:lnTo>
                  <a:lnTo>
                    <a:pt x="26" y="6"/>
                  </a:lnTo>
                  <a:lnTo>
                    <a:pt x="30" y="19"/>
                  </a:lnTo>
                  <a:lnTo>
                    <a:pt x="124" y="30"/>
                  </a:lnTo>
                  <a:lnTo>
                    <a:pt x="124" y="47"/>
                  </a:lnTo>
                  <a:lnTo>
                    <a:pt x="206" y="57"/>
                  </a:lnTo>
                  <a:lnTo>
                    <a:pt x="191" y="218"/>
                  </a:lnTo>
                  <a:lnTo>
                    <a:pt x="176" y="220"/>
                  </a:lnTo>
                  <a:lnTo>
                    <a:pt x="170" y="2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80440" y="3146040"/>
              <a:ext cx="218160" cy="501480"/>
            </a:xfrm>
            <a:custGeom>
              <a:avLst/>
              <a:gdLst/>
              <a:ahLst/>
              <a:rect l="l" t="t" r="r" b="b"/>
              <a:pathLst>
                <a:path w="86" h="225">
                  <a:moveTo>
                    <a:pt x="79" y="225"/>
                  </a:moveTo>
                  <a:lnTo>
                    <a:pt x="86" y="204"/>
                  </a:lnTo>
                  <a:lnTo>
                    <a:pt x="86" y="204"/>
                  </a:lnTo>
                  <a:lnTo>
                    <a:pt x="69" y="200"/>
                  </a:lnTo>
                  <a:lnTo>
                    <a:pt x="67" y="185"/>
                  </a:lnTo>
                  <a:lnTo>
                    <a:pt x="52" y="184"/>
                  </a:lnTo>
                  <a:lnTo>
                    <a:pt x="55" y="154"/>
                  </a:lnTo>
                  <a:lnTo>
                    <a:pt x="41" y="149"/>
                  </a:lnTo>
                  <a:lnTo>
                    <a:pt x="41" y="135"/>
                  </a:lnTo>
                  <a:lnTo>
                    <a:pt x="25" y="132"/>
                  </a:lnTo>
                  <a:lnTo>
                    <a:pt x="29" y="101"/>
                  </a:lnTo>
                  <a:lnTo>
                    <a:pt x="11" y="93"/>
                  </a:lnTo>
                  <a:lnTo>
                    <a:pt x="14" y="56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33880" y="3197520"/>
              <a:ext cx="562680" cy="48096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3" y="0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4" y="35"/>
                  </a:lnTo>
                  <a:lnTo>
                    <a:pt x="12" y="54"/>
                  </a:lnTo>
                  <a:lnTo>
                    <a:pt x="10" y="84"/>
                  </a:lnTo>
                  <a:lnTo>
                    <a:pt x="42" y="88"/>
                  </a:lnTo>
                  <a:lnTo>
                    <a:pt x="40" y="105"/>
                  </a:lnTo>
                  <a:lnTo>
                    <a:pt x="57" y="105"/>
                  </a:lnTo>
                  <a:lnTo>
                    <a:pt x="56" y="126"/>
                  </a:lnTo>
                  <a:lnTo>
                    <a:pt x="86" y="127"/>
                  </a:lnTo>
                  <a:lnTo>
                    <a:pt x="80" y="205"/>
                  </a:lnTo>
                  <a:lnTo>
                    <a:pt x="178" y="216"/>
                  </a:lnTo>
                  <a:lnTo>
                    <a:pt x="181" y="202"/>
                  </a:lnTo>
                  <a:lnTo>
                    <a:pt x="224" y="20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4600" y="3661200"/>
              <a:ext cx="65160" cy="548280"/>
            </a:xfrm>
            <a:custGeom>
              <a:avLst/>
              <a:gdLst/>
              <a:ahLst/>
              <a:rect l="l" t="t" r="r" b="b"/>
              <a:pathLst>
                <a:path w="26" h="245">
                  <a:moveTo>
                    <a:pt x="0" y="245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89360" y="3284640"/>
              <a:ext cx="685080" cy="56160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0" y="252"/>
                  </a:moveTo>
                  <a:lnTo>
                    <a:pt x="95" y="242"/>
                  </a:lnTo>
                  <a:lnTo>
                    <a:pt x="204" y="205"/>
                  </a:lnTo>
                  <a:lnTo>
                    <a:pt x="210" y="179"/>
                  </a:lnTo>
                  <a:lnTo>
                    <a:pt x="226" y="158"/>
                  </a:lnTo>
                  <a:lnTo>
                    <a:pt x="236" y="85"/>
                  </a:lnTo>
                  <a:lnTo>
                    <a:pt x="248" y="72"/>
                  </a:lnTo>
                  <a:lnTo>
                    <a:pt x="255" y="41"/>
                  </a:lnTo>
                  <a:lnTo>
                    <a:pt x="268" y="23"/>
                  </a:lnTo>
                  <a:lnTo>
                    <a:pt x="27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56640" y="3747960"/>
              <a:ext cx="97920" cy="378360"/>
            </a:xfrm>
            <a:custGeom>
              <a:avLst/>
              <a:gdLst/>
              <a:ahLst/>
              <a:rect l="l" t="t" r="r" b="b"/>
              <a:pathLst>
                <a:path w="39" h="170">
                  <a:moveTo>
                    <a:pt x="39" y="170"/>
                  </a:moveTo>
                  <a:lnTo>
                    <a:pt x="22" y="141"/>
                  </a:lnTo>
                  <a:lnTo>
                    <a:pt x="22" y="141"/>
                  </a:lnTo>
                  <a:lnTo>
                    <a:pt x="23" y="102"/>
                  </a:lnTo>
                  <a:lnTo>
                    <a:pt x="8" y="86"/>
                  </a:lnTo>
                  <a:lnTo>
                    <a:pt x="11" y="57"/>
                  </a:lnTo>
                  <a:lnTo>
                    <a:pt x="1" y="43"/>
                  </a:lnTo>
                  <a:lnTo>
                    <a:pt x="0" y="20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19280" y="3224520"/>
              <a:ext cx="248760" cy="748440"/>
            </a:xfrm>
            <a:custGeom>
              <a:avLst/>
              <a:gdLst/>
              <a:ahLst/>
              <a:rect l="l" t="t" r="r" b="b"/>
              <a:pathLst>
                <a:path w="98" h="336">
                  <a:moveTo>
                    <a:pt x="0" y="336"/>
                  </a:moveTo>
                  <a:lnTo>
                    <a:pt x="22" y="321"/>
                  </a:lnTo>
                  <a:lnTo>
                    <a:pt x="22" y="321"/>
                  </a:lnTo>
                  <a:lnTo>
                    <a:pt x="51" y="318"/>
                  </a:lnTo>
                  <a:lnTo>
                    <a:pt x="60" y="226"/>
                  </a:lnTo>
                  <a:lnTo>
                    <a:pt x="75" y="225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5880" y="3063600"/>
              <a:ext cx="1310760" cy="1361880"/>
            </a:xfrm>
            <a:custGeom>
              <a:avLst/>
              <a:gdLst/>
              <a:ahLst/>
              <a:rect l="l" t="t" r="r" b="b"/>
              <a:pathLst>
                <a:path w="521" h="611">
                  <a:moveTo>
                    <a:pt x="521" y="75"/>
                  </a:moveTo>
                  <a:lnTo>
                    <a:pt x="484" y="64"/>
                  </a:lnTo>
                  <a:lnTo>
                    <a:pt x="484" y="64"/>
                  </a:lnTo>
                  <a:lnTo>
                    <a:pt x="478" y="71"/>
                  </a:lnTo>
                  <a:lnTo>
                    <a:pt x="361" y="69"/>
                  </a:lnTo>
                  <a:lnTo>
                    <a:pt x="251" y="50"/>
                  </a:lnTo>
                  <a:lnTo>
                    <a:pt x="160" y="24"/>
                  </a:lnTo>
                  <a:lnTo>
                    <a:pt x="104" y="0"/>
                  </a:lnTo>
                  <a:lnTo>
                    <a:pt x="96" y="17"/>
                  </a:lnTo>
                  <a:lnTo>
                    <a:pt x="72" y="8"/>
                  </a:lnTo>
                  <a:lnTo>
                    <a:pt x="52" y="74"/>
                  </a:lnTo>
                  <a:lnTo>
                    <a:pt x="28" y="107"/>
                  </a:lnTo>
                  <a:lnTo>
                    <a:pt x="6" y="169"/>
                  </a:lnTo>
                  <a:lnTo>
                    <a:pt x="0" y="247"/>
                  </a:lnTo>
                  <a:lnTo>
                    <a:pt x="3" y="274"/>
                  </a:lnTo>
                  <a:lnTo>
                    <a:pt x="18" y="332"/>
                  </a:lnTo>
                  <a:lnTo>
                    <a:pt x="55" y="395"/>
                  </a:lnTo>
                  <a:lnTo>
                    <a:pt x="111" y="397"/>
                  </a:lnTo>
                  <a:lnTo>
                    <a:pt x="180" y="450"/>
                  </a:lnTo>
                  <a:lnTo>
                    <a:pt x="239" y="458"/>
                  </a:lnTo>
                  <a:lnTo>
                    <a:pt x="239" y="446"/>
                  </a:lnTo>
                  <a:lnTo>
                    <a:pt x="275" y="454"/>
                  </a:lnTo>
                  <a:lnTo>
                    <a:pt x="338" y="532"/>
                  </a:lnTo>
                  <a:lnTo>
                    <a:pt x="368" y="513"/>
                  </a:lnTo>
                  <a:lnTo>
                    <a:pt x="394" y="530"/>
                  </a:lnTo>
                  <a:lnTo>
                    <a:pt x="415" y="569"/>
                  </a:lnTo>
                  <a:lnTo>
                    <a:pt x="450" y="605"/>
                  </a:lnTo>
                  <a:lnTo>
                    <a:pt x="473" y="611"/>
                  </a:lnTo>
                </a:path>
              </a:pathLst>
            </a:custGeom>
            <a:noFill/>
            <a:ln w="38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83520" y="3050640"/>
              <a:ext cx="1085040" cy="1374840"/>
            </a:xfrm>
            <a:custGeom>
              <a:avLst/>
              <a:gdLst/>
              <a:ahLst/>
              <a:rect l="l" t="t" r="r" b="b"/>
              <a:pathLst>
                <a:path w="432" h="617">
                  <a:moveTo>
                    <a:pt x="0" y="617"/>
                  </a:moveTo>
                  <a:lnTo>
                    <a:pt x="24" y="370"/>
                  </a:lnTo>
                  <a:lnTo>
                    <a:pt x="24" y="370"/>
                  </a:lnTo>
                  <a:lnTo>
                    <a:pt x="39" y="371"/>
                  </a:lnTo>
                  <a:lnTo>
                    <a:pt x="47" y="272"/>
                  </a:lnTo>
                  <a:lnTo>
                    <a:pt x="51" y="224"/>
                  </a:lnTo>
                  <a:lnTo>
                    <a:pt x="39" y="223"/>
                  </a:lnTo>
                  <a:lnTo>
                    <a:pt x="52" y="84"/>
                  </a:lnTo>
                  <a:lnTo>
                    <a:pt x="98" y="82"/>
                  </a:lnTo>
                  <a:lnTo>
                    <a:pt x="116" y="67"/>
                  </a:lnTo>
                  <a:lnTo>
                    <a:pt x="145" y="74"/>
                  </a:lnTo>
                  <a:lnTo>
                    <a:pt x="209" y="109"/>
                  </a:lnTo>
                  <a:lnTo>
                    <a:pt x="230" y="139"/>
                  </a:lnTo>
                  <a:lnTo>
                    <a:pt x="234" y="161"/>
                  </a:lnTo>
                  <a:lnTo>
                    <a:pt x="225" y="181"/>
                  </a:lnTo>
                  <a:lnTo>
                    <a:pt x="251" y="182"/>
                  </a:lnTo>
                  <a:lnTo>
                    <a:pt x="254" y="169"/>
                  </a:lnTo>
                  <a:lnTo>
                    <a:pt x="274" y="155"/>
                  </a:lnTo>
                  <a:lnTo>
                    <a:pt x="310" y="111"/>
                  </a:lnTo>
                  <a:lnTo>
                    <a:pt x="325" y="86"/>
                  </a:lnTo>
                  <a:lnTo>
                    <a:pt x="372" y="63"/>
                  </a:lnTo>
                  <a:lnTo>
                    <a:pt x="380" y="7"/>
                  </a:lnTo>
                  <a:lnTo>
                    <a:pt x="401" y="0"/>
                  </a:lnTo>
                  <a:lnTo>
                    <a:pt x="432" y="31"/>
                  </a:lnTo>
                  <a:lnTo>
                    <a:pt x="403" y="95"/>
                  </a:lnTo>
                  <a:lnTo>
                    <a:pt x="419" y="113"/>
                  </a:lnTo>
                  <a:lnTo>
                    <a:pt x="427" y="127"/>
                  </a:lnTo>
                  <a:lnTo>
                    <a:pt x="385" y="175"/>
                  </a:lnTo>
                  <a:lnTo>
                    <a:pt x="384" y="267"/>
                  </a:lnTo>
                  <a:lnTo>
                    <a:pt x="405" y="289"/>
                  </a:lnTo>
                  <a:lnTo>
                    <a:pt x="402" y="299"/>
                  </a:lnTo>
                  <a:lnTo>
                    <a:pt x="343" y="393"/>
                  </a:lnTo>
                  <a:lnTo>
                    <a:pt x="329" y="435"/>
                  </a:lnTo>
                  <a:lnTo>
                    <a:pt x="393" y="533"/>
                  </a:lnTo>
                  <a:lnTo>
                    <a:pt x="392" y="585"/>
                  </a:lnTo>
                  <a:lnTo>
                    <a:pt x="369" y="598"/>
                  </a:lnTo>
                  <a:lnTo>
                    <a:pt x="370" y="570"/>
                  </a:lnTo>
                  <a:lnTo>
                    <a:pt x="287" y="472"/>
                  </a:lnTo>
                  <a:lnTo>
                    <a:pt x="263" y="487"/>
                  </a:lnTo>
                  <a:lnTo>
                    <a:pt x="234" y="471"/>
                  </a:lnTo>
                  <a:lnTo>
                    <a:pt x="171" y="493"/>
                  </a:lnTo>
                  <a:lnTo>
                    <a:pt x="168" y="518"/>
                  </a:lnTo>
                  <a:lnTo>
                    <a:pt x="137" y="525"/>
                  </a:lnTo>
                  <a:lnTo>
                    <a:pt x="75" y="516"/>
                  </a:lnTo>
                  <a:lnTo>
                    <a:pt x="14" y="554"/>
                  </a:lnTo>
                  <a:lnTo>
                    <a:pt x="1" y="594"/>
                  </a:lnTo>
                </a:path>
              </a:pathLst>
            </a:custGeom>
            <a:noFill/>
            <a:ln w="38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12520" y="3409560"/>
              <a:ext cx="51984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95600" y="3872880"/>
              <a:ext cx="5497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23320" y="3364560"/>
              <a:ext cx="42948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8002400">
              <a:off x="7890840" y="3369240"/>
              <a:ext cx="3409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04520" y="3953520"/>
              <a:ext cx="127440" cy="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7343000">
              <a:off x="6166080" y="3202560"/>
              <a:ext cx="1292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47720" y="3417840"/>
              <a:ext cx="117720" cy="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5000" y="3217320"/>
              <a:ext cx="147960" cy="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38160" y="3259800"/>
              <a:ext cx="12816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70040" y="4026600"/>
              <a:ext cx="11844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000" y="3382560"/>
              <a:ext cx="13032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33000" y="3382560"/>
              <a:ext cx="11772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94840" y="3977640"/>
              <a:ext cx="14796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8295200">
              <a:off x="7984080" y="3453840"/>
              <a:ext cx="109080" cy="1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07800" y="3547440"/>
              <a:ext cx="40644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5349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32640" y="3759120"/>
              <a:ext cx="36144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5349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1680" y="3768480"/>
              <a:ext cx="4471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64880" y="3933000"/>
              <a:ext cx="1281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30440" y="3817440"/>
              <a:ext cx="14040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1240" y="3917520"/>
              <a:ext cx="11772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V="1">
            <a:off x="7607160" y="2876400"/>
            <a:ext cx="203400" cy="534960"/>
          </a:xfrm>
          <a:prstGeom prst="line">
            <a:avLst/>
          </a:prstGeom>
          <a:ln w="38160">
            <a:solidFill>
              <a:srgbClr val="8237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58920" y="241920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USA northern mid-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10120" y="5796000"/>
            <a:ext cx="81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Mincho"/>
              </a:rPr>
              <a:t>Shallow/retreating snow cover in USA northern plain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0880" y="304920"/>
            <a:ext cx="8382240" cy="5442480"/>
            <a:chOff x="380880" y="304920"/>
            <a:chExt cx="8382240" cy="5442480"/>
          </a:xfrm>
        </p:grpSpPr>
        <p:pic>
          <p:nvPicPr>
            <p:cNvPr id="345" name="ims2001037_usa" descr=""/>
            <p:cNvPicPr/>
            <p:nvPr/>
          </p:nvPicPr>
          <p:blipFill>
            <a:blip r:embed="rId1"/>
            <a:stretch/>
          </p:blipFill>
          <p:spPr>
            <a:xfrm>
              <a:off x="6095880" y="30481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ims2001035_usa" descr=""/>
            <p:cNvPicPr/>
            <p:nvPr/>
          </p:nvPicPr>
          <p:blipFill>
            <a:blip r:embed="rId2"/>
            <a:stretch/>
          </p:blipFill>
          <p:spPr>
            <a:xfrm>
              <a:off x="380880" y="30481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ims2001036_usa" descr=""/>
            <p:cNvPicPr/>
            <p:nvPr/>
          </p:nvPicPr>
          <p:blipFill>
            <a:blip r:embed="rId3"/>
            <a:stretch/>
          </p:blipFill>
          <p:spPr>
            <a:xfrm>
              <a:off x="3238560" y="30481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7086600" y="1143000"/>
              <a:ext cx="1447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Nor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snowc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ims2001032_usa" descr=""/>
            <p:cNvPicPr/>
            <p:nvPr/>
          </p:nvPicPr>
          <p:blipFill>
            <a:blip r:embed="rId4"/>
            <a:stretch/>
          </p:blipFill>
          <p:spPr>
            <a:xfrm>
              <a:off x="380880" y="3049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ims2001034_usa" descr=""/>
            <p:cNvPicPr/>
            <p:nvPr/>
          </p:nvPicPr>
          <p:blipFill>
            <a:blip r:embed="rId5"/>
            <a:stretch/>
          </p:blipFill>
          <p:spPr>
            <a:xfrm>
              <a:off x="6095880" y="3049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ims2001033_usa" descr=""/>
            <p:cNvPicPr/>
            <p:nvPr/>
          </p:nvPicPr>
          <p:blipFill>
            <a:blip r:embed="rId6"/>
            <a:stretch/>
          </p:blipFill>
          <p:spPr>
            <a:xfrm>
              <a:off x="3238560" y="3049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050120" y="26668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1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06360" y="26668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2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63680" y="26668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3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680" y="54100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4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07800" y="54100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5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65120" y="54100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6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4267080"/>
            <a:ext cx="87519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Helvetica-Narrow"/>
                <a:ea typeface="MS Mincho"/>
              </a:rPr>
              <a:t>old model formulation</a:t>
            </a: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(upper 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bulk of incoming energy melts/sublimates snow =&gt; skin temp held at 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2-m air temp held near 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Helvetica-Narrow"/>
                <a:ea typeface="MS Mincho"/>
              </a:rPr>
              <a:t>new model formulation</a:t>
            </a:r>
            <a:r>
              <a:rPr b="0" lang="en-US" sz="2000" spc="-1" strike="noStrike">
                <a:solidFill>
                  <a:srgbClr val="cc0000"/>
                </a:solidFill>
                <a:latin typeface="Helvetica-Narrow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upper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patchy snow cover for snow depth less than threshold depth (veg-type dependent) =&gt; reduces surface albedo =&gt; more available energy at s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skin temp can exceed 0 C =&gt; 2-m air temp rises further above freez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1240" y="0"/>
            <a:ext cx="1382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30680" y="0"/>
            <a:ext cx="8318880" cy="958320"/>
            <a:chOff x="130680" y="0"/>
            <a:chExt cx="8318880" cy="958320"/>
          </a:xfrm>
        </p:grpSpPr>
        <p:sp>
          <p:nvSpPr>
            <p:cNvPr id="361" name=""/>
            <p:cNvSpPr/>
            <p:nvPr/>
          </p:nvSpPr>
          <p:spPr>
            <a:xfrm>
              <a:off x="130680" y="0"/>
              <a:ext cx="83188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Helvetica-Narrow"/>
                  <a:ea typeface="MS Mincho"/>
                </a:rPr>
                <a:t>REDUCING SURFACE COOL BIAS OVER MELTING S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FEB 2001 ETA MODEL RETROSPECTIVE RU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22280" y="439560"/>
              <a:ext cx="172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04920" y="9144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warm advection/melting snowpack case:  00Z 02 FEB 2001, 60-hr model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4000" y="1371240"/>
            <a:ext cx="8950680" cy="2564280"/>
            <a:chOff x="54000" y="1371240"/>
            <a:chExt cx="8950680" cy="2564280"/>
          </a:xfrm>
        </p:grpSpPr>
        <p:sp>
          <p:nvSpPr>
            <p:cNvPr id="365" name=""/>
            <p:cNvSpPr/>
            <p:nvPr/>
          </p:nvSpPr>
          <p:spPr>
            <a:xfrm>
              <a:off x="591120" y="3536640"/>
              <a:ext cx="450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2-m air temp, current for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20840" y="3519360"/>
              <a:ext cx="40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2-m air temp, new for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725620_flux2_2001020200_eta_SWE" descr=""/>
            <p:cNvPicPr/>
            <p:nvPr/>
          </p:nvPicPr>
          <p:blipFill>
            <a:blip r:embed="rId1"/>
            <a:stretch/>
          </p:blipFill>
          <p:spPr>
            <a:xfrm>
              <a:off x="700200" y="1373040"/>
              <a:ext cx="415296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725620_flux1_2001020200_Tsfc" descr=""/>
            <p:cNvPicPr/>
            <p:nvPr/>
          </p:nvPicPr>
          <p:blipFill>
            <a:blip r:embed="rId2"/>
            <a:stretch/>
          </p:blipFill>
          <p:spPr>
            <a:xfrm>
              <a:off x="696960" y="2017440"/>
              <a:ext cx="412920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725620.sfc_2001020200_T2m" descr=""/>
            <p:cNvPicPr/>
            <p:nvPr/>
          </p:nvPicPr>
          <p:blipFill>
            <a:blip r:embed="rId3"/>
            <a:stretch/>
          </p:blipFill>
          <p:spPr>
            <a:xfrm>
              <a:off x="727200" y="2663640"/>
              <a:ext cx="40845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725620_flux2_2001020200_legend" descr=""/>
            <p:cNvPicPr/>
            <p:nvPr/>
          </p:nvPicPr>
          <p:blipFill>
            <a:blip r:embed="rId4"/>
            <a:stretch/>
          </p:blipFill>
          <p:spPr>
            <a:xfrm>
              <a:off x="706320" y="3322440"/>
              <a:ext cx="40737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895480" y="1485720"/>
              <a:ext cx="19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North Platt, Ne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1640" y="2900160"/>
              <a:ext cx="369864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075040" y="1372680"/>
              <a:ext cx="0" cy="200340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24640" y="27367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93200" y="1949400"/>
              <a:ext cx="59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=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71640" y="2292120"/>
              <a:ext cx="369864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2200" y="1393560"/>
              <a:ext cx="71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s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me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1480" y="2027160"/>
              <a:ext cx="71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s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te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000" y="2662200"/>
              <a:ext cx="89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2-m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te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0960" y="304956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model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10200" y="231588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obs&gt;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363400" y="2536560"/>
              <a:ext cx="182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2193840" y="2923560"/>
              <a:ext cx="1144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54480" y="2109600"/>
              <a:ext cx="182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7240" y="2109600"/>
              <a:ext cx="18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49960" y="335088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18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725620_flux2_2001020200_etay_SWE" descr=""/>
            <p:cNvPicPr/>
            <p:nvPr/>
          </p:nvPicPr>
          <p:blipFill>
            <a:blip r:embed="rId5"/>
            <a:stretch/>
          </p:blipFill>
          <p:spPr>
            <a:xfrm>
              <a:off x="4799160" y="1371600"/>
              <a:ext cx="4101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725620_flux1_2001020200_etay_Tsfc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4794120" y="2027880"/>
              <a:ext cx="415296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956280" y="1458720"/>
              <a:ext cx="19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North Platt, Ne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725620_flux2_2001020200_legend" descr=""/>
            <p:cNvPicPr/>
            <p:nvPr/>
          </p:nvPicPr>
          <p:blipFill>
            <a:blip r:embed="rId7"/>
            <a:stretch/>
          </p:blipFill>
          <p:spPr>
            <a:xfrm>
              <a:off x="4809960" y="3314520"/>
              <a:ext cx="40737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725620.sfc_2001020200_etay_T2m" descr=""/>
            <p:cNvPicPr/>
            <p:nvPr/>
          </p:nvPicPr>
          <p:blipFill>
            <a:blip r:embed="rId8"/>
            <a:stretch/>
          </p:blipFill>
          <p:spPr>
            <a:xfrm>
              <a:off x="4830840" y="2663640"/>
              <a:ext cx="408312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091120" y="2893680"/>
              <a:ext cx="369900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181560" y="1371240"/>
              <a:ext cx="0" cy="198756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34600" y="335088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18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03000" y="271908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2040" y="2384280"/>
              <a:ext cx="369720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06560" y="2003400"/>
              <a:ext cx="59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&gt;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75280" y="2181240"/>
              <a:ext cx="182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72640" y="2955600"/>
              <a:ext cx="164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obs,model&gt;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273360" y="2920680"/>
              <a:ext cx="182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28600" y="554688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he new formulation has less 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cold bias 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in 2-m air temp than old operational formulation over this region of shallow melting snowp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obs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plotted number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model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color-shaded contouring; North Platt, Neb. circ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86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Helvetica-Narrow"/>
                <a:ea typeface="MS Mincho"/>
              </a:rPr>
              <a:t>REDUCING SURFACE COOL BIAS OVER MELTING S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02 FEB 2001 warm advection/melting snowpack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02Feb2001_18hr_EtaT2m_obsT2m_NE" descr=""/>
          <p:cNvPicPr/>
          <p:nvPr/>
        </p:nvPicPr>
        <p:blipFill>
          <a:blip r:embed="rId1"/>
          <a:stretch/>
        </p:blipFill>
        <p:spPr>
          <a:xfrm>
            <a:off x="623880" y="1449360"/>
            <a:ext cx="3970440" cy="3416400"/>
          </a:xfrm>
          <a:prstGeom prst="rect">
            <a:avLst/>
          </a:prstGeom>
          <a:ln w="0">
            <a:noFill/>
          </a:ln>
        </p:spPr>
      </p:pic>
      <p:pic>
        <p:nvPicPr>
          <p:cNvPr id="404" name="02Feb2001_18hr_EtayT2m_obsT2m_NE" descr=""/>
          <p:cNvPicPr/>
          <p:nvPr/>
        </p:nvPicPr>
        <p:blipFill>
          <a:blip r:embed="rId2"/>
          <a:stretch/>
        </p:blipFill>
        <p:spPr>
          <a:xfrm>
            <a:off x="4586400" y="1449360"/>
            <a:ext cx="3970080" cy="34164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83760" y="495288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18Z 2-m air temp, old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3800" y="4952880"/>
            <a:ext cx="434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18Z 2-m air temp, new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82920" y="3225960"/>
            <a:ext cx="139680" cy="16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11760" y="3232080"/>
            <a:ext cx="140040" cy="16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west_cold_T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50400" cy="5433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27040" y="304920"/>
            <a:ext cx="839196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ean diurnal cycle of 2-m air temperature of observations and Eta model 48-hr forecast from 12Z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veraged over 30-day WINTER period of 01 Feb –  01 Mar 2001 at all surface stations over East U.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o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l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P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hort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ng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186480" y="36889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1720" y="630864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1640" y="6157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868160" y="6183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98920" y="5805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5120" y="150804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soil_725315.sfc_2000083000_key" descr=""/>
          <p:cNvPicPr/>
          <p:nvPr/>
        </p:nvPicPr>
        <p:blipFill>
          <a:blip r:embed="rId1"/>
          <a:stretch/>
        </p:blipFill>
        <p:spPr>
          <a:xfrm>
            <a:off x="1600200" y="5078520"/>
            <a:ext cx="7135920" cy="377640"/>
          </a:xfrm>
          <a:prstGeom prst="rect">
            <a:avLst/>
          </a:prstGeom>
          <a:ln w="0">
            <a:noFill/>
          </a:ln>
        </p:spPr>
      </p:pic>
      <p:pic>
        <p:nvPicPr>
          <p:cNvPr id="418" name="ctl_725315.sfc_2000083000_T_Td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7315200" cy="1954080"/>
          </a:xfrm>
          <a:prstGeom prst="rect">
            <a:avLst/>
          </a:prstGeom>
          <a:ln w="0">
            <a:noFill/>
          </a:ln>
        </p:spPr>
      </p:pic>
      <p:pic>
        <p:nvPicPr>
          <p:cNvPr id="419" name="soil_725315.sfc_2000083000_T_Td" descr=""/>
          <p:cNvPicPr/>
          <p:nvPr/>
        </p:nvPicPr>
        <p:blipFill>
          <a:blip r:embed="rId3"/>
          <a:stretch/>
        </p:blipFill>
        <p:spPr>
          <a:xfrm>
            <a:off x="1371600" y="3402000"/>
            <a:ext cx="7377120" cy="17049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57200" y="54100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-95040" y="392040"/>
            <a:ext cx="9855000" cy="932040"/>
            <a:chOff x="-95040" y="392040"/>
            <a:chExt cx="9855000" cy="932040"/>
          </a:xfrm>
        </p:grpSpPr>
        <p:sp>
          <p:nvSpPr>
            <p:cNvPr id="422" name=""/>
            <p:cNvSpPr/>
            <p:nvPr/>
          </p:nvSpPr>
          <p:spPr>
            <a:xfrm>
              <a:off x="-95040" y="392040"/>
              <a:ext cx="985500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Helvetica-Narrow"/>
                  <a:ea typeface="MS Mincho"/>
                </a:rPr>
                <a:t>Reducing Summer warm bias over non-sparse green vege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00Z, 30 AUG 2000, 60-hr Eta model r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46080" y="804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24560" y="1371600"/>
            <a:ext cx="1381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723920" y="1599480"/>
            <a:ext cx="1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4560" y="3247920"/>
            <a:ext cx="1381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1039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mpaign, Illin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648320" y="3581280"/>
            <a:ext cx="18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5715000"/>
            <a:ext cx="76964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Solid Line:         surface station 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Dashed Line:     coupled Eta / NOAH model fore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hysics change: ground heat flux under vegetation, canopy resistance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66000" y="3780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Collabo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4920" y="395280"/>
            <a:ext cx="2286000" cy="581400"/>
            <a:chOff x="304920" y="395280"/>
            <a:chExt cx="2286000" cy="581400"/>
          </a:xfrm>
        </p:grpSpPr>
        <p:pic>
          <p:nvPicPr>
            <p:cNvPr id="57" name="GAPP_logo" descr=""/>
            <p:cNvPicPr/>
            <p:nvPr/>
          </p:nvPicPr>
          <p:blipFill>
            <a:blip r:embed="rId1"/>
            <a:stretch/>
          </p:blipFill>
          <p:spPr>
            <a:xfrm>
              <a:off x="1504800" y="407880"/>
              <a:ext cx="108612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04920" y="395280"/>
              <a:ext cx="128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  <a:ea typeface="MS Mincho"/>
                </a:rPr>
                <a:t>GAP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34800" y="328680"/>
            <a:ext cx="2052000" cy="712800"/>
            <a:chOff x="6634800" y="328680"/>
            <a:chExt cx="2052000" cy="712800"/>
          </a:xfrm>
        </p:grpSpPr>
        <p:pic>
          <p:nvPicPr>
            <p:cNvPr id="60" name="GCIP_logo" descr=""/>
            <p:cNvPicPr/>
            <p:nvPr/>
          </p:nvPicPr>
          <p:blipFill>
            <a:blip r:embed="rId2"/>
            <a:stretch/>
          </p:blipFill>
          <p:spPr>
            <a:xfrm>
              <a:off x="7772400" y="3286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4800" y="39564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  <a:ea typeface="MS Mincho"/>
                </a:rPr>
                <a:t>GCI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10800" y="3360600"/>
            <a:ext cx="2513880" cy="911880"/>
            <a:chOff x="5410800" y="3360600"/>
            <a:chExt cx="2513880" cy="911880"/>
          </a:xfrm>
        </p:grpSpPr>
        <p:sp>
          <p:nvSpPr>
            <p:cNvPr id="63" name=""/>
            <p:cNvSpPr/>
            <p:nvPr/>
          </p:nvSpPr>
          <p:spPr>
            <a:xfrm>
              <a:off x="5639400" y="3740040"/>
              <a:ext cx="16117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ric W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ustin Sheff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410800" y="3360600"/>
              <a:ext cx="2513880" cy="459720"/>
              <a:chOff x="5410800" y="3360600"/>
              <a:chExt cx="25138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5410800" y="3360600"/>
                <a:ext cx="223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Princeton Univ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" name="Princeton_logo" descr=""/>
              <p:cNvPicPr/>
              <p:nvPr/>
            </p:nvPicPr>
            <p:blipFill>
              <a:blip r:embed="rId3"/>
              <a:stretch/>
            </p:blipFill>
            <p:spPr>
              <a:xfrm>
                <a:off x="7603920" y="3458880"/>
                <a:ext cx="320760" cy="31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7" name=""/>
          <p:cNvGrpSpPr/>
          <p:nvPr/>
        </p:nvGrpSpPr>
        <p:grpSpPr>
          <a:xfrm>
            <a:off x="5414400" y="1066680"/>
            <a:ext cx="2510280" cy="1156320"/>
            <a:chOff x="5414400" y="1066680"/>
            <a:chExt cx="2510280" cy="1156320"/>
          </a:xfrm>
        </p:grpSpPr>
        <p:sp>
          <p:nvSpPr>
            <p:cNvPr id="68" name=""/>
            <p:cNvSpPr/>
            <p:nvPr/>
          </p:nvSpPr>
          <p:spPr>
            <a:xfrm>
              <a:off x="5639760" y="1401840"/>
              <a:ext cx="141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n Tarpl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414400" y="1066680"/>
              <a:ext cx="2510280" cy="459720"/>
              <a:chOff x="5414400" y="1066680"/>
              <a:chExt cx="2510280" cy="459720"/>
            </a:xfrm>
          </p:grpSpPr>
          <p:sp>
            <p:nvSpPr>
              <p:cNvPr id="70" name=""/>
              <p:cNvSpPr/>
              <p:nvPr/>
            </p:nvSpPr>
            <p:spPr>
              <a:xfrm>
                <a:off x="5414400" y="1066680"/>
                <a:ext cx="226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OAA/NESD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" name="NESDIS_logo" descr=""/>
              <p:cNvPicPr/>
              <p:nvPr/>
            </p:nvPicPr>
            <p:blipFill>
              <a:blip r:embed="rId4"/>
              <a:stretch/>
            </p:blipFill>
            <p:spPr>
              <a:xfrm>
                <a:off x="7619760" y="114300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"/>
            <p:cNvSpPr/>
            <p:nvPr/>
          </p:nvSpPr>
          <p:spPr>
            <a:xfrm>
              <a:off x="5639040" y="1690560"/>
              <a:ext cx="15235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ruce Rams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ndy Bail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411880" y="5372280"/>
            <a:ext cx="2741400" cy="1139760"/>
            <a:chOff x="5411880" y="5372280"/>
            <a:chExt cx="2741400" cy="1139760"/>
          </a:xfrm>
        </p:grpSpPr>
        <p:sp>
          <p:nvSpPr>
            <p:cNvPr id="74" name=""/>
            <p:cNvSpPr/>
            <p:nvPr/>
          </p:nvSpPr>
          <p:spPr>
            <a:xfrm>
              <a:off x="5640480" y="5705280"/>
              <a:ext cx="20156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Soroosh Sorooshi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ames Shuttlewo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Luis Basti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1880" y="53722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Arizo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UnivAz_logo_a" descr=""/>
            <p:cNvPicPr/>
            <p:nvPr/>
          </p:nvPicPr>
          <p:blipFill>
            <a:blip r:embed="rId5"/>
            <a:stretch/>
          </p:blipFill>
          <p:spPr>
            <a:xfrm>
              <a:off x="7315200" y="5481360"/>
              <a:ext cx="838080" cy="1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UnivAz_logo_b" descr=""/>
            <p:cNvPicPr/>
            <p:nvPr/>
          </p:nvPicPr>
          <p:blipFill>
            <a:blip r:embed="rId6"/>
            <a:stretch/>
          </p:blipFill>
          <p:spPr>
            <a:xfrm>
              <a:off x="7404120" y="5595840"/>
              <a:ext cx="662040" cy="12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5412240" y="4365720"/>
            <a:ext cx="3045960" cy="911880"/>
            <a:chOff x="5412240" y="4365720"/>
            <a:chExt cx="3045960" cy="911880"/>
          </a:xfrm>
        </p:grpSpPr>
        <p:sp>
          <p:nvSpPr>
            <p:cNvPr id="79" name=""/>
            <p:cNvSpPr/>
            <p:nvPr/>
          </p:nvSpPr>
          <p:spPr>
            <a:xfrm>
              <a:off x="5637960" y="4745160"/>
              <a:ext cx="1995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ennis Lettenma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Laura Bow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12240" y="4365720"/>
              <a:ext cx="25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Washing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UWash_logo" descr=""/>
            <p:cNvPicPr/>
            <p:nvPr/>
          </p:nvPicPr>
          <p:blipFill>
            <a:blip r:embed="rId7"/>
            <a:stretch/>
          </p:blipFill>
          <p:spPr>
            <a:xfrm>
              <a:off x="7920000" y="4430880"/>
              <a:ext cx="538200" cy="2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5412960" y="2316240"/>
            <a:ext cx="1748520" cy="948960"/>
            <a:chOff x="5412960" y="2316240"/>
            <a:chExt cx="1748520" cy="948960"/>
          </a:xfrm>
        </p:grpSpPr>
        <p:sp>
          <p:nvSpPr>
            <p:cNvPr id="83" name=""/>
            <p:cNvSpPr/>
            <p:nvPr/>
          </p:nvSpPr>
          <p:spPr>
            <a:xfrm>
              <a:off x="5639760" y="265104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eorge Gay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412960" y="2316240"/>
              <a:ext cx="1368720" cy="459720"/>
              <a:chOff x="5412960" y="2316240"/>
              <a:chExt cx="1368720" cy="459720"/>
            </a:xfrm>
          </p:grpSpPr>
          <p:sp>
            <p:nvSpPr>
              <p:cNvPr id="85" name=""/>
              <p:cNvSpPr/>
              <p:nvPr/>
            </p:nvSpPr>
            <p:spPr>
              <a:xfrm>
                <a:off x="5412960" y="2316240"/>
                <a:ext cx="111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AFW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AFWA_logo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6760" y="2436480"/>
                <a:ext cx="3049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" name=""/>
            <p:cNvSpPr/>
            <p:nvPr/>
          </p:nvSpPr>
          <p:spPr>
            <a:xfrm>
              <a:off x="5638680" y="289692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erry Wegi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32200" y="2401920"/>
            <a:ext cx="2243520" cy="916560"/>
            <a:chOff x="232200" y="2401920"/>
            <a:chExt cx="2243520" cy="916560"/>
          </a:xfrm>
        </p:grpSpPr>
        <p:sp>
          <p:nvSpPr>
            <p:cNvPr id="89" name=""/>
            <p:cNvSpPr/>
            <p:nvPr/>
          </p:nvSpPr>
          <p:spPr>
            <a:xfrm>
              <a:off x="444960" y="2786040"/>
              <a:ext cx="20307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ayne Higg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uug Van den Do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32200" y="2401920"/>
              <a:ext cx="2030040" cy="459720"/>
              <a:chOff x="232200" y="2401920"/>
              <a:chExt cx="2030040" cy="459720"/>
            </a:xfrm>
          </p:grpSpPr>
          <p:sp>
            <p:nvSpPr>
              <p:cNvPr id="91" name=""/>
              <p:cNvSpPr/>
              <p:nvPr/>
            </p:nvSpPr>
            <p:spPr>
              <a:xfrm>
                <a:off x="232200" y="2401920"/>
                <a:ext cx="171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CEP/C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" name="cpc_logo" descr=""/>
              <p:cNvPicPr/>
              <p:nvPr/>
            </p:nvPicPr>
            <p:blipFill>
              <a:blip r:embed="rId9"/>
              <a:stretch/>
            </p:blipFill>
            <p:spPr>
              <a:xfrm>
                <a:off x="1957320" y="24782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3" name=""/>
          <p:cNvGrpSpPr/>
          <p:nvPr/>
        </p:nvGrpSpPr>
        <p:grpSpPr>
          <a:xfrm>
            <a:off x="231480" y="1066680"/>
            <a:ext cx="2283120" cy="1164960"/>
            <a:chOff x="231480" y="1066680"/>
            <a:chExt cx="2283120" cy="1164960"/>
          </a:xfrm>
        </p:grpSpPr>
        <p:sp>
          <p:nvSpPr>
            <p:cNvPr id="94" name=""/>
            <p:cNvSpPr/>
            <p:nvPr/>
          </p:nvSpPr>
          <p:spPr>
            <a:xfrm>
              <a:off x="432000" y="1393920"/>
              <a:ext cx="1497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en Mitch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ichael 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g Lohman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640" y="160992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1640" y="186552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480" y="1066680"/>
              <a:ext cx="180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NCEP/E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NCEP_logo" descr=""/>
            <p:cNvPicPr/>
            <p:nvPr/>
          </p:nvPicPr>
          <p:blipFill>
            <a:blip r:embed="rId10"/>
            <a:stretch/>
          </p:blipFill>
          <p:spPr>
            <a:xfrm>
              <a:off x="2057400" y="1172160"/>
              <a:ext cx="45720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230040" y="3487680"/>
            <a:ext cx="2540160" cy="915840"/>
            <a:chOff x="230040" y="3487680"/>
            <a:chExt cx="2540160" cy="915840"/>
          </a:xfrm>
        </p:grpSpPr>
        <p:sp>
          <p:nvSpPr>
            <p:cNvPr id="100" name=""/>
            <p:cNvSpPr/>
            <p:nvPr/>
          </p:nvSpPr>
          <p:spPr>
            <a:xfrm>
              <a:off x="419040" y="403524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achel Pin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760" y="380664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ugo Berb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0040" y="348768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UMd_logo" descr=""/>
            <p:cNvPicPr/>
            <p:nvPr/>
          </p:nvPicPr>
          <p:blipFill>
            <a:blip r:embed="rId11"/>
            <a:stretch/>
          </p:blipFill>
          <p:spPr>
            <a:xfrm>
              <a:off x="2428920" y="3546360"/>
              <a:ext cx="341280" cy="3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229680" y="4573440"/>
            <a:ext cx="2589480" cy="896040"/>
            <a:chOff x="229680" y="4573440"/>
            <a:chExt cx="2589480" cy="896040"/>
          </a:xfrm>
        </p:grpSpPr>
        <p:sp>
          <p:nvSpPr>
            <p:cNvPr id="105" name=""/>
            <p:cNvSpPr/>
            <p:nvPr/>
          </p:nvSpPr>
          <p:spPr>
            <a:xfrm>
              <a:off x="445680" y="4937040"/>
              <a:ext cx="14958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en Crawf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eff Bas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680" y="4573440"/>
              <a:ext cx="233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Oklah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OU_logo" descr=""/>
            <p:cNvPicPr/>
            <p:nvPr/>
          </p:nvPicPr>
          <p:blipFill>
            <a:blip r:embed="rId12"/>
            <a:stretch/>
          </p:blipFill>
          <p:spPr>
            <a:xfrm>
              <a:off x="2465280" y="4659120"/>
              <a:ext cx="353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230760" y="5638680"/>
            <a:ext cx="2512440" cy="895680"/>
            <a:chOff x="230760" y="5638680"/>
            <a:chExt cx="2512440" cy="895680"/>
          </a:xfrm>
        </p:grpSpPr>
        <p:sp>
          <p:nvSpPr>
            <p:cNvPr id="109" name=""/>
            <p:cNvSpPr/>
            <p:nvPr/>
          </p:nvSpPr>
          <p:spPr>
            <a:xfrm>
              <a:off x="445320" y="6001920"/>
              <a:ext cx="1395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lan Rob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Lifeng Lu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0760" y="563868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Rutgers Un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Rutgers_logo" descr=""/>
            <p:cNvPicPr/>
            <p:nvPr/>
          </p:nvPicPr>
          <p:blipFill>
            <a:blip r:embed="rId13"/>
            <a:stretch/>
          </p:blipFill>
          <p:spPr>
            <a:xfrm>
              <a:off x="2210040" y="5714640"/>
              <a:ext cx="5331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2973240" y="1066680"/>
            <a:ext cx="1879920" cy="1209600"/>
            <a:chOff x="2973240" y="1066680"/>
            <a:chExt cx="1879920" cy="1209600"/>
          </a:xfrm>
        </p:grpSpPr>
        <p:sp>
          <p:nvSpPr>
            <p:cNvPr id="113" name=""/>
            <p:cNvSpPr/>
            <p:nvPr/>
          </p:nvSpPr>
          <p:spPr>
            <a:xfrm>
              <a:off x="3189600" y="140796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ohn Schaa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88520" y="165888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Victor Ko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8880" y="1908000"/>
              <a:ext cx="15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Qingyun Du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973240" y="1066680"/>
              <a:ext cx="1879920" cy="459720"/>
              <a:chOff x="2973240" y="1066680"/>
              <a:chExt cx="1879920" cy="459720"/>
            </a:xfrm>
          </p:grpSpPr>
          <p:sp>
            <p:nvSpPr>
              <p:cNvPr id="117" name=""/>
              <p:cNvSpPr/>
              <p:nvPr/>
            </p:nvSpPr>
            <p:spPr>
              <a:xfrm>
                <a:off x="2973240" y="106668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WS/OH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OHD_logo_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60840" y="1162080"/>
                <a:ext cx="292320" cy="2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" name=""/>
          <p:cNvGrpSpPr/>
          <p:nvPr/>
        </p:nvGrpSpPr>
        <p:grpSpPr>
          <a:xfrm>
            <a:off x="2975400" y="4871880"/>
            <a:ext cx="2258640" cy="881640"/>
            <a:chOff x="2975400" y="4871880"/>
            <a:chExt cx="2258640" cy="881640"/>
          </a:xfrm>
        </p:grpSpPr>
        <p:sp>
          <p:nvSpPr>
            <p:cNvPr id="120" name=""/>
            <p:cNvSpPr/>
            <p:nvPr/>
          </p:nvSpPr>
          <p:spPr>
            <a:xfrm>
              <a:off x="3200400" y="5221080"/>
              <a:ext cx="15235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ilden Mey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on Pli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975400" y="4871880"/>
              <a:ext cx="2258640" cy="459720"/>
              <a:chOff x="2975400" y="4871880"/>
              <a:chExt cx="2258640" cy="459720"/>
            </a:xfrm>
          </p:grpSpPr>
          <p:sp>
            <p:nvSpPr>
              <p:cNvPr id="122" name=""/>
              <p:cNvSpPr/>
              <p:nvPr/>
            </p:nvSpPr>
            <p:spPr>
              <a:xfrm>
                <a:off x="2975400" y="4871880"/>
                <a:ext cx="180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OAA/A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ATDDlogo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76840" y="4951080"/>
                <a:ext cx="457200" cy="29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4" name=""/>
          <p:cNvGrpSpPr/>
          <p:nvPr/>
        </p:nvGrpSpPr>
        <p:grpSpPr>
          <a:xfrm>
            <a:off x="2972520" y="5715000"/>
            <a:ext cx="2135880" cy="796680"/>
            <a:chOff x="2972520" y="5715000"/>
            <a:chExt cx="2135880" cy="796680"/>
          </a:xfrm>
        </p:grpSpPr>
        <p:sp>
          <p:nvSpPr>
            <p:cNvPr id="125" name=""/>
            <p:cNvSpPr/>
            <p:nvPr/>
          </p:nvSpPr>
          <p:spPr>
            <a:xfrm>
              <a:off x="2972520" y="5715000"/>
              <a:ext cx="18586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Atmosph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86360" y="61434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lan Bet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vtcoat2" descr=""/>
            <p:cNvPicPr/>
            <p:nvPr/>
          </p:nvPicPr>
          <p:blipFill>
            <a:blip r:embed="rId16"/>
            <a:stretch/>
          </p:blipFill>
          <p:spPr>
            <a:xfrm>
              <a:off x="4800600" y="5821200"/>
              <a:ext cx="307800" cy="35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975400" y="2239920"/>
            <a:ext cx="2282400" cy="908640"/>
            <a:chOff x="2975400" y="2239920"/>
            <a:chExt cx="2282400" cy="908640"/>
          </a:xfrm>
        </p:grpSpPr>
        <p:sp>
          <p:nvSpPr>
            <p:cNvPr id="129" name=""/>
            <p:cNvSpPr/>
            <p:nvPr/>
          </p:nvSpPr>
          <p:spPr>
            <a:xfrm>
              <a:off x="3188520" y="2616120"/>
              <a:ext cx="1623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aul Ho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rian Cosgr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5400" y="2239920"/>
              <a:ext cx="19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NASA/GSF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NASA_GSFC_logo" descr=""/>
            <p:cNvPicPr/>
            <p:nvPr/>
          </p:nvPicPr>
          <p:blipFill>
            <a:blip r:embed="rId17"/>
            <a:stretch/>
          </p:blipFill>
          <p:spPr>
            <a:xfrm>
              <a:off x="4876920" y="2266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975760" y="3990960"/>
            <a:ext cx="1569960" cy="918000"/>
            <a:chOff x="2975760" y="3990960"/>
            <a:chExt cx="1569960" cy="918000"/>
          </a:xfrm>
        </p:grpSpPr>
        <p:sp>
          <p:nvSpPr>
            <p:cNvPr id="133" name=""/>
            <p:cNvSpPr/>
            <p:nvPr/>
          </p:nvSpPr>
          <p:spPr>
            <a:xfrm>
              <a:off x="3188520" y="4376520"/>
              <a:ext cx="1357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ei 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imy Dudh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975760" y="3990960"/>
              <a:ext cx="1359720" cy="459720"/>
              <a:chOff x="2975760" y="3990960"/>
              <a:chExt cx="1359720" cy="459720"/>
            </a:xfrm>
          </p:grpSpPr>
          <p:sp>
            <p:nvSpPr>
              <p:cNvPr id="135" name=""/>
              <p:cNvSpPr/>
              <p:nvPr/>
            </p:nvSpPr>
            <p:spPr>
              <a:xfrm>
                <a:off x="2975760" y="3990960"/>
                <a:ext cx="105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C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6" name="UCAR_logo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14720" y="4064040"/>
                <a:ext cx="320760" cy="30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7" name=""/>
          <p:cNvGrpSpPr/>
          <p:nvPr/>
        </p:nvGrpSpPr>
        <p:grpSpPr>
          <a:xfrm>
            <a:off x="2973960" y="3111480"/>
            <a:ext cx="1888560" cy="918000"/>
            <a:chOff x="2973960" y="3111480"/>
            <a:chExt cx="1888560" cy="918000"/>
          </a:xfrm>
        </p:grpSpPr>
        <p:sp>
          <p:nvSpPr>
            <p:cNvPr id="138" name=""/>
            <p:cNvSpPr/>
            <p:nvPr/>
          </p:nvSpPr>
          <p:spPr>
            <a:xfrm>
              <a:off x="3188160" y="3497040"/>
              <a:ext cx="1674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ike Fenness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aul Dirme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3960" y="31114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C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COLA_logo" descr=""/>
            <p:cNvPicPr/>
            <p:nvPr/>
          </p:nvPicPr>
          <p:blipFill>
            <a:blip r:embed="rId19"/>
            <a:stretch/>
          </p:blipFill>
          <p:spPr>
            <a:xfrm>
              <a:off x="4038480" y="3187440"/>
              <a:ext cx="407520" cy="33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east_warm_T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50040" cy="54338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2512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5760" y="630864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09120" y="6183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09560" y="6183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304920"/>
            <a:ext cx="838224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ean diurnal cycle of 2-m air temperature of observations and Eta model 48-hr forecast from 12Z, averaged over 30-day SUMMER period of 12 Aug –12 Sep 2000 at all surface stations over East U.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o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l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P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hort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ng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186480" y="36828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988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4160" y="176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2M_00_JAN2002-DEC2002_Eta_east" descr=""/>
          <p:cNvPicPr/>
          <p:nvPr/>
        </p:nvPicPr>
        <p:blipFill>
          <a:blip r:embed="rId1"/>
          <a:stretch/>
        </p:blipFill>
        <p:spPr>
          <a:xfrm>
            <a:off x="838080" y="102888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914400" y="152280"/>
            <a:ext cx="72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m Air Temp Bias: 48-hr Ops Eta Forecast valid at 00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2M_12_diurnal_JUL2002_east_Eta" descr=""/>
          <p:cNvPicPr/>
          <p:nvPr/>
        </p:nvPicPr>
        <p:blipFill>
          <a:blip r:embed="rId1"/>
          <a:stretch/>
        </p:blipFill>
        <p:spPr>
          <a:xfrm>
            <a:off x="762120" y="102888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82240" y="152280"/>
            <a:ext cx="87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-m Air Temperature: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nthly mean diurnal cycle over 48-h fcst: Obs solid, model dash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H2M_12_diurnal_JUL2002_east_Eta" descr=""/>
          <p:cNvPicPr/>
          <p:nvPr/>
        </p:nvPicPr>
        <p:blipFill>
          <a:blip r:embed="rId1"/>
          <a:stretch/>
        </p:blipFill>
        <p:spPr>
          <a:xfrm>
            <a:off x="914400" y="102888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-9720" y="0"/>
            <a:ext cx="87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-m Relative Humidity (percent):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nthly mean diurnal cycle over 48-h fcst: Obs solid, model dash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76520" y="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-LDAS Design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Uncoupled Appro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523880"/>
            <a:ext cx="838188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Force models with 4DDA surface meteorology (Eta/EDAS), except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use actual observed precipi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gage-only daily precip analysis disaggregated to hourly by radar product)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and hourly downward solar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inso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derived from GOES satelli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93"/>
                </a:solidFill>
                <a:latin typeface="Times New Roman"/>
              </a:rPr>
              <a:t>2. Use 4 different land surface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A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AA/NWS/NC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OSA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SA/GSF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V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rinceton U./ U. Washing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acr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AA/OH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93"/>
                </a:solidFill>
                <a:latin typeface="Times New Roman"/>
              </a:rPr>
              <a:t>3.  Evaluate results with all available observations, including soil moisture, soil temperature, surface fluxes, satellite skin temperature, snow cover and run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LDASnewTRANS" descr=""/>
          <p:cNvPicPr/>
          <p:nvPr/>
        </p:nvPicPr>
        <p:blipFill>
          <a:blip r:embed="rId1"/>
          <a:stretch/>
        </p:blipFill>
        <p:spPr>
          <a:xfrm>
            <a:off x="152280" y="0"/>
            <a:ext cx="1292400" cy="15559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8290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137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LDASnewTRANS" descr=""/>
          <p:cNvPicPr/>
          <p:nvPr/>
        </p:nvPicPr>
        <p:blipFill>
          <a:blip r:embed="rId2"/>
          <a:stretch/>
        </p:blipFill>
        <p:spPr>
          <a:xfrm>
            <a:off x="7620120" y="0"/>
            <a:ext cx="12920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1295280"/>
            <a:ext cx="868680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9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L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5 Apr 1999 to 15 Dec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CE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ltime for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901"/>
              </a:spcAft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TROSP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1 Oct 1996 to 30 Sep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Mandated largely by spin-up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assembled retrospective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gins NCEP/CPC reprocessed precipitation forc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gages obs, more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ker U.Md reprocessed solar insolation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cloud screening, more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tgers University</a:t>
            </a:r>
            <a:r>
              <a:rPr b="1" lang="en-US" sz="2400" spc="-1" strike="noStrike">
                <a:solidFill>
                  <a:srgbClr val="0d0d93"/>
                </a:solidFill>
                <a:latin typeface="Times New Roman"/>
              </a:rPr>
              <a:t> compared the soil moisture, soil temperature, surface flux results from the retrospective LDAS runs to observations over Oklahoma/Kansas for last retro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DAS Run Modes: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) Realtime, 2) Retro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lot_modeled_evap" descr=""/>
          <p:cNvPicPr/>
          <p:nvPr/>
        </p:nvPicPr>
        <p:blipFill>
          <a:blip r:embed="rId1"/>
          <a:stretch/>
        </p:blipFill>
        <p:spPr>
          <a:xfrm>
            <a:off x="171360" y="399960"/>
            <a:ext cx="8801280" cy="60292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7040" y="0"/>
            <a:ext cx="73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AS Model Mean Annual Evaporation (mm) over Oct 97 – Sep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37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lot_modeled_runoff" descr=""/>
          <p:cNvPicPr/>
          <p:nvPr/>
        </p:nvPicPr>
        <p:blipFill>
          <a:blip r:embed="rId1"/>
          <a:stretch/>
        </p:blipFill>
        <p:spPr>
          <a:xfrm>
            <a:off x="343080" y="395280"/>
            <a:ext cx="8800920" cy="60483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04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86000" y="0"/>
            <a:ext cx="67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AS Model Mean Annual Runoff (mm) over Oct 97 – Sep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380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36200" y="422280"/>
            <a:ext cx="7697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LDAS Simulated River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030320" y="1525680"/>
            <a:ext cx="3301920" cy="24526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830840" y="1536840"/>
            <a:ext cx="3308400" cy="24573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990720" y="4230720"/>
            <a:ext cx="3316320" cy="24638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4835520" y="4233960"/>
            <a:ext cx="3316320" cy="24638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436400" y="125244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pstream area [log10(km^2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83800" y="1278000"/>
            <a:ext cx="24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avel time to outlet [day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4280" y="40845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rge River bas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9080" y="407052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iver flow direction 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88360" y="62118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 Fork of White River at Columbus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lot_streamflow_03364000_detail2" descr=""/>
          <p:cNvPicPr/>
          <p:nvPr/>
        </p:nvPicPr>
        <p:blipFill>
          <a:blip r:embed="rId1"/>
          <a:stretch/>
        </p:blipFill>
        <p:spPr>
          <a:xfrm>
            <a:off x="0" y="316080"/>
            <a:ext cx="880128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pers recently submitted to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CIP Special Issue of JGR</a:t>
            </a:r>
            <a:br>
              <a:rPr sz="3200"/>
            </a:b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Show vugraphs and pass out C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pers on Coupled Eta/Noah and 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 et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bery et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pers on Uncoupled NL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LDAS: N. American Land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chell et al. overview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companion papers by NLDAS collabo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lot_stats_mean3" descr=""/>
          <p:cNvPicPr/>
          <p:nvPr/>
        </p:nvPicPr>
        <p:blipFill>
          <a:blip r:embed="rId1"/>
          <a:stretch/>
        </p:blipFill>
        <p:spPr>
          <a:xfrm>
            <a:off x="343080" y="0"/>
            <a:ext cx="8800920" cy="62197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22360" y="6237360"/>
            <a:ext cx="81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annual modeled normalized model runoff bias: Oct 97-Sep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annual-evap-vs-runoff_98-99_4-quads" descr=""/>
          <p:cNvPicPr/>
          <p:nvPr/>
        </p:nvPicPr>
        <p:blipFill>
          <a:blip r:embed="rId1"/>
          <a:stretch/>
        </p:blipFill>
        <p:spPr>
          <a:xfrm>
            <a:off x="0" y="0"/>
            <a:ext cx="4584600" cy="3960720"/>
          </a:xfrm>
          <a:prstGeom prst="rect">
            <a:avLst/>
          </a:prstGeom>
          <a:ln w="0">
            <a:noFill/>
          </a:ln>
        </p:spPr>
      </p:pic>
      <p:pic>
        <p:nvPicPr>
          <p:cNvPr id="475" name="plot_evap_runoff_basins" descr=""/>
          <p:cNvPicPr/>
          <p:nvPr/>
        </p:nvPicPr>
        <p:blipFill>
          <a:blip r:embed="rId2"/>
          <a:stretch/>
        </p:blipFill>
        <p:spPr>
          <a:xfrm>
            <a:off x="4687920" y="0"/>
            <a:ext cx="4456080" cy="39146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608520" y="822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78320" y="13287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03760" y="1677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9200" y="22780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42512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9142200" cy="6323040"/>
            <a:chOff x="0" y="0"/>
            <a:chExt cx="9142200" cy="6323040"/>
          </a:xfrm>
        </p:grpSpPr>
        <p:graphicFrame>
          <p:nvGraphicFramePr>
            <p:cNvPr id="482" name=""/>
            <p:cNvGraphicFramePr/>
            <p:nvPr/>
          </p:nvGraphicFramePr>
          <p:xfrm>
            <a:off x="4560840" y="0"/>
            <a:ext cx="4581360" cy="3169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60840" y="0"/>
                      <a:ext cx="4581360" cy="31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4" name=""/>
            <p:cNvGraphicFramePr/>
            <p:nvPr/>
          </p:nvGraphicFramePr>
          <p:xfrm>
            <a:off x="0" y="3169440"/>
            <a:ext cx="4574520" cy="31536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169440"/>
                      <a:ext cx="4574520" cy="31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6" name=""/>
            <p:cNvGraphicFramePr/>
            <p:nvPr/>
          </p:nvGraphicFramePr>
          <p:xfrm>
            <a:off x="0" y="0"/>
            <a:ext cx="4574520" cy="31694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0"/>
                      <a:ext cx="4574520" cy="31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"/>
            <p:cNvGraphicFramePr/>
            <p:nvPr/>
          </p:nvGraphicFramePr>
          <p:xfrm>
            <a:off x="4574520" y="3169440"/>
            <a:ext cx="4567680" cy="31536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74520" y="3169440"/>
                      <a:ext cx="4567680" cy="31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0" name=""/>
          <p:cNvSpPr/>
          <p:nvPr/>
        </p:nvSpPr>
        <p:spPr>
          <a:xfrm>
            <a:off x="522360" y="634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fig_soilm" descr=""/>
          <p:cNvPicPr/>
          <p:nvPr/>
        </p:nvPicPr>
        <p:blipFill>
          <a:blip r:embed="rId1"/>
          <a:stretch/>
        </p:blipFill>
        <p:spPr>
          <a:xfrm>
            <a:off x="248616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18880" y="276696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Robock 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fig_diurnalflux_EF-0_APR_99" descr=""/>
          <p:cNvPicPr/>
          <p:nvPr/>
        </p:nvPicPr>
        <p:blipFill>
          <a:blip r:embed="rId1"/>
          <a:stretch/>
        </p:blipFill>
        <p:spPr>
          <a:xfrm>
            <a:off x="4514760" y="882720"/>
            <a:ext cx="4629240" cy="5076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620720" y="41580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78880" y="37476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fig_diurnalflux_EF-0_JUL_99" descr=""/>
          <p:cNvPicPr/>
          <p:nvPr/>
        </p:nvPicPr>
        <p:blipFill>
          <a:blip r:embed="rId2"/>
          <a:stretch/>
        </p:blipFill>
        <p:spPr>
          <a:xfrm>
            <a:off x="0" y="896760"/>
            <a:ext cx="4610160" cy="50770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623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22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GP ARM/CART Monthly Mean Diurnal Cycle of Surface Energy Flu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skintemp_diurnal_E000_EF-0.APR.99" descr=""/>
          <p:cNvPicPr/>
          <p:nvPr/>
        </p:nvPicPr>
        <p:blipFill>
          <a:blip r:embed="rId1"/>
          <a:stretch/>
        </p:blipFill>
        <p:spPr>
          <a:xfrm>
            <a:off x="4381560" y="1114560"/>
            <a:ext cx="4762440" cy="4560840"/>
          </a:xfrm>
          <a:prstGeom prst="rect">
            <a:avLst/>
          </a:prstGeom>
          <a:ln w="0">
            <a:noFill/>
          </a:ln>
        </p:spPr>
      </p:pic>
      <p:pic>
        <p:nvPicPr>
          <p:cNvPr id="499" name="skintemp_diurnal_E000_EF-0.JUL.99" descr=""/>
          <p:cNvPicPr/>
          <p:nvPr/>
        </p:nvPicPr>
        <p:blipFill>
          <a:blip r:embed="rId2"/>
          <a:stretch/>
        </p:blipFill>
        <p:spPr>
          <a:xfrm>
            <a:off x="0" y="1182600"/>
            <a:ext cx="4762440" cy="4395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147720" y="927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69760" y="92880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49600" y="6138720"/>
            <a:ext cx="71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24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thly Mean Diurnal Cycle of Surface Sk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fig_aero_cond" descr=""/>
          <p:cNvPicPr/>
          <p:nvPr/>
        </p:nvPicPr>
        <p:blipFill>
          <a:blip r:embed="rId1"/>
          <a:stretch/>
        </p:blipFill>
        <p:spPr>
          <a:xfrm>
            <a:off x="0" y="765000"/>
            <a:ext cx="4727520" cy="36435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176120" y="13003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CZIL_ratio" descr=""/>
          <p:cNvPicPr/>
          <p:nvPr/>
        </p:nvPicPr>
        <p:blipFill>
          <a:blip r:embed="rId2"/>
          <a:stretch/>
        </p:blipFill>
        <p:spPr>
          <a:xfrm>
            <a:off x="4944960" y="1014480"/>
            <a:ext cx="39751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1880" y="155520"/>
            <a:ext cx="82170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ystems Using the Noah Lan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PERATION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Eta/E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CEP Eta Model and Eta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FS/G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CEP Global Forecast System (older version of Noa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RM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ir Force Agricultural Meteorological Model (US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MONSTRATION TESTB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Eta-R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a Regional Climate Model, 2-4 month seasonal 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ta R/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a-based Regional Reanalysis (underway, 1979-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CEP Global Model (most current Noah 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NLDAS Real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N. American Land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NLDAS Retrosp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50-year by CPC (for drought monito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ASA/NCEP Global Land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M5/No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N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F/No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NCAR and NC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PS/No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Center for Analysis &amp; Prediction of Storms (CA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the NCEP Mesoscal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a Model via Land-Surface Initi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ta improvemen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2 meter air temperature and hum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10 meter wind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BL T and Td pro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onvective stability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ntegrated moisture flux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ecipitation and cloud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0"/>
            <a:ext cx="8673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elvetica Narrow"/>
              </a:rPr>
              <a:t>Interannual variability of North American Monsoon - </a:t>
            </a:r>
            <a:r>
              <a:rPr b="1" lang="en-US" sz="2200" spc="-1" strike="noStrike">
                <a:solidFill>
                  <a:srgbClr val="cc3300"/>
                </a:solidFill>
                <a:latin typeface="Helvetica Narrow"/>
              </a:rPr>
              <a:t>interior Southw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3124080" y="533520"/>
            <a:ext cx="3132360" cy="2133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533520"/>
            <a:ext cx="31129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609480" y="1905120"/>
            <a:ext cx="1663920" cy="787320"/>
            <a:chOff x="609480" y="1905120"/>
            <a:chExt cx="1663920" cy="787320"/>
          </a:xfrm>
        </p:grpSpPr>
        <p:sp>
          <p:nvSpPr>
            <p:cNvPr id="152" name=""/>
            <p:cNvSpPr/>
            <p:nvPr/>
          </p:nvSpPr>
          <p:spPr>
            <a:xfrm>
              <a:off x="1600200" y="2286000"/>
              <a:ext cx="67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3333cc"/>
                  </a:solidFill>
                  <a:latin typeface="Helvetica Narrow"/>
                </a:rPr>
                <a:t>mois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1905120"/>
              <a:ext cx="10670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838080" y="6029280"/>
            <a:ext cx="8031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28600"/>
            <a:ext cx="1403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230040"/>
            <a:ext cx="1401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28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20010731_30day" descr=""/>
          <p:cNvPicPr/>
          <p:nvPr/>
        </p:nvPicPr>
        <p:blipFill>
          <a:blip r:embed="rId3"/>
          <a:srcRect l="1295" t="6556" r="59291" b="60538"/>
          <a:stretch/>
        </p:blipFill>
        <p:spPr>
          <a:xfrm>
            <a:off x="6248520" y="533520"/>
            <a:ext cx="2895480" cy="213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60520" y="4649760"/>
            <a:ext cx="209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400" y="5592600"/>
            <a:ext cx="17964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88840" y="528804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44520" y="487692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0" t="6923" r="0" b="0"/>
          <a:stretch/>
        </p:blipFill>
        <p:spPr>
          <a:xfrm>
            <a:off x="0" y="4648320"/>
            <a:ext cx="2948040" cy="204948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284040" y="6629400"/>
            <a:ext cx="2473200" cy="165240"/>
            <a:chOff x="284040" y="6629400"/>
            <a:chExt cx="2473200" cy="165240"/>
          </a:xfrm>
        </p:grpSpPr>
        <p:sp>
          <p:nvSpPr>
            <p:cNvPr id="165" name=""/>
            <p:cNvSpPr/>
            <p:nvPr/>
          </p:nvSpPr>
          <p:spPr>
            <a:xfrm>
              <a:off x="28404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696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572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756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5384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1800" y="4732200"/>
            <a:ext cx="2403360" cy="135000"/>
            <a:chOff x="361800" y="4732200"/>
            <a:chExt cx="2403360" cy="135000"/>
          </a:xfrm>
        </p:grpSpPr>
        <p:sp>
          <p:nvSpPr>
            <p:cNvPr id="171" name=""/>
            <p:cNvSpPr/>
            <p:nvPr/>
          </p:nvSpPr>
          <p:spPr>
            <a:xfrm>
              <a:off x="2458080" y="4732200"/>
              <a:ext cx="307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29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61800" y="4830840"/>
              <a:ext cx="2091960" cy="0"/>
              <a:chOff x="361800" y="4830840"/>
              <a:chExt cx="2091960" cy="0"/>
            </a:xfrm>
          </p:grpSpPr>
          <p:sp>
            <p:nvSpPr>
              <p:cNvPr id="173" name=""/>
              <p:cNvSpPr/>
              <p:nvPr/>
            </p:nvSpPr>
            <p:spPr>
              <a:xfrm>
                <a:off x="2211840" y="4830840"/>
                <a:ext cx="241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82880" y="4830840"/>
                <a:ext cx="826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1800" y="4830840"/>
                <a:ext cx="4550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 rot="10800000">
            <a:off x="29880" y="5002200"/>
            <a:ext cx="106200" cy="439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4648320"/>
            <a:ext cx="201600" cy="1915560"/>
            <a:chOff x="0" y="4648320"/>
            <a:chExt cx="201600" cy="1915560"/>
          </a:xfrm>
        </p:grpSpPr>
        <p:sp>
          <p:nvSpPr>
            <p:cNvPr id="178" name=""/>
            <p:cNvSpPr/>
            <p:nvPr/>
          </p:nvSpPr>
          <p:spPr>
            <a:xfrm>
              <a:off x="7560" y="6397560"/>
              <a:ext cx="1936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521320"/>
              <a:ext cx="2001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648320"/>
              <a:ext cx="2016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 rot="10800000">
            <a:off x="2900520" y="5013000"/>
            <a:ext cx="110880" cy="4395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4191120"/>
            <a:ext cx="1612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rcRect l="0" t="6923" r="0" b="0"/>
          <a:stretch/>
        </p:blipFill>
        <p:spPr>
          <a:xfrm>
            <a:off x="2895480" y="4656240"/>
            <a:ext cx="3049560" cy="204948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971800" y="4800600"/>
            <a:ext cx="208080" cy="1736640"/>
            <a:chOff x="2971800" y="4800600"/>
            <a:chExt cx="208080" cy="1736640"/>
          </a:xfrm>
        </p:grpSpPr>
        <p:sp>
          <p:nvSpPr>
            <p:cNvPr id="185" name=""/>
            <p:cNvSpPr/>
            <p:nvPr/>
          </p:nvSpPr>
          <p:spPr>
            <a:xfrm>
              <a:off x="2971800" y="6370560"/>
              <a:ext cx="198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1800" y="5587920"/>
              <a:ext cx="2080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800600"/>
              <a:ext cx="205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200400" y="6629400"/>
            <a:ext cx="2558520" cy="165240"/>
            <a:chOff x="3200400" y="6629400"/>
            <a:chExt cx="2558520" cy="165240"/>
          </a:xfrm>
        </p:grpSpPr>
        <p:sp>
          <p:nvSpPr>
            <p:cNvPr id="189" name=""/>
            <p:cNvSpPr/>
            <p:nvPr/>
          </p:nvSpPr>
          <p:spPr>
            <a:xfrm>
              <a:off x="3200400" y="6629400"/>
              <a:ext cx="2077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75080" y="6629400"/>
              <a:ext cx="2088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91880" y="6629400"/>
              <a:ext cx="198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615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01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343400" y="4898880"/>
            <a:ext cx="214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661000"/>
            <a:ext cx="182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809880" y="5389560"/>
            <a:ext cx="21744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121280" y="5084280"/>
            <a:ext cx="217440" cy="24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91440" y="4267080"/>
            <a:ext cx="3142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T2M_12_diurnal_JUL2001_SMT_Eta" descr=""/>
          <p:cNvPicPr/>
          <p:nvPr/>
        </p:nvPicPr>
        <p:blipFill>
          <a:blip r:embed="rId6"/>
          <a:srcRect l="0" t="6812" r="0" b="0"/>
          <a:stretch/>
        </p:blipFill>
        <p:spPr>
          <a:xfrm>
            <a:off x="6095880" y="4648320"/>
            <a:ext cx="28958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400800" y="4822920"/>
            <a:ext cx="2165040" cy="0"/>
            <a:chOff x="6400800" y="4822920"/>
            <a:chExt cx="2165040" cy="0"/>
          </a:xfrm>
        </p:grpSpPr>
        <p:sp>
          <p:nvSpPr>
            <p:cNvPr id="201" name=""/>
            <p:cNvSpPr/>
            <p:nvPr/>
          </p:nvSpPr>
          <p:spPr>
            <a:xfrm>
              <a:off x="8315640" y="4822920"/>
              <a:ext cx="2502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46360" y="4822920"/>
              <a:ext cx="856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4822920"/>
              <a:ext cx="471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7023600" y="1522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f00"/>
                </a:solidFill>
                <a:latin typeface="Helvetica Narrow"/>
              </a:rPr>
              <a:t>July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733920" y="1828800"/>
            <a:ext cx="1384200" cy="969840"/>
            <a:chOff x="3733920" y="1828800"/>
            <a:chExt cx="1384200" cy="969840"/>
          </a:xfrm>
        </p:grpSpPr>
        <p:sp>
          <p:nvSpPr>
            <p:cNvPr id="206" name=""/>
            <p:cNvSpPr/>
            <p:nvPr/>
          </p:nvSpPr>
          <p:spPr>
            <a:xfrm>
              <a:off x="4724280" y="2286000"/>
              <a:ext cx="3938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cc3300"/>
                  </a:solidFill>
                  <a:latin typeface="Helvetica Narrow"/>
                </a:rPr>
                <a:t>d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3920" y="1828800"/>
              <a:ext cx="1066680" cy="60948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737480" y="2230560"/>
            <a:ext cx="380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 Narrow"/>
              </a:rPr>
              <a:t>semi-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0640" y="1828800"/>
            <a:ext cx="103176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276720" y="4724280"/>
            <a:ext cx="2485440" cy="133200"/>
            <a:chOff x="3276720" y="4724280"/>
            <a:chExt cx="2485440" cy="133200"/>
          </a:xfrm>
        </p:grpSpPr>
        <p:sp>
          <p:nvSpPr>
            <p:cNvPr id="211" name=""/>
            <p:cNvSpPr/>
            <p:nvPr/>
          </p:nvSpPr>
          <p:spPr>
            <a:xfrm>
              <a:off x="5447520" y="4724280"/>
              <a:ext cx="3146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33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276720" y="4822560"/>
              <a:ext cx="2165040" cy="0"/>
              <a:chOff x="3276720" y="4822560"/>
              <a:chExt cx="2165040" cy="0"/>
            </a:xfrm>
          </p:grpSpPr>
          <p:sp>
            <p:nvSpPr>
              <p:cNvPr id="213" name=""/>
              <p:cNvSpPr/>
              <p:nvPr/>
            </p:nvSpPr>
            <p:spPr>
              <a:xfrm>
                <a:off x="5191560" y="4822560"/>
                <a:ext cx="250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22280" y="4822560"/>
                <a:ext cx="856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76720" y="4822560"/>
                <a:ext cx="471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34002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Eta forecast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503560" y="46483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elvetica-Narrow"/>
              </a:rPr>
              <a:t>32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477120" y="6629400"/>
            <a:ext cx="2472840" cy="165240"/>
            <a:chOff x="6477120" y="6629400"/>
            <a:chExt cx="2472840" cy="165240"/>
          </a:xfrm>
        </p:grpSpPr>
        <p:sp>
          <p:nvSpPr>
            <p:cNvPr id="219" name=""/>
            <p:cNvSpPr/>
            <p:nvPr/>
          </p:nvSpPr>
          <p:spPr>
            <a:xfrm>
              <a:off x="647712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968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4880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8028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74656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16760" y="4816440"/>
            <a:ext cx="207720" cy="1736640"/>
            <a:chOff x="6116760" y="4816440"/>
            <a:chExt cx="207720" cy="1736640"/>
          </a:xfrm>
        </p:grpSpPr>
        <p:sp>
          <p:nvSpPr>
            <p:cNvPr id="225" name=""/>
            <p:cNvSpPr/>
            <p:nvPr/>
          </p:nvSpPr>
          <p:spPr>
            <a:xfrm>
              <a:off x="6116760" y="6386400"/>
              <a:ext cx="1980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6760" y="5603760"/>
              <a:ext cx="207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6760" y="4816440"/>
              <a:ext cx="204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152280" y="2666880"/>
            <a:ext cx="2551320" cy="1933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1080" y="3989520"/>
            <a:ext cx="93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Moist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55400" y="3798720"/>
            <a:ext cx="284040" cy="19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3352680" y="2666880"/>
            <a:ext cx="2551320" cy="1981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52680" y="399240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Dry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601800" y="3809880"/>
            <a:ext cx="28404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vsm2.2001073112" descr=""/>
          <p:cNvPicPr/>
          <p:nvPr/>
        </p:nvPicPr>
        <p:blipFill>
          <a:blip r:embed="rId9"/>
          <a:stretch/>
        </p:blipFill>
        <p:spPr>
          <a:xfrm>
            <a:off x="6248520" y="2590920"/>
            <a:ext cx="2666880" cy="2060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6135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394812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emi-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oil 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537240" y="3809880"/>
            <a:ext cx="28440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Helvetica-Narrow"/>
                <a:ea typeface="MS Mincho"/>
              </a:rPr>
              <a:t>ETA MODEL LAND-SURFACE MODELING MILEST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816120"/>
            <a:ext cx="861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Since 1996, a series of GCIP/GAPP-sponsored land-surface model related advances have been made to the NCEP mesoscale Eta model and its Eta-based 4-D data assimilation system (E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31 Jan 1996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multi-layer soil/vegetation/snow model 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initial soil moisture/temperature from G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8 Feb 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new vegetation greenness database from NES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efined adjustment of initial GDAS soil moisture r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vaporation over snow and bare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09 Feb 1998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increase from 2 to 4 soil layers (10, 30, 60, 100 cm lay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03 Jun 199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full self-cycling of EDAS/Eta soil moisture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new NESDIS daily 23-km snow cover and sea 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5 Mar 199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"NOAH" name designated for Eta land-surfa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01 Apr 19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GOES vs Eta skin temperature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4 Mar 2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ta near-surface regional Forecast Verific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5 Mar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etrospective NOAH LSM Eta/EDAS testing ini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4 Apr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ealtime NOAH LSM Eta/EDAS testing ini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02 July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pre-implementation NOAH LSM testing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ta/E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24 July 200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frozen soil physics, patchy snowcover (OHD, V. Koren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2 Feb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mproved sub-surface heat flux with snowp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Fig1_NOAH_LSM_community.mdp" descr=""/>
          <p:cNvPicPr/>
          <p:nvPr/>
        </p:nvPicPr>
        <p:blipFill>
          <a:blip r:embed="rId1"/>
          <a:stretch/>
        </p:blipFill>
        <p:spPr>
          <a:xfrm>
            <a:off x="4098960" y="1120680"/>
            <a:ext cx="4633920" cy="4492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228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ETA/NOAH LAND-SURFACE MODEL UPGRADES</a:t>
            </a: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Helvetica-Narrow"/>
                <a:ea typeface="MS Mincho"/>
              </a:rPr>
              <a:t>24 Jul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36800"/>
            <a:ext cx="4343400" cy="61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assimilation of hourly precip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hourly 4-km radar/gage analysis (Stage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-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cold season processes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Koren et al 1999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patchy snow co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frozen soil (new state variab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snow density (new state variable)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-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bare soil evaporation refi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parameterize upper sfc crust cap on ev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soil heat flu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new soil thermal con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eters-Lidard et al 1998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under snowpack 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Lunardini, 1981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vegetation reduction of thermal co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eters-Lidard et al 1997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surface character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maximum snow albedo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Robinson &amp; Kukla 1985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dynamic thermal roughness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refin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deeper rooting depth in for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canopy resistance refi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5400" y="5791320"/>
            <a:ext cx="496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H LSM tested in various land-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mparison projects, e.g., GSWP, PIL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, 2c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, 2e, R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(near-future) DM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48:33Z</dcterms:created>
  <dc:creator>Ken Mitchell</dc:creator>
  <dc:description/>
  <dc:language>en-US</dc:language>
  <cp:lastModifiedBy>kemitchell</cp:lastModifiedBy>
  <dcterms:modified xsi:type="dcterms:W3CDTF">2003-07-02T16:56:11Z</dcterms:modified>
  <cp:revision>82</cp:revision>
  <dc:subject/>
  <dc:title>PowerPoint Presentation</dc:title>
</cp:coreProperties>
</file>