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1.jpeg" ContentType="image/jpeg"/>
  <Override PartName="/ppt/media/image26.pct" ContentType="image/x-pict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7.jpeg" ContentType="image/jpe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7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7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7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7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26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7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7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7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7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7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7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947160" y="304920"/>
            <a:ext cx="8383320" cy="219456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esting and evaluation of the fi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Noah LSM upgrade in the NCE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NAM (mesoscale Eta) mo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16760" y="5511960"/>
            <a:ext cx="8843760" cy="1647000"/>
          </a:xfrm>
          <a:prstGeom prst="roundRect">
            <a:avLst>
              <a:gd name="adj" fmla="val 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Winter:  cold bias during night, typically u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calm/clear conditions especially over snowpac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and during day over shallow/melting snowp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716400" y="4302000"/>
            <a:ext cx="8439840" cy="109836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ummer:  warm/dry bias during day, typic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ver areas with larger greenness f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225520" y="2610000"/>
            <a:ext cx="5826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ichael Ek, Ken Mitchell, ET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RF Land Working Group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13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23200" y="262080"/>
            <a:ext cx="5826240" cy="746640"/>
          </a:xfrm>
          <a:prstGeom prst="roundRect">
            <a:avLst>
              <a:gd name="adj" fmla="val 2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il moisture re-sca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720" y="2414520"/>
            <a:ext cx="9476280" cy="1989720"/>
          </a:xfrm>
          <a:prstGeom prst="roundRect">
            <a:avLst>
              <a:gd name="adj" fmla="val 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to preserve surface evaporation (with respect to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ess) in going from the old (Zobler) to new (STATSG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ils, convert soil moisture contents in order to 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ve sat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9360" y="1204920"/>
            <a:ext cx="8574120" cy="995400"/>
          </a:xfrm>
          <a:prstGeom prst="roundRect">
            <a:avLst>
              <a:gd name="adj" fmla="val 1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necessary to re-scale soil moisture since Eta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old soils needed to restart Eta with the new soi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160720" y="4844880"/>
            <a:ext cx="734760" cy="2070000"/>
            <a:chOff x="2160720" y="4844880"/>
            <a:chExt cx="734760" cy="2070000"/>
          </a:xfrm>
        </p:grpSpPr>
        <p:sp>
          <p:nvSpPr>
            <p:cNvPr id="78" name=""/>
            <p:cNvSpPr/>
            <p:nvPr/>
          </p:nvSpPr>
          <p:spPr>
            <a:xfrm>
              <a:off x="2160720" y="4844880"/>
              <a:ext cx="734760" cy="1338840"/>
            </a:xfrm>
            <a:custGeom>
              <a:avLst/>
              <a:gdLst>
                <a:gd name="textAreaLeft" fmla="*/ 360 w 734760"/>
                <a:gd name="textAreaRight" fmla="*/ 734400 w 734760"/>
                <a:gd name="textAreaTop" fmla="*/ 360 h 1338840"/>
                <a:gd name="textAreaBottom" fmla="*/ 1338480 h 1338840"/>
              </a:gdLst>
              <a:ahLst/>
              <a:rect l="textAreaLeft" t="textAreaTop" r="textAreaRight" b="textAreaBottom"/>
              <a:pathLst>
                <a:path w="21600" h="39350">
                  <a:moveTo>
                    <a:pt x="46" y="0"/>
                  </a:moveTo>
                  <a:arcTo wR="46" hR="46" stAng="16200000" swAng="-5400000"/>
                  <a:lnTo>
                    <a:pt x="0" y="39304"/>
                  </a:lnTo>
                  <a:arcTo wR="46" hR="46" stAng="10800000" swAng="-5400000"/>
                  <a:lnTo>
                    <a:pt x="21554" y="39350"/>
                  </a:lnTo>
                  <a:arcTo wR="46" hR="46" stAng="5400000" swAng="-5400000"/>
                  <a:lnTo>
                    <a:pt x="21600" y="46"/>
                  </a:lnTo>
                  <a:arcTo wR="46" hR="4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60720" y="5576040"/>
              <a:ext cx="734760" cy="1338840"/>
            </a:xfrm>
            <a:custGeom>
              <a:avLst/>
              <a:gdLst>
                <a:gd name="textAreaLeft" fmla="*/ 360 w 734760"/>
                <a:gd name="textAreaRight" fmla="*/ 734400 w 734760"/>
                <a:gd name="textAreaTop" fmla="*/ 360 h 1338840"/>
                <a:gd name="textAreaBottom" fmla="*/ 1338480 h 1338840"/>
              </a:gdLst>
              <a:ahLst/>
              <a:rect l="textAreaLeft" t="textAreaTop" r="textAreaRight" b="textAreaBottom"/>
              <a:pathLst>
                <a:path w="21600" h="39350">
                  <a:moveTo>
                    <a:pt x="46" y="0"/>
                  </a:moveTo>
                  <a:arcTo wR="46" hR="46" stAng="16200000" swAng="-5400000"/>
                  <a:lnTo>
                    <a:pt x="0" y="39304"/>
                  </a:lnTo>
                  <a:arcTo wR="46" hR="46" stAng="10800000" swAng="-5400000"/>
                  <a:lnTo>
                    <a:pt x="21554" y="39350"/>
                  </a:lnTo>
                  <a:arcTo wR="46" hR="46" stAng="5400000" swAng="-5400000"/>
                  <a:lnTo>
                    <a:pt x="21600" y="46"/>
                  </a:lnTo>
                  <a:arcTo wR="46" hR="46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324240" y="4462560"/>
            <a:ext cx="734760" cy="2452320"/>
            <a:chOff x="3324240" y="4462560"/>
            <a:chExt cx="734760" cy="2452320"/>
          </a:xfrm>
        </p:grpSpPr>
        <p:sp>
          <p:nvSpPr>
            <p:cNvPr id="81" name=""/>
            <p:cNvSpPr/>
            <p:nvPr/>
          </p:nvSpPr>
          <p:spPr>
            <a:xfrm>
              <a:off x="3325320" y="4462560"/>
              <a:ext cx="733680" cy="1586160"/>
            </a:xfrm>
            <a:custGeom>
              <a:avLst/>
              <a:gdLst>
                <a:gd name="textAreaLeft" fmla="*/ 360 w 733680"/>
                <a:gd name="textAreaRight" fmla="*/ 733320 w 733680"/>
                <a:gd name="textAreaTop" fmla="*/ 360 h 1586160"/>
                <a:gd name="textAreaBottom" fmla="*/ 1585800 h 1586160"/>
              </a:gdLst>
              <a:ahLst/>
              <a:rect l="textAreaLeft" t="textAreaTop" r="textAreaRight" b="textAreaBottom"/>
              <a:pathLst>
                <a:path w="21600" h="46685">
                  <a:moveTo>
                    <a:pt x="46" y="0"/>
                  </a:moveTo>
                  <a:arcTo wR="46" hR="46" stAng="16200000" swAng="-5400000"/>
                  <a:lnTo>
                    <a:pt x="0" y="46639"/>
                  </a:lnTo>
                  <a:arcTo wR="46" hR="46" stAng="10800000" swAng="-5400000"/>
                  <a:lnTo>
                    <a:pt x="21554" y="46685"/>
                  </a:lnTo>
                  <a:arcTo wR="46" hR="46" stAng="5400000" swAng="-5400000"/>
                  <a:lnTo>
                    <a:pt x="21600" y="46"/>
                  </a:lnTo>
                  <a:arcTo wR="46" hR="4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24240" y="5328360"/>
              <a:ext cx="733680" cy="1586520"/>
            </a:xfrm>
            <a:custGeom>
              <a:avLst/>
              <a:gdLst>
                <a:gd name="textAreaLeft" fmla="*/ 360 w 733680"/>
                <a:gd name="textAreaRight" fmla="*/ 733320 w 733680"/>
                <a:gd name="textAreaTop" fmla="*/ 360 h 1586520"/>
                <a:gd name="textAreaBottom" fmla="*/ 1586160 h 1586520"/>
              </a:gdLst>
              <a:ahLst/>
              <a:rect l="textAreaLeft" t="textAreaTop" r="textAreaRight" b="textAreaBottom"/>
              <a:pathLst>
                <a:path w="21600" h="46696">
                  <a:moveTo>
                    <a:pt x="46" y="0"/>
                  </a:moveTo>
                  <a:arcTo wR="46" hR="46" stAng="16200000" swAng="-5400000"/>
                  <a:lnTo>
                    <a:pt x="0" y="46650"/>
                  </a:lnTo>
                  <a:arcTo wR="46" hR="46" stAng="10800000" swAng="-5400000"/>
                  <a:lnTo>
                    <a:pt x="21554" y="46696"/>
                  </a:lnTo>
                  <a:arcTo wR="46" hR="46" stAng="5400000" swAng="-5400000"/>
                  <a:lnTo>
                    <a:pt x="21600" y="46"/>
                  </a:lnTo>
                  <a:arcTo wR="46" hR="46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40520" y="4641840"/>
            <a:ext cx="1339560" cy="331200"/>
          </a:xfrm>
          <a:prstGeom prst="roundRect">
            <a:avLst>
              <a:gd name="adj" fmla="val 3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4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080" y="4270320"/>
            <a:ext cx="1339560" cy="331200"/>
          </a:xfrm>
          <a:prstGeom prst="roundRect">
            <a:avLst>
              <a:gd name="adj" fmla="val 3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4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6480" y="5338800"/>
            <a:ext cx="1085040" cy="331200"/>
          </a:xfrm>
          <a:prstGeom prst="roundRect">
            <a:avLst>
              <a:gd name="adj" fmla="val 3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2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22080" y="5094360"/>
            <a:ext cx="1085040" cy="331200"/>
          </a:xfrm>
          <a:prstGeom prst="roundRect">
            <a:avLst>
              <a:gd name="adj" fmla="val 3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3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75520" y="7004160"/>
            <a:ext cx="30830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aturation=0.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8560" y="5867280"/>
            <a:ext cx="1790640" cy="995400"/>
          </a:xfrm>
          <a:prstGeom prst="roundRect">
            <a:avLst>
              <a:gd name="adj" fmla="val 1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l typ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s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89320" y="5867280"/>
            <a:ext cx="1767600" cy="995400"/>
          </a:xfrm>
          <a:prstGeom prst="roundRect">
            <a:avLst>
              <a:gd name="adj" fmla="val 1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l typ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c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25720" y="5583240"/>
            <a:ext cx="1160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66800" y="4114800"/>
            <a:ext cx="3765600" cy="305064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BUT...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ubsequ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oil moisture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s affected by new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ype and land (ve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lass, so soil moi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pin-up is impor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035600" y="374760"/>
            <a:ext cx="5781600" cy="6692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152280"/>
            <a:ext cx="3998880" cy="6458760"/>
          </a:xfrm>
          <a:custGeom>
            <a:avLst/>
            <a:gdLst>
              <a:gd name="textAreaLeft" fmla="*/ 360 w 3998880"/>
              <a:gd name="textAreaRight" fmla="*/ 3998520 w 3998880"/>
              <a:gd name="textAreaTop" fmla="*/ 360 h 6458760"/>
              <a:gd name="textAreaBottom" fmla="*/ 6458400 h 6458760"/>
            </a:gdLst>
            <a:ahLst/>
            <a:rect l="textAreaLeft" t="textAreaTop" r="textAreaRight" b="textAreaBottom"/>
            <a:pathLst>
              <a:path w="21600" h="34886">
                <a:moveTo>
                  <a:pt x="8" y="0"/>
                </a:moveTo>
                <a:arcTo wR="8" hR="8" stAng="16200000" swAng="-5400000"/>
                <a:lnTo>
                  <a:pt x="0" y="34878"/>
                </a:lnTo>
                <a:arcTo wR="8" hR="8" stAng="10800000" swAng="-5400000"/>
                <a:lnTo>
                  <a:pt x="21592" y="34886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6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July 2004 o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latent heat 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-offline Noah LSM runs suggested 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HG Mincho Light J;MS Gothic;HG"/>
              </a:rPr>
              <a:t>lower canopy conduc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-canopy conduct. param’s adjusted (LAI down, Rs-min up for grass/crops, VPD, solar ter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in coupled t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30880" y="85680"/>
            <a:ext cx="5486400" cy="3724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30880" y="3733920"/>
            <a:ext cx="5486400" cy="3724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685800"/>
            <a:ext cx="41148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11-27 July 2004 (17-day) mean of daytime (18z) latent heat flu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12-km ops ETA (t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32-km control ETAV (bott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Times New Roman"/>
                <a:ea typeface="HG Mincho Light J;MS Gothic;HG"/>
              </a:rPr>
              <a:t>Similar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24560" y="30240"/>
            <a:ext cx="5232240" cy="3551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3763800"/>
            <a:ext cx="5284800" cy="3551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685800"/>
            <a:ext cx="4114800" cy="62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11-27 July 2004 (17-day) mean of daytime (18z) latent heat flu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32-km control ETA (t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32-km parallel ETAL with new Noah LSM (bott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Times New Roman"/>
                <a:ea typeface="HG Mincho Light J;MS Gothic;HG"/>
              </a:rPr>
              <a:t>Generally more latent heat flux in 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523880"/>
            <a:ext cx="963936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-continuous/cycled ETA parallel tests during July-August 2004 showed that higher latent heat fluxes (vs control ETAV) over eastern CONUS die dow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;MS Gothic;HG"/>
              </a:rPr>
              <a:t>after about 1 month of cycling, as land states adjust to the new vegetation and soil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-in August 2004, parallel ETA still had higher latent heat flux than control ETAV, but differences significantly less than July 200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11080" y="219240"/>
            <a:ext cx="5250240" cy="746640"/>
          </a:xfrm>
          <a:prstGeom prst="roundRect">
            <a:avLst>
              <a:gd name="adj" fmla="val 2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il moisture spin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57480" y="1173240"/>
            <a:ext cx="8823240" cy="6351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37920" y="4086360"/>
            <a:ext cx="816840" cy="995400"/>
          </a:xfrm>
          <a:custGeom>
            <a:avLst/>
            <a:gdLst>
              <a:gd name="textAreaLeft" fmla="*/ 360 w 816840"/>
              <a:gd name="textAreaRight" fmla="*/ 816480 w 816840"/>
              <a:gd name="textAreaTop" fmla="*/ 360 h 995400"/>
              <a:gd name="textAreaBottom" fmla="*/ 995040 h 995400"/>
            </a:gdLst>
            <a:ahLst/>
            <a:rect l="textAreaLeft" t="textAreaTop" r="textAreaRight" b="textAreaBottom"/>
            <a:pathLst>
              <a:path w="21600" h="26320">
                <a:moveTo>
                  <a:pt x="42" y="0"/>
                </a:moveTo>
                <a:arcTo wR="42" hR="42" stAng="16200000" swAng="-5400000"/>
                <a:lnTo>
                  <a:pt x="0" y="26278"/>
                </a:lnTo>
                <a:arcTo wR="42" hR="42" stAng="10800000" swAng="-5400000"/>
                <a:lnTo>
                  <a:pt x="21558" y="26320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0320" y="6323040"/>
            <a:ext cx="5090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7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4880" y="2457360"/>
            <a:ext cx="5090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7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4640" y="208080"/>
            <a:ext cx="5006160" cy="1057680"/>
          </a:xfrm>
          <a:prstGeom prst="roundRect">
            <a:avLst>
              <a:gd name="adj" fmla="val 1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Reduced warm 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stern CONUS, Augus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55560" y="1114560"/>
            <a:ext cx="8648640" cy="6229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44640" y="208080"/>
            <a:ext cx="5006160" cy="1057680"/>
          </a:xfrm>
          <a:prstGeom prst="roundRect">
            <a:avLst>
              <a:gd name="adj" fmla="val 1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Relative humid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stern CONUS, Augus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57480" y="1173240"/>
            <a:ext cx="8823240" cy="6351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7920" y="4086360"/>
            <a:ext cx="816840" cy="995400"/>
          </a:xfrm>
          <a:custGeom>
            <a:avLst/>
            <a:gdLst>
              <a:gd name="textAreaLeft" fmla="*/ 360 w 816840"/>
              <a:gd name="textAreaRight" fmla="*/ 816480 w 816840"/>
              <a:gd name="textAreaTop" fmla="*/ 360 h 995400"/>
              <a:gd name="textAreaBottom" fmla="*/ 995040 h 995400"/>
            </a:gdLst>
            <a:ahLst/>
            <a:rect l="textAreaLeft" t="textAreaTop" r="textAreaRight" b="textAreaBottom"/>
            <a:pathLst>
              <a:path w="21600" h="26320">
                <a:moveTo>
                  <a:pt x="42" y="0"/>
                </a:moveTo>
                <a:arcTo wR="42" hR="42" stAng="16200000" swAng="-5400000"/>
                <a:lnTo>
                  <a:pt x="0" y="26278"/>
                </a:lnTo>
                <a:arcTo wR="42" hR="42" stAng="10800000" swAng="-5400000"/>
                <a:lnTo>
                  <a:pt x="21558" y="26320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0320" y="6249960"/>
            <a:ext cx="5090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0320" y="2637000"/>
            <a:ext cx="5090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8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5720" y="208080"/>
            <a:ext cx="5141880" cy="1057680"/>
          </a:xfrm>
          <a:prstGeom prst="roundRect">
            <a:avLst>
              <a:gd name="adj" fmla="val 1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Reduced warm 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stern CONUS, Augus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6640" y="1090440"/>
            <a:ext cx="8737560" cy="635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45720" y="208080"/>
            <a:ext cx="5141880" cy="1057680"/>
          </a:xfrm>
          <a:prstGeom prst="roundRect">
            <a:avLst>
              <a:gd name="adj" fmla="val 1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Relative humid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stern CONUS, Augus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921200" y="1278000"/>
            <a:ext cx="4964040" cy="3181320"/>
            <a:chOff x="4921200" y="1278000"/>
            <a:chExt cx="4964040" cy="31813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921200" y="1278000"/>
              <a:ext cx="4964040" cy="31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flipV="1">
              <a:off x="7441200" y="1885320"/>
              <a:ext cx="1080" cy="21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14280" y="1278000"/>
            <a:ext cx="4967280" cy="318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921200" y="4276800"/>
            <a:ext cx="4967280" cy="318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14280" y="4276800"/>
            <a:ext cx="4967280" cy="3184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3600" y="403200"/>
            <a:ext cx="9703080" cy="746640"/>
          </a:xfrm>
          <a:prstGeom prst="roundRect">
            <a:avLst>
              <a:gd name="adj" fmla="val 2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UPPER AIR:  48-hr forecast, Aug 200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3640" y="3402000"/>
            <a:ext cx="185328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ast, te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38320" y="6389640"/>
            <a:ext cx="198108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est, te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3800" y="3402000"/>
            <a:ext cx="157572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ast, R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47200" y="6389640"/>
            <a:ext cx="170388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est, R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17880" y="1887480"/>
            <a:ext cx="14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720800" y="4883040"/>
            <a:ext cx="1800" cy="21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104240" y="4897440"/>
            <a:ext cx="1440" cy="21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235400" y="631800"/>
            <a:ext cx="5740560" cy="54831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174680" y="158760"/>
            <a:ext cx="77724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ETA / NOAH LAND-SURFACE MODEL UPGRADES</a:t>
            </a:r>
            <a:r>
              <a:rPr b="1" lang="en-GB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440" y="708120"/>
            <a:ext cx="511020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assimilation of hourly precipi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hourly 4-km radar/gage analysis (Stage IV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35"/>
              </a:lnSpc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7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cold season processes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Koren et al 1999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</a:t>
            </a:r>
            <a:r>
              <a:rPr b="1" lang="en-GB" sz="1700" spc="-1" strike="noStrike">
                <a:solidFill>
                  <a:srgbClr val="cc0000"/>
                </a:solidFill>
                <a:latin typeface="Helvetica-Narrow"/>
                <a:ea typeface="MS Mincho"/>
              </a:rPr>
              <a:t>patchy snow cover (snow sublimatio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</a:t>
            </a:r>
            <a:r>
              <a:rPr b="1" lang="en-GB" sz="1700" spc="-1" strike="noStrike">
                <a:solidFill>
                  <a:srgbClr val="008000"/>
                </a:solidFill>
                <a:latin typeface="Helvetica-Narrow"/>
                <a:ea typeface="MS Mincho"/>
              </a:rPr>
              <a:t>frozen soil (new state variable)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</a:t>
            </a:r>
            <a:r>
              <a:rPr b="1" lang="en-GB" sz="1700" spc="-1" strike="noStrike">
                <a:solidFill>
                  <a:srgbClr val="008000"/>
                </a:solidFill>
                <a:latin typeface="Helvetica-Narrow"/>
                <a:ea typeface="MS Mincho"/>
              </a:rPr>
              <a:t>snow density (new state variable)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bare soil evaporation refine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parameterize upper sfc crust cap on eva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</a:t>
            </a:r>
            <a:r>
              <a:rPr b="1" lang="en-GB" sz="17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soil heat flux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new soil thermal conductiv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eters-Lidard et al 1998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</a:t>
            </a:r>
            <a:r>
              <a:rPr b="1" lang="en-GB" sz="1700" spc="-1" strike="noStrike">
                <a:solidFill>
                  <a:srgbClr val="008000"/>
                </a:solidFill>
                <a:latin typeface="Helvetica-Narrow"/>
                <a:ea typeface="MS Mincho"/>
              </a:rPr>
              <a:t>under snowpack 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vegetation reduction of thermal cond.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(</a:t>
            </a:r>
            <a:r>
              <a:rPr b="0" i="1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eters-Lidard et al 1997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</a:t>
            </a:r>
            <a:r>
              <a:rPr b="1" lang="en-GB" sz="17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surface characterization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</a:t>
            </a:r>
            <a:r>
              <a:rPr b="1" lang="en-GB" sz="1700" spc="-1" strike="noStrike">
                <a:solidFill>
                  <a:srgbClr val="cc0000"/>
                </a:solidFill>
                <a:latin typeface="Helvetica-Narrow"/>
                <a:ea typeface="MS Mincho"/>
              </a:rPr>
              <a:t>revised snow albedo algorithm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</a:t>
            </a:r>
            <a:r>
              <a:rPr b="1" lang="en-GB" sz="1700" spc="-1" strike="noStrike">
                <a:solidFill>
                  <a:srgbClr val="008000"/>
                </a:solidFill>
                <a:latin typeface="Helvetica-Narrow"/>
                <a:ea typeface="MS Mincho"/>
              </a:rPr>
              <a:t>dynamic thermal roughness length refinements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vege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deeper rooting depth in fores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3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GB" sz="17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canopy resistance refine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4520" y="6377040"/>
            <a:ext cx="6000120" cy="917640"/>
          </a:xfrm>
          <a:prstGeom prst="roundRect">
            <a:avLst>
              <a:gd name="adj" fmla="val 1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NOAH LSM tested in various land-model inter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projects, e.g., GSWP 1 &amp; 2, PILPS 2a, 2c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2d, 2e, Rho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DMIP, G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01680" y="1422360"/>
            <a:ext cx="8782200" cy="6032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92160" y="196920"/>
            <a:ext cx="690732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imes New Roman"/>
              </a:rPr>
              <a:t>Winter:  nighttime cold b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astern CONUS, Feb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6160" y="3817800"/>
            <a:ext cx="816840" cy="995400"/>
          </a:xfrm>
          <a:custGeom>
            <a:avLst/>
            <a:gdLst>
              <a:gd name="textAreaLeft" fmla="*/ 360 w 816840"/>
              <a:gd name="textAreaRight" fmla="*/ 816480 w 816840"/>
              <a:gd name="textAreaTop" fmla="*/ 360 h 995400"/>
              <a:gd name="textAreaBottom" fmla="*/ 995040 h 995400"/>
            </a:gdLst>
            <a:ahLst/>
            <a:rect l="textAreaLeft" t="textAreaTop" r="textAreaRight" b="textAreaBottom"/>
            <a:pathLst>
              <a:path w="21600" h="26320">
                <a:moveTo>
                  <a:pt x="42" y="0"/>
                </a:moveTo>
                <a:arcTo wR="42" hR="42" stAng="16200000" swAng="-5400000"/>
                <a:lnTo>
                  <a:pt x="0" y="26278"/>
                </a:lnTo>
                <a:arcTo wR="42" hR="42" stAng="10800000" swAng="-5400000"/>
                <a:lnTo>
                  <a:pt x="21558" y="26320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50080" y="6529320"/>
            <a:ext cx="4586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4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53760" y="2070000"/>
            <a:ext cx="356400" cy="308880"/>
          </a:xfrm>
          <a:prstGeom prst="roundRect">
            <a:avLst>
              <a:gd name="adj" fmla="val 4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58240" y="5605560"/>
            <a:ext cx="1173240" cy="92448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-2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ght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d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64800" y="5797440"/>
            <a:ext cx="908280" cy="616680"/>
          </a:xfrm>
          <a:prstGeom prst="roundRect">
            <a:avLst>
              <a:gd name="adj" fmla="val 2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s 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1640" y="4708440"/>
            <a:ext cx="42516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28400" y="276120"/>
            <a:ext cx="734868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hanges (more) relevant to cold seas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3080" y="828720"/>
            <a:ext cx="9486720" cy="6585120"/>
          </a:xfrm>
          <a:prstGeom prst="roundRect">
            <a:avLst>
              <a:gd name="adj" fmla="val 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or patchy snow cover, changes to 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&gt; snow cover fraction (less snow depth for 100% co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&gt; snow albedo (yields hig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&gt; surface skin temperature (higher via non-snow co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&gt; snow sublimation (reduced), in addition to previous patchy skin temp/sensible heat flux, ground heat flu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Surface emissivity (for snow only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p = </a:t>
            </a:r>
            <a:r>
              <a:rPr b="0" lang="en-GB" sz="32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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3600" spc="-1" strike="noStrike" baseline="33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= 1.0, 0.95, 0.9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PBL:  in 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very stable condit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hen PBL dep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nosed as lowest Eta model level, 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impose low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on eddy diffusiv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p to (and one level above) i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ight (positive impact previously demonstrat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6520" y="4538520"/>
            <a:ext cx="9279000" cy="2544840"/>
          </a:xfrm>
          <a:prstGeom prst="roundRect">
            <a:avLst>
              <a:gd name="adj" fmla="val 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several retrospective 32-km runs:  Feb and Ma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realtime 32-km parallel runs:  Noah LSM tested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ous changes in parallel until system frozen in Dec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real-time 12-km Etax parallel initiated (13 Dec 20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2040" y="515880"/>
            <a:ext cx="734868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Changes (more) relevant to cold seas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4240" y="1163520"/>
            <a:ext cx="9223200" cy="1989720"/>
          </a:xfrm>
          <a:prstGeom prst="roundRect">
            <a:avLst>
              <a:gd name="adj" fmla="val 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changes to allow for solar zenith angle correction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bedo -- higher at low sun angles in early morning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te afternoon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adopt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practical reasons:  i.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oid further enhancement of early morning cold b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16680" y="3889440"/>
            <a:ext cx="149796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est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13240" y="276120"/>
            <a:ext cx="5164200" cy="7013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8600" y="365040"/>
            <a:ext cx="4191120" cy="6706800"/>
          </a:xfrm>
          <a:custGeom>
            <a:avLst/>
            <a:gdLst>
              <a:gd name="textAreaLeft" fmla="*/ 360 w 4191120"/>
              <a:gd name="textAreaRight" fmla="*/ 4190760 w 4191120"/>
              <a:gd name="textAreaTop" fmla="*/ 360 h 6706800"/>
              <a:gd name="textAreaBottom" fmla="*/ 6706440 h 6706800"/>
            </a:gdLst>
            <a:ahLst/>
            <a:rect l="textAreaLeft" t="textAreaTop" r="textAreaRight" b="textAreaBottom"/>
            <a:pathLst>
              <a:path w="21600" h="34564">
                <a:moveTo>
                  <a:pt x="8" y="0"/>
                </a:moveTo>
                <a:arcTo wR="8" hR="8" stAng="16200000" swAng="-5400000"/>
                <a:lnTo>
                  <a:pt x="0" y="34556"/>
                </a:lnTo>
                <a:arcTo wR="8" hR="8" stAng="10800000" swAng="-5400000"/>
                <a:lnTo>
                  <a:pt x="21592" y="34564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Previously, effect of patchy snow c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included in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...surface skin te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and sensible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flux (&gt;temp, &gt; flu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...soil heat 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(&gt;flux from below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Now include patchy snow in latent heat flux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66000" y="4168800"/>
            <a:ext cx="3622680" cy="3106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76960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AILY BASIN-AVERAGE SURFACE MOISTURE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4905360"/>
            <a:ext cx="5221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Off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(uncoupled N-LDAS) results show the effect of the various cold-season changes to the Noah L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26200" y="3614760"/>
            <a:ext cx="2506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EW FOR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59800" y="4183200"/>
            <a:ext cx="1216080" cy="2954160"/>
          </a:xfrm>
          <a:custGeom>
            <a:avLst/>
            <a:gdLst>
              <a:gd name="textAreaLeft" fmla="*/ 360 w 1216080"/>
              <a:gd name="textAreaRight" fmla="*/ 1215720 w 1216080"/>
              <a:gd name="textAreaTop" fmla="*/ 360 h 2954160"/>
              <a:gd name="textAreaBottom" fmla="*/ 2953800 h 2954160"/>
            </a:gdLst>
            <a:ahLst/>
            <a:rect l="textAreaLeft" t="textAreaTop" r="textAreaRight" b="textAreaBottom"/>
            <a:pathLst>
              <a:path w="21600" h="52463">
                <a:moveTo>
                  <a:pt x="28" y="0"/>
                </a:moveTo>
                <a:arcTo wR="28" hR="28" stAng="16200000" swAng="-5400000"/>
                <a:lnTo>
                  <a:pt x="0" y="52435"/>
                </a:lnTo>
                <a:arcTo wR="28" hR="28" stAng="10800000" swAng="-5400000"/>
                <a:lnTo>
                  <a:pt x="21572" y="52463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59800" y="6975360"/>
            <a:ext cx="12016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084880" y="3962520"/>
            <a:ext cx="6804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384760" y="4471920"/>
            <a:ext cx="676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467480" y="5655960"/>
            <a:ext cx="717840" cy="5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85320" y="4317840"/>
            <a:ext cx="544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5800" y="1973160"/>
            <a:ext cx="25084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A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N-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NOW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S.W.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6400800"/>
            <a:ext cx="3170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EW, with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atchy snow subl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39680" y="533520"/>
            <a:ext cx="6826320" cy="3890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29000" y="838080"/>
            <a:ext cx="1778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LD FOR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66960" y="3535200"/>
            <a:ext cx="1808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29080" y="2549520"/>
            <a:ext cx="477720" cy="628560"/>
          </a:xfrm>
          <a:prstGeom prst="line">
            <a:avLst/>
          </a:prstGeom>
          <a:ln w="182880">
            <a:solidFill>
              <a:srgbClr val="ff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9640" y="3246480"/>
            <a:ext cx="3906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urrent and new formulations dive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08560" y="1962000"/>
            <a:ext cx="1266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arge at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emand d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igh-sun s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6400" y="723960"/>
            <a:ext cx="6051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532480" y="3371400"/>
            <a:ext cx="27288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1295280"/>
            <a:ext cx="63972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200" y="4303800"/>
            <a:ext cx="598680" cy="308880"/>
          </a:xfrm>
          <a:prstGeom prst="roundRect">
            <a:avLst>
              <a:gd name="adj" fmla="val 5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6920" y="4305240"/>
            <a:ext cx="484560" cy="308880"/>
          </a:xfrm>
          <a:prstGeom prst="roundRect">
            <a:avLst>
              <a:gd name="adj" fmla="val 5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4200" y="4305240"/>
            <a:ext cx="420480" cy="308880"/>
          </a:xfrm>
          <a:prstGeom prst="roundRect">
            <a:avLst>
              <a:gd name="adj" fmla="val 5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78920" y="4305240"/>
            <a:ext cx="420480" cy="308880"/>
          </a:xfrm>
          <a:prstGeom prst="roundRect">
            <a:avLst>
              <a:gd name="adj" fmla="val 5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47640" y="4305240"/>
            <a:ext cx="382320" cy="308880"/>
          </a:xfrm>
          <a:prstGeom prst="roundRect">
            <a:avLst>
              <a:gd name="adj" fmla="val 5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4040" y="7184880"/>
            <a:ext cx="598680" cy="308880"/>
          </a:xfrm>
          <a:prstGeom prst="roundRect">
            <a:avLst>
              <a:gd name="adj" fmla="val 5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765280" y="7184880"/>
            <a:ext cx="382320" cy="308880"/>
          </a:xfrm>
          <a:prstGeom prst="roundRect">
            <a:avLst>
              <a:gd name="adj" fmla="val 5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449360" y="896760"/>
            <a:ext cx="8631360" cy="6543720"/>
            <a:chOff x="1449360" y="896760"/>
            <a:chExt cx="8631360" cy="654372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449360" y="896760"/>
              <a:ext cx="8631360" cy="654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868560" y="2392200"/>
              <a:ext cx="12970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472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Standard Symbols L"/>
                  <a:ea typeface="Standard Symbols L"/>
                </a:rPr>
                <a:t>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=0.9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06520" y="6046920"/>
            <a:ext cx="8672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15400" y="6005520"/>
            <a:ext cx="56088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040280" y="6100920"/>
            <a:ext cx="498240" cy="9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940000" y="6032520"/>
            <a:ext cx="498600" cy="9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969840" y="2595600"/>
          <a:ext cx="1503360" cy="60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69840" y="2595600"/>
                    <a:ext cx="1503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94400" y="331920"/>
            <a:ext cx="662328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Slightly reduced nighttime cold 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1360" y="6253200"/>
            <a:ext cx="4586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4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44280" y="2319480"/>
            <a:ext cx="356400" cy="308880"/>
          </a:xfrm>
          <a:prstGeom prst="roundRect">
            <a:avLst>
              <a:gd name="adj" fmla="val 4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28360" y="4681440"/>
            <a:ext cx="42516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28840" y="2374920"/>
            <a:ext cx="1380600" cy="4057560"/>
            <a:chOff x="528840" y="2374920"/>
            <a:chExt cx="1380600" cy="4057560"/>
          </a:xfrm>
        </p:grpSpPr>
        <p:sp>
          <p:nvSpPr>
            <p:cNvPr id="188" name=""/>
            <p:cNvSpPr/>
            <p:nvPr/>
          </p:nvSpPr>
          <p:spPr>
            <a:xfrm>
              <a:off x="528840" y="5437080"/>
              <a:ext cx="1380600" cy="995400"/>
            </a:xfrm>
            <a:prstGeom prst="roundRect">
              <a:avLst>
                <a:gd name="adj" fmla="val 15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Easter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CON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0640" y="3905280"/>
              <a:ext cx="818280" cy="995400"/>
            </a:xfrm>
            <a:custGeom>
              <a:avLst/>
              <a:gdLst>
                <a:gd name="textAreaLeft" fmla="*/ 360 w 818280"/>
                <a:gd name="textAreaRight" fmla="*/ 817920 w 818280"/>
                <a:gd name="textAreaTop" fmla="*/ 360 h 995400"/>
                <a:gd name="textAreaBottom" fmla="*/ 995040 h 995400"/>
              </a:gdLst>
              <a:ahLst/>
              <a:rect l="textAreaLeft" t="textAreaTop" r="textAreaRight" b="textAreaBottom"/>
              <a:pathLst>
                <a:path w="21600" h="26273">
                  <a:moveTo>
                    <a:pt x="41" y="0"/>
                  </a:moveTo>
                  <a:arcTo wR="41" hR="41" stAng="16200000" swAng="-5400000"/>
                  <a:lnTo>
                    <a:pt x="0" y="26232"/>
                  </a:lnTo>
                  <a:arcTo wR="41" hR="41" stAng="10800000" swAng="-5400000"/>
                  <a:lnTo>
                    <a:pt x="21559" y="26273"/>
                  </a:lnTo>
                  <a:arcTo wR="41" hR="41" stAng="5400000" swAng="-5400000"/>
                  <a:lnTo>
                    <a:pt x="21600" y="41"/>
                  </a:lnTo>
                  <a:arcTo wR="41" hR="4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Fe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0720" y="2374920"/>
              <a:ext cx="816840" cy="995400"/>
            </a:xfrm>
            <a:custGeom>
              <a:avLst/>
              <a:gdLst>
                <a:gd name="textAreaLeft" fmla="*/ 360 w 816840"/>
                <a:gd name="textAreaRight" fmla="*/ 816480 w 816840"/>
                <a:gd name="textAreaTop" fmla="*/ 360 h 995400"/>
                <a:gd name="textAreaBottom" fmla="*/ 995040 h 995400"/>
              </a:gdLst>
              <a:ahLst/>
              <a:rect l="textAreaLeft" t="textAreaTop" r="textAreaRight" b="textAreaBottom"/>
              <a:pathLst>
                <a:path w="21600" h="26320">
                  <a:moveTo>
                    <a:pt x="42" y="0"/>
                  </a:moveTo>
                  <a:arcTo wR="42" hR="42" stAng="16200000" swAng="-5400000"/>
                  <a:lnTo>
                    <a:pt x="0" y="26278"/>
                  </a:lnTo>
                  <a:arcTo wR="42" hR="42" stAng="10800000" swAng="-5400000"/>
                  <a:lnTo>
                    <a:pt x="21558" y="26320"/>
                  </a:lnTo>
                  <a:arcTo wR="42" hR="42" stAng="5400000" swAng="-5400000"/>
                  <a:lnTo>
                    <a:pt x="21600" y="42"/>
                  </a:lnTo>
                  <a:arcTo wR="42" hR="4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2-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tem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447920" y="896760"/>
            <a:ext cx="8631000" cy="6543720"/>
            <a:chOff x="1447920" y="896760"/>
            <a:chExt cx="8631000" cy="654372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447920" y="896760"/>
              <a:ext cx="8631000" cy="654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838680" y="2419200"/>
              <a:ext cx="12967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472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Standard Symbols L"/>
                  <a:ea typeface="Standard Symbols L"/>
                </a:rPr>
                <a:t>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=0.9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-969840" y="2595600"/>
          <a:ext cx="1503360" cy="60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69840" y="2595600"/>
                    <a:ext cx="1503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994400" y="331920"/>
            <a:ext cx="662328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Slightly reduced nighttime cold 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91360" y="6253200"/>
            <a:ext cx="4586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4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44280" y="2319480"/>
            <a:ext cx="356400" cy="308880"/>
          </a:xfrm>
          <a:prstGeom prst="roundRect">
            <a:avLst>
              <a:gd name="adj" fmla="val 4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8360" y="4681440"/>
            <a:ext cx="42516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28840" y="2374920"/>
            <a:ext cx="1380600" cy="4057560"/>
            <a:chOff x="528840" y="2374920"/>
            <a:chExt cx="1380600" cy="4057560"/>
          </a:xfrm>
        </p:grpSpPr>
        <p:sp>
          <p:nvSpPr>
            <p:cNvPr id="201" name=""/>
            <p:cNvSpPr/>
            <p:nvPr/>
          </p:nvSpPr>
          <p:spPr>
            <a:xfrm>
              <a:off x="528840" y="5437080"/>
              <a:ext cx="1380600" cy="995400"/>
            </a:xfrm>
            <a:prstGeom prst="roundRect">
              <a:avLst>
                <a:gd name="adj" fmla="val 15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Easter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CON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0640" y="3905280"/>
              <a:ext cx="818280" cy="995400"/>
            </a:xfrm>
            <a:custGeom>
              <a:avLst/>
              <a:gdLst>
                <a:gd name="textAreaLeft" fmla="*/ 360 w 818280"/>
                <a:gd name="textAreaRight" fmla="*/ 817920 w 818280"/>
                <a:gd name="textAreaTop" fmla="*/ 360 h 995400"/>
                <a:gd name="textAreaBottom" fmla="*/ 995040 h 995400"/>
              </a:gdLst>
              <a:ahLst/>
              <a:rect l="textAreaLeft" t="textAreaTop" r="textAreaRight" b="textAreaBottom"/>
              <a:pathLst>
                <a:path w="21600" h="26273">
                  <a:moveTo>
                    <a:pt x="41" y="0"/>
                  </a:moveTo>
                  <a:arcTo wR="41" hR="41" stAng="16200000" swAng="-5400000"/>
                  <a:lnTo>
                    <a:pt x="0" y="26232"/>
                  </a:lnTo>
                  <a:arcTo wR="41" hR="41" stAng="10800000" swAng="-5400000"/>
                  <a:lnTo>
                    <a:pt x="21559" y="26273"/>
                  </a:lnTo>
                  <a:arcTo wR="41" hR="41" stAng="5400000" swAng="-5400000"/>
                  <a:lnTo>
                    <a:pt x="21600" y="41"/>
                  </a:lnTo>
                  <a:arcTo wR="41" hR="4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Fe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0720" y="2374920"/>
              <a:ext cx="816840" cy="995400"/>
            </a:xfrm>
            <a:custGeom>
              <a:avLst/>
              <a:gdLst>
                <a:gd name="textAreaLeft" fmla="*/ 360 w 816840"/>
                <a:gd name="textAreaRight" fmla="*/ 816480 w 816840"/>
                <a:gd name="textAreaTop" fmla="*/ 360 h 995400"/>
                <a:gd name="textAreaBottom" fmla="*/ 995040 h 995400"/>
              </a:gdLst>
              <a:ahLst/>
              <a:rect l="textAreaLeft" t="textAreaTop" r="textAreaRight" b="textAreaBottom"/>
              <a:pathLst>
                <a:path w="21600" h="26320">
                  <a:moveTo>
                    <a:pt x="42" y="0"/>
                  </a:moveTo>
                  <a:arcTo wR="42" hR="42" stAng="16200000" swAng="-5400000"/>
                  <a:lnTo>
                    <a:pt x="0" y="26278"/>
                  </a:lnTo>
                  <a:arcTo wR="42" hR="42" stAng="10800000" swAng="-5400000"/>
                  <a:lnTo>
                    <a:pt x="21558" y="26320"/>
                  </a:lnTo>
                  <a:arcTo wR="42" hR="42" stAng="5400000" swAng="-5400000"/>
                  <a:lnTo>
                    <a:pt x="21600" y="42"/>
                  </a:lnTo>
                  <a:arcTo wR="42" hR="4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2-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tem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206520" y="6046920"/>
            <a:ext cx="8672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5400" y="5502240"/>
            <a:ext cx="56088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40280" y="6100920"/>
            <a:ext cx="498240" cy="9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940000" y="5529240"/>
            <a:ext cx="498600" cy="9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51000" y="396720"/>
            <a:ext cx="579132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/Future (WRF-er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8000" y="1400040"/>
            <a:ext cx="9517320" cy="5605560"/>
          </a:xfrm>
          <a:prstGeom prst="roundRect">
            <a:avLst>
              <a:gd name="adj" fmla="val 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- Seasonally varying LAI (leaf area index), so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degrees of freedom in seasonal vegetation phe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- Realtime greenness (nominally weekl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- Further examination of processes and parameter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 determining evapotranspiration (e.g. CO2 via “Noah2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Re-examine surface layer form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- Emissivity testing/changes (done properly with ent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radiation scheme), not only for snow, but for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urface types (e.g. update WRF-Noah-LSM tab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09680" y="396720"/>
            <a:ext cx="59436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/Future (WRF-er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6280" y="1550880"/>
            <a:ext cx="9109440" cy="248760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mportant to consider the interactions/feedb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land-surface and PBL, clouds, radiation d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development and te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example from observed radia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30800" y="138240"/>
            <a:ext cx="5530680" cy="7230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7320" y="73080"/>
            <a:ext cx="4491000" cy="6945480"/>
          </a:xfrm>
          <a:custGeom>
            <a:avLst/>
            <a:gdLst>
              <a:gd name="textAreaLeft" fmla="*/ 360 w 4491000"/>
              <a:gd name="textAreaRight" fmla="*/ 4490640 w 4491000"/>
              <a:gd name="textAreaTop" fmla="*/ 360 h 6945480"/>
              <a:gd name="textAreaBottom" fmla="*/ 6945120 h 6945480"/>
            </a:gdLst>
            <a:ahLst/>
            <a:rect l="textAreaLeft" t="textAreaTop" r="textAreaRight" b="textAreaBottom"/>
            <a:pathLst>
              <a:path w="21600" h="33404">
                <a:moveTo>
                  <a:pt x="8" y="0"/>
                </a:moveTo>
                <a:arcTo wR="8" hR="8" stAng="16200000" swAng="-5400000"/>
                <a:lnTo>
                  <a:pt x="0" y="33396"/>
                </a:lnTo>
                <a:arcTo wR="8" hR="8" stAng="10800000" swAng="-5400000"/>
                <a:lnTo>
                  <a:pt x="21592" y="33404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imes New Roman"/>
                <a:ea typeface="HG Mincho Light J;MS Gothic;HG"/>
              </a:rPr>
              <a:t>Feb 2004 month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imes New Roman"/>
                <a:ea typeface="HG Mincho Light J;MS Gothic;HG"/>
              </a:rPr>
              <a:t>downward long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-generally a low 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-significant effect on nighttime surface cooling by low-level clo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-influences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made in land-su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and PBL form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e.g. when addr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;MS Gothic;HG"/>
              </a:rPr>
              <a:t>near-sfc cold bi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22960" y="385920"/>
            <a:ext cx="6045480" cy="1306080"/>
          </a:xfrm>
          <a:prstGeom prst="roundRect">
            <a:avLst>
              <a:gd name="adj" fmla="val 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Summer:  warm/dry b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astern CONUS, Aug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86080" y="1690560"/>
            <a:ext cx="8594640" cy="5675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82280" y="6364440"/>
            <a:ext cx="5090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7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6480" y="2152800"/>
            <a:ext cx="5090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7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080" y="2886120"/>
            <a:ext cx="696240" cy="924480"/>
          </a:xfrm>
          <a:custGeom>
            <a:avLst/>
            <a:gdLst>
              <a:gd name="textAreaLeft" fmla="*/ 360 w 696240"/>
              <a:gd name="textAreaRight" fmla="*/ 695880 w 696240"/>
              <a:gd name="textAreaTop" fmla="*/ 360 h 924480"/>
              <a:gd name="textAreaBottom" fmla="*/ 924120 h 924480"/>
            </a:gdLst>
            <a:ahLst/>
            <a:rect l="textAreaLeft" t="textAreaTop" r="textAreaRight" b="textAreaBottom"/>
            <a:pathLst>
              <a:path w="21600" h="28677">
                <a:moveTo>
                  <a:pt x="49" y="0"/>
                </a:moveTo>
                <a:arcTo wR="49" hR="49" stAng="16200000" swAng="-5400000"/>
                <a:lnTo>
                  <a:pt x="0" y="28628"/>
                </a:lnTo>
                <a:arcTo wR="49" hR="49" stAng="10800000" swAng="-5400000"/>
                <a:lnTo>
                  <a:pt x="21551" y="2867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-2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87280" y="2649600"/>
            <a:ext cx="908280" cy="616680"/>
          </a:xfrm>
          <a:prstGeom prst="roundRect">
            <a:avLst>
              <a:gd name="adj" fmla="val 2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s 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1520" y="3951360"/>
            <a:ext cx="42516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5520" y="4197240"/>
            <a:ext cx="816840" cy="995400"/>
          </a:xfrm>
          <a:custGeom>
            <a:avLst/>
            <a:gdLst>
              <a:gd name="textAreaLeft" fmla="*/ 360 w 816840"/>
              <a:gd name="textAreaRight" fmla="*/ 816480 w 816840"/>
              <a:gd name="textAreaTop" fmla="*/ 360 h 995400"/>
              <a:gd name="textAreaBottom" fmla="*/ 995040 h 995400"/>
            </a:gdLst>
            <a:ahLst/>
            <a:rect l="textAreaLeft" t="textAreaTop" r="textAreaRight" b="textAreaBottom"/>
            <a:pathLst>
              <a:path w="21600" h="26320">
                <a:moveTo>
                  <a:pt x="42" y="0"/>
                </a:moveTo>
                <a:arcTo wR="42" hR="42" stAng="16200000" swAng="-5400000"/>
                <a:lnTo>
                  <a:pt x="0" y="26278"/>
                </a:lnTo>
                <a:arcTo wR="42" hR="42" stAng="10800000" swAng="-5400000"/>
                <a:lnTo>
                  <a:pt x="21558" y="26320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771480"/>
            <a:ext cx="7529400" cy="6656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29440" y="76320"/>
            <a:ext cx="6356520" cy="684720"/>
          </a:xfrm>
          <a:prstGeom prst="roundRect">
            <a:avLst>
              <a:gd name="adj" fmla="val 2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HYSICS “WEB OF PAI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46560" y="317520"/>
            <a:ext cx="760320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ges (more) relevant to warm seas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3400" y="1119240"/>
            <a:ext cx="9256680" cy="149256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per WRF-Noah land-surface model unification, CMA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quests, us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igh-resolution (1-km) vegetation and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bases with more classes, vs old 1-degree data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2680" y="2949480"/>
            <a:ext cx="9448560" cy="1989720"/>
          </a:xfrm>
          <a:prstGeom prst="roundRect">
            <a:avLst>
              <a:gd name="adj" fmla="val 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s EDAS precipitation forcing low bi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nded to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ry soil moisture bi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ops EDAS, so ops can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ance had been tuned to higher values to 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able evaporation rates given low soil moisture b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920" y="5284800"/>
            <a:ext cx="9154440" cy="1989720"/>
          </a:xfrm>
          <a:prstGeom prst="roundRect">
            <a:avLst>
              <a:gd name="adj" fmla="val 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DASX precipitation increas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Ying Lin's new prec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similation and related code) with a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ubsequent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oisture increa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so vegetation parameters aff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poration re-exa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34880" y="1193760"/>
            <a:ext cx="8752320" cy="5896080"/>
          </a:xfrm>
          <a:prstGeom prst="roundRect">
            <a:avLst>
              <a:gd name="adj" fmla="val 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ower roughness length for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&gt;yields lower skin temperature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nce 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agnosed 2-m air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&gt;but no significant change to sensible heat flux d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ensating effects on exchange coefficient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-surface temperature grad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&gt;no significant change to latent heat flux primar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LE largely affected by canopy conducta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much larger than aerodynamic conduc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specially in regions with large greenness fr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46560" y="425520"/>
            <a:ext cx="760320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ges (more) relevant to warm seas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83200" y="384120"/>
            <a:ext cx="1497960" cy="560520"/>
          </a:xfrm>
          <a:prstGeom prst="roundRect">
            <a:avLst>
              <a:gd name="adj" fmla="val 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est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8680" y="1116000"/>
            <a:ext cx="8721720" cy="2794680"/>
          </a:xfrm>
          <a:prstGeom prst="roundRect">
            <a:avLst>
              <a:gd name="adj" fmla="val 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realtime parallel runs:  Eta model at 32-km, July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gust 2004 (though Noah LSM tested with va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nges in parallel since Dec 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retrospective runs: Eta model at 32-km, mult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th-long runs for July and Augus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0200" y="1504800"/>
            <a:ext cx="6870600" cy="5797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60360" y="3600360"/>
            <a:ext cx="4749840" cy="3106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8280" y="365040"/>
            <a:ext cx="902160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GS 24-class high-resolution (1-km) veg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set replaces old SiB 13-class 1-degree data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360" y="3271680"/>
            <a:ext cx="45864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7920" y="1814400"/>
            <a:ext cx="5127480" cy="3629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08640" y="736560"/>
            <a:ext cx="4373640" cy="4707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3640" y="5479920"/>
            <a:ext cx="9224640" cy="1989720"/>
          </a:xfrm>
          <a:prstGeom prst="roundRect">
            <a:avLst>
              <a:gd name="adj" fmla="val 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cessary to adjust TBOT for a given terrain ele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standard lapse rate = 6.5C/km).  For model “cold start”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il temperature states similarly adjusted for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 grid/terrain (ties in with soil moisture re-scal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2480" y="225360"/>
            <a:ext cx="768960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w 1-deg TBOT (soil temperature) dat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laces old (global) 2.5-degree data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0400" y="1386000"/>
            <a:ext cx="418932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ld 2.5-deg mapped to 12-k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3714840"/>
            <a:ext cx="1366920" cy="92448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1-d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pp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-k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25400" y="363600"/>
            <a:ext cx="886140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w STATSGO 16-class high-resolution (1-km)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base replaces old Zobler 9-class 1-degree data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0200" y="1504800"/>
            <a:ext cx="6870600" cy="579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0360" y="3600360"/>
            <a:ext cx="4749840" cy="3106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79640" y="3271680"/>
            <a:ext cx="815400" cy="308880"/>
          </a:xfrm>
          <a:prstGeom prst="roundRect">
            <a:avLst>
              <a:gd name="adj" fmla="val 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ffice 2004 Test Drive User</cp:lastModifiedBy>
  <dcterms:modified xsi:type="dcterms:W3CDTF">2005-09-12T12:53:27Z</dcterms:modified>
  <cp:revision>38</cp:revision>
  <dc:subject/>
  <dc:title>PowerPoint Presentation</dc:title>
</cp:coreProperties>
</file>