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2.png" ContentType="image/png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7AEB-22BE-4DBC-BCCF-5E4D2E1E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91F1-CE09-4512-B00C-9A10C05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DDA0-E954-4077-9837-23214A13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96B1-8FDA-4B83-A9A0-AAFDFC7C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6834-733A-44EB-BB33-0DE5AFAB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873E-0F91-435A-AACD-1A4BC6D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FDC3-389F-4A8D-96DE-05168867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DEFB-291C-4FCE-9C7B-86644C2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90D-2506-47C9-BF1E-41343D5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6852-CEE5-47AC-9ADC-160F1E5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DD78-D4C5-4F76-A302-57802902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0769-0CAA-4692-A3E9-5A6CDEA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F36-3BA1-441C-9D88-A806E6FE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A72-90E8-4195-AC10-FA49B4A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E56D-2B87-404A-A677-15B49EA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1A0F-A761-4F4F-BB8E-295CACAE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A4F7-AE1D-419B-82CA-10759B04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4AC8-D1A2-458B-920C-622EE85E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A696-8374-47A7-916D-A5DD367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16E6-934C-4722-B5EB-89A2100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E79C-F885-47FA-B2BE-BDE78215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2044-1245-4417-86E5-543B1B8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1163-221E-42A6-A54F-07D06D5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CE16-989D-40BF-93EA-036121F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EBB-5D91-4058-B46B-B1999BC8F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CF9-2353-4E0F-A575-1683ED830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Remote Sensing Derived Land Use/Cover Data for Urban Modeling in MM5 and WRF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560" y="32000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Susanne Grossman-Clarke</a:t>
            </a:r>
            <a:r>
              <a:rPr b="1" lang="en-US" sz="2400" spc="-1" strike="noStrike" baseline="30000">
                <a:solidFill>
                  <a:srgbClr val="ffffcc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Joseph A. Zehnder</a:t>
            </a:r>
            <a:r>
              <a:rPr b="1" lang="en-US" sz="2400" spc="-1" strike="noStrike" baseline="30000">
                <a:solidFill>
                  <a:srgbClr val="ffffcc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William Stefanov</a:t>
            </a:r>
            <a:r>
              <a:rPr b="1" lang="en-US" sz="24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Matthias Moeller</a:t>
            </a:r>
            <a:r>
              <a:rPr b="1" lang="en-US" sz="2400" spc="-1" strike="noStrike" baseline="30000">
                <a:solidFill>
                  <a:srgbClr val="ffffcc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International Institute for Sustainability, Arizona State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Image Science and Analysis Laboratory, NASA Johnson Space Ce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78280" y="6400800"/>
            <a:ext cx="478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Funded by National Science Foundation, NASA, Salt River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Refinements to model physic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Sky view fa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Anthropogenic heating  from cars and air conditioners (Sailor and Lu 200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Volumetric heat capacity and thermal conductivity of man-made materia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Sky view facto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33720" y="1600200"/>
                <a:ext cx="46101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a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h</m:t>
                                        </m:r>
                                      </m:num>
                                      <m:den>
                                        <m:r>
                                          <m:t xml:space="preserve">w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057400" y="2971800"/>
                <a:ext cx="4826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n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y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↓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28600" y="4948200"/>
            <a:ext cx="42670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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road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ky view factor for r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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sky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ky view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uilding 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oad 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4948200"/>
            <a:ext cx="42670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ng-wave radiation ba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ncoming long-wave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round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missivity of the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nthropogenic hea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4038480"/>
            <a:ext cx="739152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a,v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 Q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a,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thropogenic heat from traffic and electricity consu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pop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vg. population density for urban LU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our of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t   </a:t>
            </a:r>
            <a:r>
              <a:rPr b="0" i="1" lang="en-US" sz="1800" spc="-1" strike="noStrike">
                <a:solidFill>
                  <a:srgbClr val="ffffcc"/>
                </a:solidFill>
                <a:latin typeface="Garamond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ourly fractional traffic profiles and electricity consu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DVD</a:t>
            </a:r>
            <a:r>
              <a:rPr b="0" lang="en-US" sz="18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vg. daily vehicle distance traveled per person in Phoe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EV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ergy release per vehicle per meter of tra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aily per capita electricity consump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9640" y="1308240"/>
                <a:ext cx="74502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38360" y="2514600"/>
                <a:ext cx="5905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iurnal variation of anthropogenic heat for Phoenix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581880" cy="426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95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(-x -) urban built-up; (-</a:t>
            </a:r>
            <a:r>
              <a:rPr b="1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-) mesic residential; (-</a:t>
            </a:r>
            <a:r>
              <a:rPr b="1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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-) xeric resid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Design of numerical simula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1700 LST June 07 – 1700 LST June 10, 199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Nested 54, 18, 6, 2 k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51 vertical lay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NCEP Eta Analysis 40 k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30 sec terrain &amp; land use da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MRF boundary layer scheme (Liu et al. 200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5 layer soil mod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57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imulations of the surface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7200" cy="24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3880" y="4419720"/>
            <a:ext cx="34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Correcting landcover impro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daytime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Heat storage, anthropogenic heat, sky view factor improves nighttime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267080" cy="2462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5791320"/>
            <a:ext cx="792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mic Sans MS"/>
              </a:rPr>
              <a:t>Model performance validated with observations from the National Weather Service, Salt River Project (PRISMS) and U of Arizona Agricultural Extension (AZMET)  through a variety of landcover catego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52880" y="2008080"/>
            <a:ext cx="3581640" cy="3326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733920" cy="3353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8320" y="66600"/>
            <a:ext cx="753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Regional surface temperature predi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(8 June 19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447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5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5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562720"/>
            <a:ext cx="374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Relatively little temperature difference between urban and desert areas during the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89680" y="5622840"/>
            <a:ext cx="374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Urban heat island at n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Temperatures 8-10 </a:t>
            </a:r>
            <a:r>
              <a:rPr b="0" lang="en-US" sz="2000" spc="-1" strike="noStrike" baseline="30000">
                <a:solidFill>
                  <a:srgbClr val="ffffcc"/>
                </a:solidFill>
                <a:latin typeface="Garamond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F in city compared to outlying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imulated surface energy fluxes for 7-10 June 1998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at Sky Harbor Airpor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638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net radiation; (---) sensible heat flux; (---) latent heat flux;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heat storage flux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r original and ‘urbanized’ values of 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cc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ffffcc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7600" y="1028880"/>
            <a:ext cx="7029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imulated surface energy fluxes for 7-10 June 1998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at Pringl (change from ‘shrubland’ to ‘xeric residential’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57320" y="1054080"/>
          <a:ext cx="73245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1054080"/>
                    <a:ext cx="73245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522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net radiation; (---) sensible heat flux; (---) latent heat flux;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heat storage flux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r the 1998 26-category and USGS 24-category LUL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imulated surface energy fluxes for 7-10 June 1998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at Sheely (change from ‘irrig. ag.’ to ‘xeric residential’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net radiation; (---) sensible heat flux; (---) latent heat flux;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heat storage flux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r the 1998 26-category and USGS 24-category LUL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9560" y="1066680"/>
          <a:ext cx="71848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066680"/>
                    <a:ext cx="7184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Representation of urban areas in mesoscale meteorological model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Land use/cover classes and physical characterist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Physical description of momentum, energy and matter exchange between the urban surface and the atmosp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imulated surface energy fluxes for 7-10 June 1998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at Pera (change from ‘urban’ to ‘xeric residential’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net radiation; (---) sensible heat flux; (---) latent heat flux;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—) heat storage flux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r the 1998 26-category and USGS 24-category LUL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49320" y="1036800"/>
          <a:ext cx="72439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1036800"/>
                    <a:ext cx="7243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WRF/Noah/UCM </a:t>
            </a:r>
            <a:br>
              <a:rPr sz="3600"/>
            </a:b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Kusaka and Kimura 2004; Chen </a:t>
            </a: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et al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2004)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14360" y="1873080"/>
            <a:ext cx="66103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Land use/cover characteristics in WRF/Noah/UC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Fraction cover of vegetation and man-made surfa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Four urban LULC classes (high, medium, low density and commercial industria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Building height, coverage area, roof and wall area rat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Roughness length and zero plane displacement heigh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Albedo and emissiv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Thermal conductivity and volumetric heat capacity of roof, wall and ro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Challeng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Derive WRF/Noah/UCM input parameters in an efficient and easy to update way for US cities and cities around the glob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Use of remote sensing derived data from Satellite or Lid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STER derived land use cover for use in WRF/Noah/UC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Advanced Spaceborne Thermal Emission and Reflection Radiometer (ASTE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3 bands visible to near-infrared 15m/pixel; 6 bands shortwave infrared 30m/pixel; 5 bands thermal infrared 90m/pix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In comparison to Landsa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Expanded wavelength rang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Improved spectral resolu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Higher Spatial re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wo step image post-processing using an object-oriented classification approach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Derive urban land use/cover classes from fractions of non-vegetation co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Derive input parame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Roof cover from vnir and shape dete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Vegetation cover from vegetation index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Roads, gravel etc. from sw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Albedo from bidirectional reflect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81920" cy="5667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ixel fractions in a 1 km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Conclus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Urban land use/cover classification and associated physical parameters important for mesoscale meteorological mode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LULC and some of the physical paramters can be efficiently derived from satellite imag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Support from funding agencies 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Land use data in MM5 &amp; WRF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Global 24-category USGS Land Use/Co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Vegetation cover from 1-km Advanced Very High Resolution Radiometer data (1992/1993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Urban areas from Digital Chart of the World (Defense Mapping Agency 1992; photogrammetric analyses imagery acquired in the 1960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9596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15000" y="457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The Phoenix Metropolitan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556272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Brazel et al. 2000: The tale of two climates—Baltimore and Phoenix urban LTER sites. Clim Res., Vol. 15: 123–13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Remote sensing derived land use/cover data for Phoenix, AZ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Based on Landsat Thematic Mapper satellite im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Postclassification in expert system using additional data s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Land cover data 30 meter resolu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867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tefanov </a:t>
            </a:r>
            <a:r>
              <a:rPr b="0" i="1" lang="en-US" sz="2400" spc="-1" strike="noStrike">
                <a:solidFill>
                  <a:srgbClr val="ffffcc"/>
                </a:solidFill>
                <a:latin typeface="Garamond"/>
              </a:rPr>
              <a:t>et al.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2001, </a:t>
            </a:r>
            <a:r>
              <a:rPr b="0" i="1" lang="en-US" sz="2400" spc="-1" strike="noStrike">
                <a:solidFill>
                  <a:srgbClr val="ffffcc"/>
                </a:solidFill>
                <a:latin typeface="Garamond"/>
              </a:rPr>
              <a:t>Remote Sens. Environ.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77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, 173-18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5160" y="447840"/>
            <a:ext cx="791532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Convert data for use in MM5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Re-projecting data to the geographic projection parameters of 30-second USGS data s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Mapping categories to 24 USGS catego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Land cover class with highest fraction of cover assigned to 30 s grid c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Additional urban land use/cover clas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urban built-up (no vegeta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mesic residential (well-water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xeric residential (drought-adapted vegeta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MM5 TERRAIN 2 km land use/cove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324840" cy="408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54160" y="175248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8480" y="1752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411120"/>
          <a:ext cx="9144000" cy="5608800"/>
        </p:xfrm>
        <a:graphic>
          <a:graphicData uri="http://schemas.openxmlformats.org/drawingml/2006/table">
            <a:tbl>
              <a:tblPr/>
              <a:tblGrid>
                <a:gridCol w="3124080"/>
                <a:gridCol w="1874880"/>
                <a:gridCol w="2071800"/>
                <a:gridCol w="2073240"/>
              </a:tblGrid>
              <a:tr h="102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Urb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built-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Urban mesic resident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Urban xeric resident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raction of vegetation cover (/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3 (irrigat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 (partly irrigat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oisture availability factor (/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oughness length for momentum [m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olumetric heat capacity (10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J m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hermal conductivity (W m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ky view factor (/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20:01Z</dcterms:created>
  <dc:creator>sgrossm</dc:creator>
  <dc:description/>
  <dc:language>en-US</dc:language>
  <cp:lastModifiedBy>sgrossm</cp:lastModifiedBy>
  <dcterms:modified xsi:type="dcterms:W3CDTF">2005-09-12T17:11:45Z</dcterms:modified>
  <cp:revision>41</cp:revision>
  <dc:subject/>
  <dc:title>Remote Sensing Derived land use/cover data for urban modeling in MM5 and WRF </dc:title>
</cp:coreProperties>
</file>