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882-0530-4945-8CF7-CA78D78B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DDE-596D-4770-81BA-5BC3CBEF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CDB-3676-494C-B761-FA7F9658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995-CE0E-40FE-950B-CD1F249E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79CD-0FC2-4992-AC1D-7475EFBF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3526-417A-4B71-BBEB-99CD78F9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BA0F-F96C-4348-BC9B-F76C52B6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07CD-C176-4B19-A674-6E9E6F36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F656-789A-4D41-B01A-AD1DAFD7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CD7C-33BA-4FA6-BDF0-9A440C6D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9AED-C16A-4F3A-92BD-D84A496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9A3-1024-480D-B976-A6F3F761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F56D-0E0C-430C-A989-3234348C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A622-32B0-4552-BBBF-BEB92C36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8008-3FF5-4B16-8249-617D96D1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9C1B-90F7-4096-A644-5F1E9C43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BF9A-D97E-40E2-8CBA-96F82EA4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B55-CA0F-4199-A301-B0C9A6C4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254-E6E5-4468-A90E-6777F014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4AF-11A1-4ECD-9783-F1A0FA57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806-9F8A-4A62-967E-0DDFE387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323-200B-49C3-BE23-91AEDF96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8F1-2368-477B-9EBE-2906CB2C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DC3-D202-4C2C-83DA-0D08634B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8D6F-C75A-4478-8EEA-2B41A91F2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A69D-B5AC-4986-8F07-4AB3BCB288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53352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rporation and use of the NOAH LSM in the Coupled/Ocean Atmosphere Mesoscale Prediction System (COAMPS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89560" y="2894040"/>
            <a:ext cx="576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ddy Ho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val Research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ne Meteorology Division, Code 753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erey, 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t@nrlmry.navy.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638680"/>
            <a:ext cx="60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th WRF Land Surface Modeling Worksho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CAR, Boulder 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-15 September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55840" y="6580080"/>
            <a:ext cx="497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MPS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is a registered trademark of the Naval Research Labor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81080" y="990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RF-COAMPS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Soil Analysis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832040"/>
            <a:ext cx="830592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-line WRF-COAMP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SM system that can run 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or multiple processors (MP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cing fie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AMPS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ar surface wind, temperature, and dew poi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mperature analyses (MVOI or 3D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RMET radiation, precipitation, and snow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RL SSMI/TRMM precipitation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assim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milation of high-resolution skin temperature retrieve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IR radiance (MODIS and AVHRR)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588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going and 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288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289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1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3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6400" y="1133640"/>
            <a:ext cx="7772400" cy="58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AMP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LSM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be transitioned to operations 30 Sept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not be “turned on” until viable soil initialization is avail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ding expires 30 Sept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RF-COAMP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oil Analysis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ing slowed by MSRC downtime due to Katr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rger with HRLDAS/ new WRF system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ability/use for non-CONUS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RMET global resolution (15 km?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n-up time/data avail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version of LSM code do we have/u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does WRF-COAMP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I integrate into LS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s (global) applicable for high-resolutions (~1k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SA LIS (?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idation/Evalu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7316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ion of LSM with urban parameter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2588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297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0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626640" y="13050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obolsk,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440" y="4540320"/>
            <a:ext cx="2440080" cy="1388880"/>
          </a:xfrm>
          <a:custGeom>
            <a:avLst/>
            <a:gdLst/>
            <a:ahLst/>
            <a:rect l="l" t="t" r="r" b="b"/>
            <a:pathLst>
              <a:path w="2196" h="1249">
                <a:moveTo>
                  <a:pt x="0" y="421"/>
                </a:moveTo>
                <a:cubicBezTo>
                  <a:pt x="12" y="384"/>
                  <a:pt x="41" y="361"/>
                  <a:pt x="69" y="337"/>
                </a:cubicBezTo>
                <a:cubicBezTo>
                  <a:pt x="79" y="329"/>
                  <a:pt x="83" y="320"/>
                  <a:pt x="93" y="313"/>
                </a:cubicBezTo>
                <a:cubicBezTo>
                  <a:pt x="112" y="285"/>
                  <a:pt x="142" y="270"/>
                  <a:pt x="174" y="265"/>
                </a:cubicBezTo>
                <a:cubicBezTo>
                  <a:pt x="184" y="266"/>
                  <a:pt x="194" y="265"/>
                  <a:pt x="204" y="268"/>
                </a:cubicBezTo>
                <a:cubicBezTo>
                  <a:pt x="207" y="269"/>
                  <a:pt x="207" y="275"/>
                  <a:pt x="210" y="277"/>
                </a:cubicBezTo>
                <a:cubicBezTo>
                  <a:pt x="217" y="282"/>
                  <a:pt x="229" y="285"/>
                  <a:pt x="237" y="289"/>
                </a:cubicBezTo>
                <a:cubicBezTo>
                  <a:pt x="243" y="293"/>
                  <a:pt x="249" y="297"/>
                  <a:pt x="255" y="301"/>
                </a:cubicBezTo>
                <a:cubicBezTo>
                  <a:pt x="258" y="303"/>
                  <a:pt x="264" y="307"/>
                  <a:pt x="264" y="307"/>
                </a:cubicBezTo>
                <a:cubicBezTo>
                  <a:pt x="270" y="316"/>
                  <a:pt x="289" y="347"/>
                  <a:pt x="294" y="352"/>
                </a:cubicBezTo>
                <a:cubicBezTo>
                  <a:pt x="300" y="358"/>
                  <a:pt x="312" y="370"/>
                  <a:pt x="312" y="370"/>
                </a:cubicBezTo>
                <a:cubicBezTo>
                  <a:pt x="318" y="389"/>
                  <a:pt x="329" y="401"/>
                  <a:pt x="345" y="412"/>
                </a:cubicBezTo>
                <a:cubicBezTo>
                  <a:pt x="354" y="426"/>
                  <a:pt x="359" y="436"/>
                  <a:pt x="372" y="445"/>
                </a:cubicBezTo>
                <a:cubicBezTo>
                  <a:pt x="377" y="461"/>
                  <a:pt x="391" y="488"/>
                  <a:pt x="408" y="496"/>
                </a:cubicBezTo>
                <a:cubicBezTo>
                  <a:pt x="417" y="501"/>
                  <a:pt x="435" y="511"/>
                  <a:pt x="435" y="511"/>
                </a:cubicBezTo>
                <a:cubicBezTo>
                  <a:pt x="448" y="531"/>
                  <a:pt x="472" y="555"/>
                  <a:pt x="492" y="568"/>
                </a:cubicBezTo>
                <a:cubicBezTo>
                  <a:pt x="498" y="576"/>
                  <a:pt x="549" y="623"/>
                  <a:pt x="558" y="628"/>
                </a:cubicBezTo>
                <a:cubicBezTo>
                  <a:pt x="573" y="636"/>
                  <a:pt x="566" y="624"/>
                  <a:pt x="585" y="643"/>
                </a:cubicBezTo>
                <a:cubicBezTo>
                  <a:pt x="615" y="673"/>
                  <a:pt x="661" y="697"/>
                  <a:pt x="696" y="721"/>
                </a:cubicBezTo>
                <a:cubicBezTo>
                  <a:pt x="705" y="748"/>
                  <a:pt x="738" y="763"/>
                  <a:pt x="762" y="775"/>
                </a:cubicBezTo>
                <a:cubicBezTo>
                  <a:pt x="768" y="778"/>
                  <a:pt x="774" y="781"/>
                  <a:pt x="780" y="784"/>
                </a:cubicBezTo>
                <a:cubicBezTo>
                  <a:pt x="786" y="787"/>
                  <a:pt x="798" y="790"/>
                  <a:pt x="798" y="790"/>
                </a:cubicBezTo>
                <a:cubicBezTo>
                  <a:pt x="850" y="786"/>
                  <a:pt x="843" y="780"/>
                  <a:pt x="882" y="754"/>
                </a:cubicBezTo>
                <a:cubicBezTo>
                  <a:pt x="891" y="748"/>
                  <a:pt x="909" y="733"/>
                  <a:pt x="909" y="733"/>
                </a:cubicBezTo>
                <a:cubicBezTo>
                  <a:pt x="919" y="718"/>
                  <a:pt x="932" y="703"/>
                  <a:pt x="945" y="691"/>
                </a:cubicBezTo>
                <a:cubicBezTo>
                  <a:pt x="950" y="686"/>
                  <a:pt x="963" y="679"/>
                  <a:pt x="963" y="679"/>
                </a:cubicBezTo>
                <a:cubicBezTo>
                  <a:pt x="977" y="657"/>
                  <a:pt x="995" y="625"/>
                  <a:pt x="1017" y="610"/>
                </a:cubicBezTo>
                <a:cubicBezTo>
                  <a:pt x="1031" y="588"/>
                  <a:pt x="1043" y="565"/>
                  <a:pt x="1065" y="550"/>
                </a:cubicBezTo>
                <a:cubicBezTo>
                  <a:pt x="1079" y="529"/>
                  <a:pt x="1071" y="536"/>
                  <a:pt x="1086" y="526"/>
                </a:cubicBezTo>
                <a:cubicBezTo>
                  <a:pt x="1091" y="511"/>
                  <a:pt x="1099" y="501"/>
                  <a:pt x="1110" y="490"/>
                </a:cubicBezTo>
                <a:cubicBezTo>
                  <a:pt x="1117" y="470"/>
                  <a:pt x="1107" y="492"/>
                  <a:pt x="1122" y="475"/>
                </a:cubicBezTo>
                <a:cubicBezTo>
                  <a:pt x="1133" y="462"/>
                  <a:pt x="1142" y="444"/>
                  <a:pt x="1152" y="430"/>
                </a:cubicBezTo>
                <a:cubicBezTo>
                  <a:pt x="1164" y="412"/>
                  <a:pt x="1176" y="394"/>
                  <a:pt x="1188" y="376"/>
                </a:cubicBezTo>
                <a:cubicBezTo>
                  <a:pt x="1197" y="362"/>
                  <a:pt x="1199" y="345"/>
                  <a:pt x="1209" y="331"/>
                </a:cubicBezTo>
                <a:cubicBezTo>
                  <a:pt x="1215" y="322"/>
                  <a:pt x="1230" y="295"/>
                  <a:pt x="1233" y="286"/>
                </a:cubicBezTo>
                <a:cubicBezTo>
                  <a:pt x="1236" y="276"/>
                  <a:pt x="1248" y="259"/>
                  <a:pt x="1248" y="259"/>
                </a:cubicBezTo>
                <a:cubicBezTo>
                  <a:pt x="1254" y="237"/>
                  <a:pt x="1265" y="209"/>
                  <a:pt x="1281" y="193"/>
                </a:cubicBezTo>
                <a:cubicBezTo>
                  <a:pt x="1287" y="176"/>
                  <a:pt x="1303" y="164"/>
                  <a:pt x="1308" y="148"/>
                </a:cubicBezTo>
                <a:cubicBezTo>
                  <a:pt x="1316" y="125"/>
                  <a:pt x="1327" y="102"/>
                  <a:pt x="1341" y="82"/>
                </a:cubicBezTo>
                <a:cubicBezTo>
                  <a:pt x="1345" y="76"/>
                  <a:pt x="1353" y="76"/>
                  <a:pt x="1359" y="73"/>
                </a:cubicBezTo>
                <a:cubicBezTo>
                  <a:pt x="1381" y="63"/>
                  <a:pt x="1401" y="54"/>
                  <a:pt x="1425" y="49"/>
                </a:cubicBezTo>
                <a:cubicBezTo>
                  <a:pt x="1445" y="45"/>
                  <a:pt x="1465" y="34"/>
                  <a:pt x="1485" y="31"/>
                </a:cubicBezTo>
                <a:cubicBezTo>
                  <a:pt x="1531" y="23"/>
                  <a:pt x="1577" y="14"/>
                  <a:pt x="1623" y="7"/>
                </a:cubicBezTo>
                <a:cubicBezTo>
                  <a:pt x="1664" y="9"/>
                  <a:pt x="1698" y="0"/>
                  <a:pt x="1731" y="22"/>
                </a:cubicBezTo>
                <a:cubicBezTo>
                  <a:pt x="1733" y="25"/>
                  <a:pt x="1734" y="28"/>
                  <a:pt x="1737" y="31"/>
                </a:cubicBezTo>
                <a:cubicBezTo>
                  <a:pt x="1740" y="34"/>
                  <a:pt x="1744" y="34"/>
                  <a:pt x="1746" y="37"/>
                </a:cubicBezTo>
                <a:cubicBezTo>
                  <a:pt x="1751" y="44"/>
                  <a:pt x="1754" y="56"/>
                  <a:pt x="1758" y="64"/>
                </a:cubicBezTo>
                <a:cubicBezTo>
                  <a:pt x="1767" y="80"/>
                  <a:pt x="1777" y="93"/>
                  <a:pt x="1785" y="109"/>
                </a:cubicBezTo>
                <a:cubicBezTo>
                  <a:pt x="1796" y="132"/>
                  <a:pt x="1797" y="163"/>
                  <a:pt x="1803" y="187"/>
                </a:cubicBezTo>
                <a:cubicBezTo>
                  <a:pt x="1807" y="204"/>
                  <a:pt x="1822" y="216"/>
                  <a:pt x="1827" y="232"/>
                </a:cubicBezTo>
                <a:cubicBezTo>
                  <a:pt x="1831" y="244"/>
                  <a:pt x="1835" y="256"/>
                  <a:pt x="1839" y="268"/>
                </a:cubicBezTo>
                <a:cubicBezTo>
                  <a:pt x="1855" y="317"/>
                  <a:pt x="1857" y="370"/>
                  <a:pt x="1863" y="421"/>
                </a:cubicBezTo>
                <a:cubicBezTo>
                  <a:pt x="1867" y="460"/>
                  <a:pt x="1879" y="499"/>
                  <a:pt x="1887" y="538"/>
                </a:cubicBezTo>
                <a:cubicBezTo>
                  <a:pt x="1894" y="575"/>
                  <a:pt x="1905" y="613"/>
                  <a:pt x="1917" y="649"/>
                </a:cubicBezTo>
                <a:cubicBezTo>
                  <a:pt x="1923" y="667"/>
                  <a:pt x="1924" y="693"/>
                  <a:pt x="1935" y="709"/>
                </a:cubicBezTo>
                <a:cubicBezTo>
                  <a:pt x="1949" y="730"/>
                  <a:pt x="1954" y="760"/>
                  <a:pt x="1962" y="784"/>
                </a:cubicBezTo>
                <a:cubicBezTo>
                  <a:pt x="1965" y="794"/>
                  <a:pt x="1972" y="801"/>
                  <a:pt x="1974" y="811"/>
                </a:cubicBezTo>
                <a:cubicBezTo>
                  <a:pt x="1978" y="830"/>
                  <a:pt x="1977" y="854"/>
                  <a:pt x="1986" y="871"/>
                </a:cubicBezTo>
                <a:cubicBezTo>
                  <a:pt x="2002" y="904"/>
                  <a:pt x="2022" y="936"/>
                  <a:pt x="2037" y="970"/>
                </a:cubicBezTo>
                <a:cubicBezTo>
                  <a:pt x="2050" y="1000"/>
                  <a:pt x="2057" y="1023"/>
                  <a:pt x="2076" y="1051"/>
                </a:cubicBezTo>
                <a:cubicBezTo>
                  <a:pt x="2094" y="1077"/>
                  <a:pt x="2093" y="1119"/>
                  <a:pt x="2121" y="1138"/>
                </a:cubicBezTo>
                <a:cubicBezTo>
                  <a:pt x="2129" y="1150"/>
                  <a:pt x="2142" y="1163"/>
                  <a:pt x="2154" y="1171"/>
                </a:cubicBezTo>
                <a:cubicBezTo>
                  <a:pt x="2161" y="1193"/>
                  <a:pt x="2171" y="1212"/>
                  <a:pt x="2187" y="1228"/>
                </a:cubicBezTo>
                <a:cubicBezTo>
                  <a:pt x="2193" y="1247"/>
                  <a:pt x="2189" y="1242"/>
                  <a:pt x="2196" y="1249"/>
                </a:cubicBezTo>
              </a:path>
            </a:pathLst>
          </a:custGeom>
          <a:noFill/>
          <a:ln w="19080">
            <a:solidFill>
              <a:srgbClr val="ff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3240" y="5680080"/>
            <a:ext cx="2423880" cy="77760"/>
          </a:xfrm>
          <a:custGeom>
            <a:avLst/>
            <a:gdLst/>
            <a:ahLst/>
            <a:rect l="l" t="t" r="r" b="b"/>
            <a:pathLst>
              <a:path w="1527" h="49">
                <a:moveTo>
                  <a:pt x="0" y="25"/>
                </a:moveTo>
                <a:cubicBezTo>
                  <a:pt x="44" y="34"/>
                  <a:pt x="20" y="32"/>
                  <a:pt x="72" y="28"/>
                </a:cubicBezTo>
                <a:cubicBezTo>
                  <a:pt x="138" y="15"/>
                  <a:pt x="216" y="28"/>
                  <a:pt x="285" y="25"/>
                </a:cubicBezTo>
                <a:cubicBezTo>
                  <a:pt x="325" y="15"/>
                  <a:pt x="372" y="18"/>
                  <a:pt x="414" y="16"/>
                </a:cubicBezTo>
                <a:cubicBezTo>
                  <a:pt x="526" y="0"/>
                  <a:pt x="643" y="10"/>
                  <a:pt x="756" y="13"/>
                </a:cubicBezTo>
                <a:cubicBezTo>
                  <a:pt x="801" y="18"/>
                  <a:pt x="838" y="26"/>
                  <a:pt x="885" y="28"/>
                </a:cubicBezTo>
                <a:cubicBezTo>
                  <a:pt x="985" y="39"/>
                  <a:pt x="1085" y="38"/>
                  <a:pt x="1185" y="40"/>
                </a:cubicBezTo>
                <a:cubicBezTo>
                  <a:pt x="1280" y="49"/>
                  <a:pt x="1381" y="37"/>
                  <a:pt x="1476" y="34"/>
                </a:cubicBezTo>
                <a:cubicBezTo>
                  <a:pt x="1493" y="33"/>
                  <a:pt x="1527" y="31"/>
                  <a:pt x="1527" y="31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02200" y="1484280"/>
            <a:ext cx="18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-m air temp (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02200" y="4191120"/>
            <a:ext cx="18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-m air temp (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024600" y="4956120"/>
            <a:ext cx="1195200" cy="641520"/>
            <a:chOff x="6024600" y="4956120"/>
            <a:chExt cx="1195200" cy="641520"/>
          </a:xfrm>
        </p:grpSpPr>
        <p:sp>
          <p:nvSpPr>
            <p:cNvPr id="308" name=""/>
            <p:cNvSpPr/>
            <p:nvPr/>
          </p:nvSpPr>
          <p:spPr>
            <a:xfrm>
              <a:off x="6024600" y="5011560"/>
              <a:ext cx="1114560" cy="584280"/>
            </a:xfrm>
            <a:prstGeom prst="rect">
              <a:avLst/>
            </a:prstGeom>
            <a:solidFill>
              <a:srgbClr val="0000a4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3000" y="5103720"/>
              <a:ext cx="48888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3000" y="5286240"/>
              <a:ext cx="4888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3000" y="5468760"/>
              <a:ext cx="48888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31480" y="495612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38680" y="513540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S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37240" y="532116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G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946080" y="1793880"/>
            <a:ext cx="2697120" cy="1859040"/>
            <a:chOff x="946080" y="1793880"/>
            <a:chExt cx="2697120" cy="1859040"/>
          </a:xfrm>
        </p:grpSpPr>
        <p:pic>
          <p:nvPicPr>
            <p:cNvPr id="316" name="" descr=""/>
            <p:cNvPicPr/>
            <p:nvPr/>
          </p:nvPicPr>
          <p:blipFill>
            <a:blip r:embed="rId2"/>
            <a:srcRect l="3874" t="19001" r="12874" b="23626"/>
            <a:stretch/>
          </p:blipFill>
          <p:spPr>
            <a:xfrm>
              <a:off x="946080" y="1793880"/>
              <a:ext cx="26971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144440" y="2292120"/>
              <a:ext cx="2421720" cy="396720"/>
            </a:xfrm>
            <a:custGeom>
              <a:avLst/>
              <a:gdLst/>
              <a:ahLst/>
              <a:rect l="l" t="t" r="r" b="b"/>
              <a:pathLst>
                <a:path w="3588" h="588">
                  <a:moveTo>
                    <a:pt x="0" y="0"/>
                  </a:moveTo>
                  <a:cubicBezTo>
                    <a:pt x="51" y="17"/>
                    <a:pt x="65" y="59"/>
                    <a:pt x="108" y="78"/>
                  </a:cubicBezTo>
                  <a:cubicBezTo>
                    <a:pt x="146" y="95"/>
                    <a:pt x="175" y="97"/>
                    <a:pt x="216" y="102"/>
                  </a:cubicBezTo>
                  <a:cubicBezTo>
                    <a:pt x="306" y="132"/>
                    <a:pt x="405" y="171"/>
                    <a:pt x="498" y="186"/>
                  </a:cubicBezTo>
                  <a:cubicBezTo>
                    <a:pt x="613" y="205"/>
                    <a:pt x="736" y="209"/>
                    <a:pt x="852" y="216"/>
                  </a:cubicBezTo>
                  <a:cubicBezTo>
                    <a:pt x="914" y="226"/>
                    <a:pt x="976" y="225"/>
                    <a:pt x="1038" y="234"/>
                  </a:cubicBezTo>
                  <a:cubicBezTo>
                    <a:pt x="1057" y="240"/>
                    <a:pt x="1081" y="242"/>
                    <a:pt x="1098" y="252"/>
                  </a:cubicBezTo>
                  <a:cubicBezTo>
                    <a:pt x="1149" y="281"/>
                    <a:pt x="1188" y="303"/>
                    <a:pt x="1248" y="312"/>
                  </a:cubicBezTo>
                  <a:cubicBezTo>
                    <a:pt x="1269" y="319"/>
                    <a:pt x="1298" y="338"/>
                    <a:pt x="1320" y="342"/>
                  </a:cubicBezTo>
                  <a:cubicBezTo>
                    <a:pt x="1386" y="354"/>
                    <a:pt x="1505" y="353"/>
                    <a:pt x="1548" y="354"/>
                  </a:cubicBezTo>
                  <a:cubicBezTo>
                    <a:pt x="1604" y="363"/>
                    <a:pt x="1661" y="368"/>
                    <a:pt x="1716" y="384"/>
                  </a:cubicBezTo>
                  <a:cubicBezTo>
                    <a:pt x="1761" y="398"/>
                    <a:pt x="1809" y="411"/>
                    <a:pt x="1854" y="426"/>
                  </a:cubicBezTo>
                  <a:cubicBezTo>
                    <a:pt x="1873" y="432"/>
                    <a:pt x="1904" y="447"/>
                    <a:pt x="1926" y="450"/>
                  </a:cubicBezTo>
                  <a:cubicBezTo>
                    <a:pt x="2002" y="459"/>
                    <a:pt x="2076" y="480"/>
                    <a:pt x="2148" y="504"/>
                  </a:cubicBezTo>
                  <a:cubicBezTo>
                    <a:pt x="2171" y="512"/>
                    <a:pt x="2196" y="510"/>
                    <a:pt x="2220" y="516"/>
                  </a:cubicBezTo>
                  <a:cubicBezTo>
                    <a:pt x="2314" y="539"/>
                    <a:pt x="2366" y="562"/>
                    <a:pt x="2466" y="570"/>
                  </a:cubicBezTo>
                  <a:cubicBezTo>
                    <a:pt x="2478" y="574"/>
                    <a:pt x="2490" y="578"/>
                    <a:pt x="2502" y="582"/>
                  </a:cubicBezTo>
                  <a:cubicBezTo>
                    <a:pt x="2508" y="584"/>
                    <a:pt x="2520" y="588"/>
                    <a:pt x="2520" y="588"/>
                  </a:cubicBezTo>
                  <a:cubicBezTo>
                    <a:pt x="2576" y="586"/>
                    <a:pt x="2632" y="587"/>
                    <a:pt x="2688" y="582"/>
                  </a:cubicBezTo>
                  <a:cubicBezTo>
                    <a:pt x="2714" y="579"/>
                    <a:pt x="2729" y="535"/>
                    <a:pt x="2742" y="516"/>
                  </a:cubicBezTo>
                  <a:cubicBezTo>
                    <a:pt x="2765" y="482"/>
                    <a:pt x="2850" y="474"/>
                    <a:pt x="2886" y="444"/>
                  </a:cubicBezTo>
                  <a:cubicBezTo>
                    <a:pt x="2912" y="422"/>
                    <a:pt x="2918" y="401"/>
                    <a:pt x="2952" y="390"/>
                  </a:cubicBezTo>
                  <a:cubicBezTo>
                    <a:pt x="2970" y="362"/>
                    <a:pt x="3007" y="358"/>
                    <a:pt x="3036" y="342"/>
                  </a:cubicBezTo>
                  <a:cubicBezTo>
                    <a:pt x="3049" y="335"/>
                    <a:pt x="3058" y="323"/>
                    <a:pt x="3072" y="318"/>
                  </a:cubicBezTo>
                  <a:cubicBezTo>
                    <a:pt x="3084" y="314"/>
                    <a:pt x="3108" y="306"/>
                    <a:pt x="3108" y="306"/>
                  </a:cubicBezTo>
                  <a:cubicBezTo>
                    <a:pt x="3144" y="270"/>
                    <a:pt x="3184" y="264"/>
                    <a:pt x="3234" y="258"/>
                  </a:cubicBezTo>
                  <a:cubicBezTo>
                    <a:pt x="3288" y="240"/>
                    <a:pt x="3339" y="233"/>
                    <a:pt x="3396" y="228"/>
                  </a:cubicBezTo>
                  <a:cubicBezTo>
                    <a:pt x="3457" y="234"/>
                    <a:pt x="3533" y="224"/>
                    <a:pt x="3588" y="252"/>
                  </a:cubicBezTo>
                </a:path>
              </a:pathLst>
            </a:custGeom>
            <a:noFill/>
            <a:ln w="19080">
              <a:solidFill>
                <a:srgbClr val="ff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3"/>
          <a:srcRect l="4002" t="19001" r="13001" b="23626"/>
          <a:stretch/>
        </p:blipFill>
        <p:spPr>
          <a:xfrm>
            <a:off x="946080" y="4471920"/>
            <a:ext cx="2687760" cy="1857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149480" y="5261040"/>
            <a:ext cx="2420640" cy="326880"/>
          </a:xfrm>
          <a:custGeom>
            <a:avLst/>
            <a:gdLst/>
            <a:ahLst/>
            <a:rect l="l" t="t" r="r" b="b"/>
            <a:pathLst>
              <a:path w="3588" h="484">
                <a:moveTo>
                  <a:pt x="0" y="126"/>
                </a:moveTo>
                <a:cubicBezTo>
                  <a:pt x="12" y="130"/>
                  <a:pt x="24" y="134"/>
                  <a:pt x="36" y="138"/>
                </a:cubicBezTo>
                <a:cubicBezTo>
                  <a:pt x="42" y="140"/>
                  <a:pt x="54" y="144"/>
                  <a:pt x="54" y="144"/>
                </a:cubicBezTo>
                <a:cubicBezTo>
                  <a:pt x="75" y="143"/>
                  <a:pt x="179" y="142"/>
                  <a:pt x="222" y="132"/>
                </a:cubicBezTo>
                <a:cubicBezTo>
                  <a:pt x="240" y="128"/>
                  <a:pt x="276" y="114"/>
                  <a:pt x="276" y="114"/>
                </a:cubicBezTo>
                <a:cubicBezTo>
                  <a:pt x="344" y="118"/>
                  <a:pt x="387" y="123"/>
                  <a:pt x="450" y="132"/>
                </a:cubicBezTo>
                <a:cubicBezTo>
                  <a:pt x="509" y="128"/>
                  <a:pt x="531" y="120"/>
                  <a:pt x="582" y="132"/>
                </a:cubicBezTo>
                <a:cubicBezTo>
                  <a:pt x="668" y="152"/>
                  <a:pt x="737" y="205"/>
                  <a:pt x="816" y="240"/>
                </a:cubicBezTo>
                <a:cubicBezTo>
                  <a:pt x="875" y="266"/>
                  <a:pt x="930" y="266"/>
                  <a:pt x="996" y="270"/>
                </a:cubicBezTo>
                <a:cubicBezTo>
                  <a:pt x="1033" y="265"/>
                  <a:pt x="1043" y="256"/>
                  <a:pt x="1074" y="246"/>
                </a:cubicBezTo>
                <a:cubicBezTo>
                  <a:pt x="1083" y="232"/>
                  <a:pt x="1133" y="171"/>
                  <a:pt x="1140" y="156"/>
                </a:cubicBezTo>
                <a:cubicBezTo>
                  <a:pt x="1145" y="144"/>
                  <a:pt x="1141" y="127"/>
                  <a:pt x="1152" y="120"/>
                </a:cubicBezTo>
                <a:cubicBezTo>
                  <a:pt x="1176" y="104"/>
                  <a:pt x="1196" y="75"/>
                  <a:pt x="1224" y="66"/>
                </a:cubicBezTo>
                <a:cubicBezTo>
                  <a:pt x="1266" y="52"/>
                  <a:pt x="1307" y="41"/>
                  <a:pt x="1350" y="30"/>
                </a:cubicBezTo>
                <a:cubicBezTo>
                  <a:pt x="1485" y="33"/>
                  <a:pt x="1618" y="44"/>
                  <a:pt x="1752" y="36"/>
                </a:cubicBezTo>
                <a:cubicBezTo>
                  <a:pt x="1811" y="24"/>
                  <a:pt x="1866" y="24"/>
                  <a:pt x="1926" y="30"/>
                </a:cubicBezTo>
                <a:cubicBezTo>
                  <a:pt x="1946" y="43"/>
                  <a:pt x="1979" y="56"/>
                  <a:pt x="1998" y="72"/>
                </a:cubicBezTo>
                <a:cubicBezTo>
                  <a:pt x="2020" y="90"/>
                  <a:pt x="2042" y="117"/>
                  <a:pt x="2070" y="126"/>
                </a:cubicBezTo>
                <a:cubicBezTo>
                  <a:pt x="2127" y="145"/>
                  <a:pt x="2093" y="137"/>
                  <a:pt x="2172" y="144"/>
                </a:cubicBezTo>
                <a:cubicBezTo>
                  <a:pt x="2202" y="164"/>
                  <a:pt x="2186" y="150"/>
                  <a:pt x="2214" y="192"/>
                </a:cubicBezTo>
                <a:cubicBezTo>
                  <a:pt x="2221" y="203"/>
                  <a:pt x="2238" y="200"/>
                  <a:pt x="2250" y="204"/>
                </a:cubicBezTo>
                <a:cubicBezTo>
                  <a:pt x="2264" y="209"/>
                  <a:pt x="2286" y="228"/>
                  <a:pt x="2286" y="228"/>
                </a:cubicBezTo>
                <a:cubicBezTo>
                  <a:pt x="2312" y="305"/>
                  <a:pt x="2405" y="313"/>
                  <a:pt x="2472" y="330"/>
                </a:cubicBezTo>
                <a:cubicBezTo>
                  <a:pt x="2510" y="339"/>
                  <a:pt x="2470" y="331"/>
                  <a:pt x="2508" y="348"/>
                </a:cubicBezTo>
                <a:cubicBezTo>
                  <a:pt x="2539" y="362"/>
                  <a:pt x="2577" y="370"/>
                  <a:pt x="2610" y="378"/>
                </a:cubicBezTo>
                <a:cubicBezTo>
                  <a:pt x="2642" y="399"/>
                  <a:pt x="2674" y="403"/>
                  <a:pt x="2712" y="408"/>
                </a:cubicBezTo>
                <a:cubicBezTo>
                  <a:pt x="2769" y="427"/>
                  <a:pt x="2735" y="419"/>
                  <a:pt x="2814" y="426"/>
                </a:cubicBezTo>
                <a:cubicBezTo>
                  <a:pt x="2881" y="448"/>
                  <a:pt x="3003" y="463"/>
                  <a:pt x="3072" y="468"/>
                </a:cubicBezTo>
                <a:cubicBezTo>
                  <a:pt x="3122" y="466"/>
                  <a:pt x="3180" y="484"/>
                  <a:pt x="3222" y="456"/>
                </a:cubicBezTo>
                <a:cubicBezTo>
                  <a:pt x="3241" y="443"/>
                  <a:pt x="3276" y="414"/>
                  <a:pt x="3276" y="414"/>
                </a:cubicBezTo>
                <a:cubicBezTo>
                  <a:pt x="3298" y="382"/>
                  <a:pt x="3299" y="338"/>
                  <a:pt x="3330" y="318"/>
                </a:cubicBezTo>
                <a:cubicBezTo>
                  <a:pt x="3346" y="271"/>
                  <a:pt x="3375" y="182"/>
                  <a:pt x="3414" y="156"/>
                </a:cubicBezTo>
                <a:cubicBezTo>
                  <a:pt x="3418" y="150"/>
                  <a:pt x="3421" y="143"/>
                  <a:pt x="3426" y="138"/>
                </a:cubicBezTo>
                <a:cubicBezTo>
                  <a:pt x="3431" y="133"/>
                  <a:pt x="3439" y="132"/>
                  <a:pt x="3444" y="126"/>
                </a:cubicBezTo>
                <a:cubicBezTo>
                  <a:pt x="3468" y="96"/>
                  <a:pt x="3428" y="120"/>
                  <a:pt x="3462" y="90"/>
                </a:cubicBezTo>
                <a:cubicBezTo>
                  <a:pt x="3486" y="69"/>
                  <a:pt x="3509" y="65"/>
                  <a:pt x="3534" y="48"/>
                </a:cubicBezTo>
                <a:cubicBezTo>
                  <a:pt x="3549" y="26"/>
                  <a:pt x="3570" y="18"/>
                  <a:pt x="3588" y="0"/>
                </a:cubicBezTo>
              </a:path>
            </a:pathLst>
          </a:custGeom>
          <a:noFill/>
          <a:ln w="19080">
            <a:solidFill>
              <a:srgbClr val="ff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4"/>
          <a:srcRect l="4998" t="18902" r="12902" b="23801"/>
          <a:stretch/>
        </p:blipFill>
        <p:spPr>
          <a:xfrm>
            <a:off x="5681520" y="1793880"/>
            <a:ext cx="2660760" cy="18572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059640" y="3691080"/>
            <a:ext cx="3480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6-h fcst valid 12 UTC 10 Jan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5"/>
          <a:srcRect l="5301" t="19403" r="13001" b="23801"/>
          <a:stretch/>
        </p:blipFill>
        <p:spPr>
          <a:xfrm>
            <a:off x="5681520" y="4471920"/>
            <a:ext cx="2668680" cy="1855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5567400" y="148428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-m mixing ratio (*0.1 g/k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7400" y="419112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-m mixing ratio (*0.1 g/k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5960" y="6400800"/>
            <a:ext cx="3480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6-h fcst valid 00 UTC 11 Jan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74600" y="966960"/>
            <a:ext cx="595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urope Nest 1 (81 km):  00 UTC Jan 1 to 00 UTC 15 Jan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3189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SM data assimilation experi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330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331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3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7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"/>
          <p:cNvGrpSpPr/>
          <p:nvPr/>
        </p:nvGrpSpPr>
        <p:grpSpPr>
          <a:xfrm>
            <a:off x="1266840" y="2668680"/>
            <a:ext cx="767880" cy="817560"/>
            <a:chOff x="1266840" y="2668680"/>
            <a:chExt cx="767880" cy="817560"/>
          </a:xfrm>
        </p:grpSpPr>
        <p:sp>
          <p:nvSpPr>
            <p:cNvPr id="336" name=""/>
            <p:cNvSpPr/>
            <p:nvPr/>
          </p:nvSpPr>
          <p:spPr>
            <a:xfrm>
              <a:off x="1266840" y="2819160"/>
              <a:ext cx="312840" cy="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66840" y="3001680"/>
              <a:ext cx="3128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66840" y="3184200"/>
              <a:ext cx="3128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6840" y="3368520"/>
              <a:ext cx="312840" cy="0"/>
            </a:xfrm>
            <a:prstGeom prst="line">
              <a:avLst/>
            </a:prstGeom>
            <a:ln w="19080">
              <a:solidFill>
                <a:srgbClr val="ff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23880" y="266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a4"/>
                  </a:solidFill>
                  <a:latin typeface="Arial"/>
                </a:rPr>
                <a:t>Ob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32520" y="28476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co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29640" y="303336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24960" y="320976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Arial"/>
                </a:rPr>
                <a:t>ag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863800" y="4456080"/>
            <a:ext cx="767880" cy="817920"/>
            <a:chOff x="2863800" y="4456080"/>
            <a:chExt cx="767880" cy="817920"/>
          </a:xfrm>
        </p:grpSpPr>
        <p:sp>
          <p:nvSpPr>
            <p:cNvPr id="345" name=""/>
            <p:cNvSpPr/>
            <p:nvPr/>
          </p:nvSpPr>
          <p:spPr>
            <a:xfrm>
              <a:off x="2863800" y="4606920"/>
              <a:ext cx="312840" cy="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63800" y="4789440"/>
              <a:ext cx="3128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63800" y="4971960"/>
              <a:ext cx="3128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63800" y="5156280"/>
              <a:ext cx="312840" cy="0"/>
            </a:xfrm>
            <a:prstGeom prst="line">
              <a:avLst/>
            </a:prstGeom>
            <a:ln w="19080">
              <a:solidFill>
                <a:srgbClr val="ff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0840" y="44560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a4"/>
                  </a:solidFill>
                  <a:latin typeface="Arial"/>
                </a:rPr>
                <a:t>Ob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9480" y="4635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co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26600" y="482112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21920" y="4997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Arial"/>
                </a:rPr>
                <a:t>ag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048440" y="2255760"/>
            <a:ext cx="940680" cy="641520"/>
            <a:chOff x="7048440" y="2255760"/>
            <a:chExt cx="940680" cy="641520"/>
          </a:xfrm>
        </p:grpSpPr>
        <p:sp>
          <p:nvSpPr>
            <p:cNvPr id="354" name=""/>
            <p:cNvSpPr/>
            <p:nvPr/>
          </p:nvSpPr>
          <p:spPr>
            <a:xfrm>
              <a:off x="7048440" y="2406600"/>
              <a:ext cx="488880" cy="0"/>
            </a:xfrm>
            <a:prstGeom prst="line">
              <a:avLst/>
            </a:prstGeom>
            <a:ln w="1908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48440" y="2589120"/>
              <a:ext cx="4888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48440" y="2771640"/>
              <a:ext cx="488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86920" y="22557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a4"/>
                  </a:solidFill>
                  <a:latin typeface="Arial"/>
                </a:rPr>
                <a:t>co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93400" y="24354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ls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92320" y="262080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353360" y="4846680"/>
            <a:ext cx="940680" cy="641520"/>
            <a:chOff x="7353360" y="4846680"/>
            <a:chExt cx="940680" cy="641520"/>
          </a:xfrm>
        </p:grpSpPr>
        <p:sp>
          <p:nvSpPr>
            <p:cNvPr id="361" name=""/>
            <p:cNvSpPr/>
            <p:nvPr/>
          </p:nvSpPr>
          <p:spPr>
            <a:xfrm>
              <a:off x="7353360" y="4997520"/>
              <a:ext cx="488880" cy="0"/>
            </a:xfrm>
            <a:prstGeom prst="line">
              <a:avLst/>
            </a:prstGeom>
            <a:ln w="1908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53360" y="5180040"/>
              <a:ext cx="4888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53360" y="5362560"/>
              <a:ext cx="488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91840" y="48466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a4"/>
                  </a:solidFill>
                  <a:latin typeface="Arial"/>
                </a:rPr>
                <a:t>co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98320" y="502632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ls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97240" y="52117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127040" y="137160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-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eca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858240" y="37594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sure (h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760400" y="1314360"/>
            <a:ext cx="2249280" cy="5496120"/>
            <a:chOff x="1760400" y="1314360"/>
            <a:chExt cx="2249280" cy="5496120"/>
          </a:xfrm>
        </p:grpSpPr>
        <p:pic>
          <p:nvPicPr>
            <p:cNvPr id="370" name="" descr=""/>
            <p:cNvPicPr/>
            <p:nvPr/>
          </p:nvPicPr>
          <p:blipFill>
            <a:blip r:embed="rId2"/>
            <a:srcRect l="222" t="2969" r="7452" b="4535"/>
            <a:stretch/>
          </p:blipFill>
          <p:spPr>
            <a:xfrm>
              <a:off x="1760400" y="1314360"/>
              <a:ext cx="2249280" cy="274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1" name=""/>
            <p:cNvGrpSpPr/>
            <p:nvPr/>
          </p:nvGrpSpPr>
          <p:grpSpPr>
            <a:xfrm>
              <a:off x="1760400" y="4071960"/>
              <a:ext cx="2249280" cy="2738520"/>
              <a:chOff x="1760400" y="4071960"/>
              <a:chExt cx="2249280" cy="2738520"/>
            </a:xfrm>
          </p:grpSpPr>
          <p:pic>
            <p:nvPicPr>
              <p:cNvPr id="372" name="" descr=""/>
              <p:cNvPicPr/>
              <p:nvPr/>
            </p:nvPicPr>
            <p:blipFill>
              <a:blip r:embed="rId3"/>
              <a:srcRect l="0" t="2969" r="6776" b="4535"/>
              <a:stretch/>
            </p:blipFill>
            <p:spPr>
              <a:xfrm>
                <a:off x="1760400" y="4071960"/>
                <a:ext cx="2249280" cy="273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3006360" y="4097160"/>
                <a:ext cx="0" cy="258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4" name=""/>
          <p:cNvSpPr/>
          <p:nvPr/>
        </p:nvSpPr>
        <p:spPr>
          <a:xfrm rot="16200000">
            <a:off x="4620600" y="37594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sure (h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3600" y="1828800"/>
            <a:ext cx="15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eg 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189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SM data assimilation experi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379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380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2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5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2019240" y="895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AMPS</a:t>
            </a:r>
            <a:r>
              <a:rPr b="1" lang="en-US" sz="1800" spc="-1" strike="noStrike" baseline="40000">
                <a:solidFill>
                  <a:srgbClr val="cc0000"/>
                </a:solidFill>
                <a:latin typeface="Arial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1-15 January 2003 CONUS nest 2 (27 k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599080" y="1320840"/>
            <a:ext cx="2249640" cy="5486400"/>
            <a:chOff x="5599080" y="1320840"/>
            <a:chExt cx="2249640" cy="5486400"/>
          </a:xfrm>
        </p:grpSpPr>
        <p:pic>
          <p:nvPicPr>
            <p:cNvPr id="386" name="" descr=""/>
            <p:cNvPicPr/>
            <p:nvPr/>
          </p:nvPicPr>
          <p:blipFill>
            <a:blip r:embed="rId6"/>
            <a:srcRect l="0" t="2969" r="6999" b="4714"/>
            <a:stretch/>
          </p:blipFill>
          <p:spPr>
            <a:xfrm>
              <a:off x="5599080" y="1320840"/>
              <a:ext cx="2249640" cy="273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7" name=""/>
            <p:cNvGrpSpPr/>
            <p:nvPr/>
          </p:nvGrpSpPr>
          <p:grpSpPr>
            <a:xfrm>
              <a:off x="5599080" y="4071960"/>
              <a:ext cx="2249640" cy="2735280"/>
              <a:chOff x="5599080" y="4071960"/>
              <a:chExt cx="2249640" cy="2735280"/>
            </a:xfrm>
          </p:grpSpPr>
          <p:pic>
            <p:nvPicPr>
              <p:cNvPr id="388" name="" descr=""/>
              <p:cNvPicPr/>
              <p:nvPr/>
            </p:nvPicPr>
            <p:blipFill>
              <a:blip r:embed="rId7"/>
              <a:srcRect l="0" t="2969" r="6776" b="4886"/>
              <a:stretch/>
            </p:blipFill>
            <p:spPr>
              <a:xfrm>
                <a:off x="5599080" y="4071960"/>
                <a:ext cx="2249640" cy="27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6602400" y="4094280"/>
                <a:ext cx="0" cy="258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5869800" y="1905120"/>
            <a:ext cx="15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w poi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eg 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041120" y="120492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-cm soil temperature (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rcRect l="1899" t="32999" r="10101" b="19299"/>
          <a:stretch/>
        </p:blipFill>
        <p:spPr>
          <a:xfrm>
            <a:off x="66600" y="4248000"/>
            <a:ext cx="4552920" cy="2468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458280" y="395136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-cm soil moisture (vol. frac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rcRect l="90504" t="25100" r="5499" b="11400"/>
          <a:stretch/>
        </p:blipFill>
        <p:spPr>
          <a:xfrm>
            <a:off x="4638600" y="4237200"/>
            <a:ext cx="158760" cy="2508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740480" y="4110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15280" y="65818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53080" y="5959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.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77200" y="53578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76840" y="47260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.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28880" y="4500720"/>
            <a:ext cx="75960" cy="759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10640" y="441180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65200" y="454500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37600" y="4456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0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38160" y="484020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0280" y="47512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14560" y="4843440"/>
            <a:ext cx="7596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25000" y="4765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90640" y="500220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2520" y="49039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09680" y="5869080"/>
            <a:ext cx="76320" cy="759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77400" y="5761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41600" y="5715000"/>
            <a:ext cx="7596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14000" y="5618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41320" y="5062680"/>
            <a:ext cx="76320" cy="759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14080" y="4973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0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60640" y="4697280"/>
            <a:ext cx="7596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33040" y="4608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8000" y="5648400"/>
            <a:ext cx="76320" cy="759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94800" y="5549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03640" y="6067440"/>
            <a:ext cx="7596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76040" y="5978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00320" y="565452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1160" y="54943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55760" y="523872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42560" y="51404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36760" y="465444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32920" y="45277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05160" y="4809960"/>
            <a:ext cx="7596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86920" y="472140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55920" y="511956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33000" y="50259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27120" y="5315040"/>
            <a:ext cx="76320" cy="759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94840" y="5240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98920" y="5524560"/>
            <a:ext cx="7596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85360" y="54259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50960" y="5686560"/>
            <a:ext cx="76320" cy="759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23720" y="5597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24120" y="525456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91840" y="5146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84520" y="584820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56920" y="57592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5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24280" y="5738760"/>
            <a:ext cx="7596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92000" y="5630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57560" y="573876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96560" y="5564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14800" y="5943600"/>
            <a:ext cx="7596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77480" y="585000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19560" y="6091200"/>
            <a:ext cx="7596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7560" y="59990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71840" y="637524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30200" y="62834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7720" y="5748480"/>
            <a:ext cx="75960" cy="759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320" y="5659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57520" y="5511960"/>
            <a:ext cx="76320" cy="759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66520" y="54133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48080" y="533088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5160" y="52372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38440" y="5226120"/>
            <a:ext cx="76320" cy="759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49240" y="5132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24400" y="5087880"/>
            <a:ext cx="7596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01480" y="49942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90920" y="491652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87320" y="48229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86040" y="4844880"/>
            <a:ext cx="76320" cy="763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387240" y="4699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53000" y="4768920"/>
            <a:ext cx="75960" cy="759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49040" y="46753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Arial"/>
              </a:rPr>
              <a:t>0.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6600" y="1395360"/>
            <a:ext cx="5047560" cy="2748240"/>
            <a:chOff x="66600" y="1395360"/>
            <a:chExt cx="5047560" cy="2748240"/>
          </a:xfrm>
        </p:grpSpPr>
        <p:pic>
          <p:nvPicPr>
            <p:cNvPr id="469" name="" descr=""/>
            <p:cNvPicPr/>
            <p:nvPr/>
          </p:nvPicPr>
          <p:blipFill>
            <a:blip r:embed="rId4"/>
            <a:srcRect l="90504" t="25100" r="5499" b="11400"/>
            <a:stretch/>
          </p:blipFill>
          <p:spPr>
            <a:xfrm>
              <a:off x="4635360" y="1522440"/>
              <a:ext cx="158760" cy="25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4737600" y="13953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12400" y="386712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50920" y="324468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74680" y="2643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74680" y="2011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5"/>
            <a:srcRect l="1899" t="32999" r="10001" b="19299"/>
            <a:stretch/>
          </p:blipFill>
          <p:spPr>
            <a:xfrm>
              <a:off x="66600" y="1522440"/>
              <a:ext cx="455292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77600" y="169236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2.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33560" y="1784160"/>
              <a:ext cx="7596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77920" y="1728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-1.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76360" y="181764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2200" y="200952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2.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38160" y="210168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15640" y="203040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19240" y="211752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85960" y="2262240"/>
              <a:ext cx="75960" cy="7596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0920" y="217332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9.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14360" y="3133800"/>
              <a:ext cx="76320" cy="7596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49040" y="302580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5.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31880" y="300024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71240" y="290664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2.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46360" y="2333520"/>
              <a:ext cx="7596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560" y="223524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-0.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62080" y="196668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58960" y="186840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-0.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22400" y="2909880"/>
              <a:ext cx="76320" cy="7596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71480" y="280656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4.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03640" y="3338280"/>
              <a:ext cx="7596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76040" y="32493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12.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84480" y="2917800"/>
              <a:ext cx="75960" cy="7596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37880" y="282420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4.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55760" y="250488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99800" y="24112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28840" y="191448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25360" y="181584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-1.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14520" y="2076480"/>
              <a:ext cx="76320" cy="7596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11400" y="197784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-1.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67080" y="2394000"/>
              <a:ext cx="75960" cy="7596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20480" y="229536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1.7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43320" y="2584440"/>
              <a:ext cx="75960" cy="7596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58560" y="251460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1.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05040" y="280980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58800" y="271620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6.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67160" y="2962080"/>
              <a:ext cx="7596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01480" y="28684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6.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28800" y="2514600"/>
              <a:ext cx="76320" cy="7596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63480" y="24256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3.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85960" y="312732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72760" y="303372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11.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88920" y="3116160"/>
              <a:ext cx="990000" cy="398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SC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Observ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70320" y="3208320"/>
              <a:ext cx="76320" cy="7596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17800" y="300492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04960" y="291132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9.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52880" y="2985840"/>
              <a:ext cx="7596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20320" y="28065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16.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08320" y="318600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95120" y="30924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13.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27480" y="3381120"/>
              <a:ext cx="7596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14280" y="328752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15.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1320" y="3646440"/>
              <a:ext cx="7596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38120" y="35528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21.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60600" y="302400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66720" y="29350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13.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37000" y="2781360"/>
              <a:ext cx="76320" cy="7596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23800" y="26874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38360" y="259056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82760" y="249696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6.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38440" y="248580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11160" y="239220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5.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24400" y="2352600"/>
              <a:ext cx="7596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3760" y="225432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462480" y="2195280"/>
              <a:ext cx="7596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01840" y="21016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4.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81360" y="210816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420720" y="201456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43280" y="2023920"/>
              <a:ext cx="76320" cy="76320"/>
            </a:xfrm>
            <a:prstGeom prst="ellipse">
              <a:avLst/>
            </a:prstGeom>
            <a:solidFill>
              <a:srgbClr val="0000a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44720" y="192564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a4"/>
                  </a:solidFill>
                  <a:latin typeface="Arial"/>
                </a:rPr>
                <a:t>1.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6"/>
          <a:srcRect l="7630" t="19001" r="12902" b="28955"/>
          <a:stretch/>
        </p:blipFill>
        <p:spPr>
          <a:xfrm>
            <a:off x="5380200" y="1041480"/>
            <a:ext cx="2058840" cy="14191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388200" y="1433520"/>
            <a:ext cx="46080" cy="493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13640" y="1278000"/>
            <a:ext cx="46080" cy="475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80240" y="1366920"/>
            <a:ext cx="45720" cy="4896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24600" y="1258920"/>
            <a:ext cx="46080" cy="493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358040" y="1366920"/>
            <a:ext cx="46080" cy="4896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68880" y="1392120"/>
            <a:ext cx="46080" cy="4788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211800" y="1420920"/>
            <a:ext cx="44640" cy="4896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48400" y="1374840"/>
            <a:ext cx="44640" cy="4608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192800" y="1332000"/>
            <a:ext cx="46080" cy="475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062840" y="1301760"/>
            <a:ext cx="44280" cy="475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376960" y="1349280"/>
            <a:ext cx="46080" cy="493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83240" y="1349280"/>
            <a:ext cx="46080" cy="493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08520" y="1349280"/>
            <a:ext cx="46080" cy="493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7"/>
          <a:srcRect l="7488" t="19341" r="12600" b="25979"/>
          <a:stretch/>
        </p:blipFill>
        <p:spPr>
          <a:xfrm>
            <a:off x="5380200" y="2460600"/>
            <a:ext cx="2071440" cy="14922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6391440" y="3592440"/>
            <a:ext cx="45720" cy="475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18320" y="3579840"/>
            <a:ext cx="46080" cy="475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80240" y="3579840"/>
            <a:ext cx="45720" cy="475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931080" y="3560760"/>
            <a:ext cx="46080" cy="493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67760" y="3592440"/>
            <a:ext cx="45720" cy="475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70680" y="3584520"/>
            <a:ext cx="46080" cy="493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13600" y="3584520"/>
            <a:ext cx="46080" cy="493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53080" y="3597120"/>
            <a:ext cx="46080" cy="493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01080" y="3584520"/>
            <a:ext cx="45720" cy="493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68960" y="3579840"/>
            <a:ext cx="46080" cy="475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72280" y="3573360"/>
            <a:ext cx="45720" cy="4788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80000" y="3573360"/>
            <a:ext cx="46080" cy="4788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07080" y="3573360"/>
            <a:ext cx="46080" cy="4788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471080" y="9604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Near Billings, M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43560" y="1066680"/>
            <a:ext cx="1930320" cy="1362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45000" y="2468520"/>
            <a:ext cx="1932120" cy="1362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90760" y="367812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90760" y="234792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90760" y="30146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90760" y="26748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90760" y="33544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688720" y="24210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cm soil mois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88440" y="29066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AG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50840" y="35593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 ob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60960" y="950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41880" y="140508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41880" y="117792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41880" y="163980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41880" y="185904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141880" y="208584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52280" y="99216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cm soil temper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90040" y="14954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AG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28440" y="137484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 ob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9840" y="4192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8"/>
          <a:srcRect l="7672" t="20343" r="12501" b="52558"/>
          <a:stretch/>
        </p:blipFill>
        <p:spPr>
          <a:xfrm>
            <a:off x="5384880" y="4038480"/>
            <a:ext cx="2063520" cy="10670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6384960" y="415440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11840" y="4159080"/>
            <a:ext cx="46080" cy="7020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75200" y="415440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24600" y="417672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61280" y="424188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64200" y="411948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207120" y="414180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45160" y="415440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194600" y="422928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62840" y="420372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76960" y="414180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576760" y="414648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2400" y="4146480"/>
            <a:ext cx="46080" cy="6984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46800" y="4081320"/>
            <a:ext cx="1933560" cy="1292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351400" y="4198680"/>
            <a:ext cx="460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354640" y="4071600"/>
            <a:ext cx="442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354640" y="4316040"/>
            <a:ext cx="442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109840" y="4854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05560" y="5369040"/>
            <a:ext cx="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69000" y="537372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29200" y="537372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93000" y="5364000"/>
            <a:ext cx="0" cy="7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253200" y="5369040"/>
            <a:ext cx="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35600" y="5369040"/>
            <a:ext cx="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575400" y="5369040"/>
            <a:ext cx="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413400" y="5369040"/>
            <a:ext cx="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59600" y="537372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99400" y="5369040"/>
            <a:ext cx="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219800" y="5369040"/>
            <a:ext cx="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380360" y="5364000"/>
            <a:ext cx="0" cy="7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7377120" y="4203360"/>
            <a:ext cx="460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375680" y="4320720"/>
            <a:ext cx="4572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392800" y="5410080"/>
            <a:ext cx="2043000" cy="1271880"/>
            <a:chOff x="5392800" y="5410080"/>
            <a:chExt cx="2043000" cy="1271880"/>
          </a:xfrm>
        </p:grpSpPr>
        <p:pic>
          <p:nvPicPr>
            <p:cNvPr id="629" name="" descr=""/>
            <p:cNvPicPr/>
            <p:nvPr/>
          </p:nvPicPr>
          <p:blipFill>
            <a:blip r:embed="rId9"/>
            <a:srcRect l="7701" t="19601" r="12902" b="26404"/>
            <a:stretch/>
          </p:blipFill>
          <p:spPr>
            <a:xfrm>
              <a:off x="5392800" y="5410080"/>
              <a:ext cx="2043000" cy="12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6385680" y="5823000"/>
              <a:ext cx="45720" cy="3888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12560" y="5835240"/>
              <a:ext cx="45720" cy="3924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74840" y="5803200"/>
              <a:ext cx="45720" cy="3924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24960" y="5844960"/>
              <a:ext cx="45720" cy="3924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49760" y="5911200"/>
              <a:ext cx="45720" cy="3924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64200" y="5817960"/>
              <a:ext cx="45720" cy="3924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07840" y="5815440"/>
              <a:ext cx="45720" cy="3924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46240" y="5832720"/>
              <a:ext cx="45720" cy="3888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94600" y="5874480"/>
              <a:ext cx="45720" cy="3888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062840" y="5859720"/>
              <a:ext cx="45720" cy="3924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24120" y="6019200"/>
              <a:ext cx="45720" cy="3924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76400" y="5759280"/>
              <a:ext cx="45720" cy="3924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02400" y="5788800"/>
              <a:ext cx="45720" cy="3888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92880" y="5862240"/>
              <a:ext cx="45720" cy="39240"/>
            </a:xfrm>
            <a:prstGeom prst="ellipse">
              <a:avLst/>
            </a:prstGeom>
            <a:solidFill>
              <a:srgbClr val="b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V="1">
            <a:off x="7380360" y="4076280"/>
            <a:ext cx="442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43560" y="5419800"/>
            <a:ext cx="1933560" cy="1181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82840" y="6461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82840" y="53006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82840" y="58816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91760" y="659772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ecast h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485120" y="392904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Near Atlanta, 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44440" y="63244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cm soil mois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9800" y="54864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AG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10800" y="581976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 ob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90360" y="50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cm soil temper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21640" y="461016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AG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10800" y="41623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 ob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3200400" y="5248080"/>
            <a:ext cx="21337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1857240"/>
            <a:ext cx="3733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567200" y="1397160"/>
            <a:ext cx="153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AMPS AG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il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o cold over l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-h of forec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23000" y="2739960"/>
            <a:ext cx="146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AMPS AG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il mois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o moist for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ire forec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565040" y="4365720"/>
            <a:ext cx="149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AMPS AG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il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o cold over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ire forec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17600" y="5483160"/>
            <a:ext cx="158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AMPS AG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il mois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ghtly moi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an observ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 the ent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ec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714920" y="7048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r 0- to 36-h fcst from 00 UTC 01 Jan 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95280" y="228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AMPS</a:t>
            </a:r>
            <a:r>
              <a:rPr b="1" lang="en-US" sz="2400" spc="-1" strike="noStrike" baseline="40000">
                <a:solidFill>
                  <a:srgbClr val="ffffff"/>
                </a:solidFill>
                <a:latin typeface="Arial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-15 January 2003 CONUS nest 2 (27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38400" y="68580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667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668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6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0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1" name="" descr=""/>
            <p:cNvPicPr/>
            <p:nvPr/>
          </p:nvPicPr>
          <p:blipFill>
            <a:blip r:embed="rId11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"/>
          <p:cNvSpPr/>
          <p:nvPr/>
        </p:nvSpPr>
        <p:spPr>
          <a:xfrm>
            <a:off x="104760" y="3381480"/>
            <a:ext cx="2209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 12-h fcst valid 12 UTC 01 Jan 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305080"/>
            <a:ext cx="723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RL WRF integration strategy (including LS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g-term (8-month)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going and future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89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90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228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RL WRF integration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97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98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228600" y="3124080"/>
            <a:ext cx="8686800" cy="3505320"/>
            <a:chOff x="228600" y="3124080"/>
            <a:chExt cx="8686800" cy="3505320"/>
          </a:xfrm>
        </p:grpSpPr>
        <p:sp>
          <p:nvSpPr>
            <p:cNvPr id="103" name=""/>
            <p:cNvSpPr/>
            <p:nvPr/>
          </p:nvSpPr>
          <p:spPr>
            <a:xfrm>
              <a:off x="228600" y="3124080"/>
              <a:ext cx="8686800" cy="350532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52480" y="3429000"/>
              <a:ext cx="5639040" cy="2895480"/>
            </a:xfrm>
            <a:prstGeom prst="rect">
              <a:avLst/>
            </a:prstGeom>
            <a:solidFill>
              <a:srgbClr val="ff99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196920" y="4457160"/>
              <a:ext cx="1447920" cy="94644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-Processing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put Paramet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7445160" y="4457160"/>
              <a:ext cx="1447920" cy="94644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t-Process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76920" y="4219560"/>
              <a:ext cx="2133360" cy="52020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1240" indent="-111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50021"/>
                  </a:solidFill>
                  <a:latin typeface="Arial"/>
                </a:rPr>
                <a:t>Plug-and-Pl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1240" indent="-111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50021"/>
                  </a:solidFill>
                  <a:latin typeface="Arial"/>
                </a:rPr>
                <a:t>Physic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4794120"/>
              <a:ext cx="2133360" cy="94644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124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mul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124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124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124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undary Layer, . 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086600" y="4701960"/>
              <a:ext cx="685800" cy="457200"/>
              <a:chOff x="7086600" y="4701960"/>
              <a:chExt cx="68580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7086600" y="4701960"/>
                <a:ext cx="685800" cy="45720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ccffcc"/>
              </a:solidFill>
              <a:ln w="316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49960" y="4778280"/>
                <a:ext cx="55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50021"/>
                    </a:solidFill>
                    <a:latin typeface="Arial"/>
                  </a:rPr>
                  <a:t>I/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133720" y="3781440"/>
              <a:ext cx="2133360" cy="1094400"/>
              <a:chOff x="2133720" y="3781440"/>
              <a:chExt cx="2133360" cy="109440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3781440"/>
                <a:ext cx="2133360" cy="520200"/>
              </a:xfrm>
              <a:prstGeom prst="rect">
                <a:avLst/>
              </a:prstGeom>
              <a:solidFill>
                <a:srgbClr val="cc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50021"/>
                    </a:solidFill>
                    <a:latin typeface="Arial"/>
                  </a:rPr>
                  <a:t>Model Framework,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11240" indent="-111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50021"/>
                    </a:solidFill>
                    <a:latin typeface="Arial"/>
                  </a:rPr>
                  <a:t>Dynamic Cor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33720" y="4355640"/>
                <a:ext cx="2133360" cy="520200"/>
              </a:xfrm>
              <a:prstGeom prst="rect">
                <a:avLst/>
              </a:prstGeom>
              <a:solidFill>
                <a:srgbClr val="ffff99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CAR (ARWRF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11240" indent="-1112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CEP (NMM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133720" y="5083200"/>
              <a:ext cx="2133360" cy="881640"/>
              <a:chOff x="2133720" y="5083200"/>
              <a:chExt cx="2133360" cy="881640"/>
            </a:xfrm>
          </p:grpSpPr>
          <p:sp>
            <p:nvSpPr>
              <p:cNvPr id="116" name=""/>
              <p:cNvSpPr/>
              <p:nvPr/>
            </p:nvSpPr>
            <p:spPr>
              <a:xfrm>
                <a:off x="2133720" y="5083200"/>
                <a:ext cx="2133360" cy="550440"/>
              </a:xfrm>
              <a:prstGeom prst="rect">
                <a:avLst/>
              </a:prstGeom>
              <a:solidFill>
                <a:srgbClr val="cc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50021"/>
                    </a:solidFill>
                    <a:latin typeface="Arial"/>
                  </a:rPr>
                  <a:t>COAMPS</a:t>
                </a:r>
                <a:r>
                  <a:rPr b="1" lang="en-US" sz="1600" spc="-1" strike="noStrike" baseline="30000">
                    <a:solidFill>
                      <a:srgbClr val="a50021"/>
                    </a:solidFill>
                    <a:latin typeface="Arial"/>
                    <a:ea typeface="Arial"/>
                  </a:rPr>
                  <a:t>®</a:t>
                </a:r>
                <a:r>
                  <a:rPr b="0" lang="en-US" sz="1400" spc="-1" strike="noStrike">
                    <a:solidFill>
                      <a:srgbClr val="a50021"/>
                    </a:solidFill>
                    <a:latin typeface="Arial"/>
                  </a:rPr>
                  <a:t> Framework, Co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133720" y="5657760"/>
                <a:ext cx="2133360" cy="307080"/>
              </a:xfrm>
              <a:prstGeom prst="rect">
                <a:avLst/>
              </a:prstGeom>
              <a:solidFill>
                <a:srgbClr val="ffff99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RL (COAMPS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191120" y="5197320"/>
              <a:ext cx="761760" cy="457200"/>
            </a:xfrm>
            <a:prstGeom prst="leftRightArrow">
              <a:avLst>
                <a:gd name="adj1" fmla="val 50000"/>
                <a:gd name="adj2" fmla="val 33169"/>
              </a:avLst>
            </a:prstGeom>
            <a:solidFill>
              <a:srgbClr val="ccffcc"/>
            </a:solidFill>
            <a:ln w="31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91120" y="4397400"/>
              <a:ext cx="761760" cy="457200"/>
            </a:xfrm>
            <a:prstGeom prst="leftRightArrow">
              <a:avLst>
                <a:gd name="adj1" fmla="val 50000"/>
                <a:gd name="adj2" fmla="val 33169"/>
              </a:avLst>
            </a:prstGeom>
            <a:solidFill>
              <a:srgbClr val="ccffcc"/>
            </a:solidFill>
            <a:ln w="31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371600" y="4724280"/>
              <a:ext cx="685800" cy="457200"/>
              <a:chOff x="1371600" y="4724280"/>
              <a:chExt cx="685800" cy="457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371600" y="4724280"/>
                <a:ext cx="685800" cy="45720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ccffcc"/>
              </a:solidFill>
              <a:ln w="316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47920" y="4800600"/>
                <a:ext cx="55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50021"/>
                    </a:solidFill>
                    <a:latin typeface="Arial"/>
                  </a:rPr>
                  <a:t>I/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345960" y="1550880"/>
            <a:ext cx="8436240" cy="1433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Build WRF standard I/O and physics interfaces into COAMPS</a:t>
            </a:r>
            <a:r>
              <a:rPr b="1" lang="en-US" sz="1600" spc="-1" strike="noStrike" baseline="30000">
                <a:solidFill>
                  <a:srgbClr val="a50021"/>
                </a:solidFill>
                <a:latin typeface="Arial"/>
                <a:ea typeface="Arial"/>
              </a:rPr>
              <a:t>®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to allow fo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Initial and lateral boundary condition input from any model; standard out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Interchangeable physical parameteriz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Investigate/modify WRF infrastructure to merge COAMPS</a:t>
            </a:r>
            <a:r>
              <a:rPr b="1" lang="en-US" sz="1600" spc="-1" strike="noStrike" baseline="30000">
                <a:solidFill>
                  <a:srgbClr val="a50021"/>
                </a:solidFill>
                <a:latin typeface="Arial"/>
                <a:ea typeface="Arial"/>
              </a:rPr>
              <a:t>®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dynamic core into WR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5040" y="1233360"/>
            <a:ext cx="78580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CDF, GRIB, and binary output options for COAMPS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5640" indent="-171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NMOC, NRL discussing specific details with AFWA for operational 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ing with NCAR to develop improved WRF Standard Initialization (S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5640" indent="-171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didate to replace existing COAMP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-processing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28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RL WRF integration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128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129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905040" y="3776760"/>
            <a:ext cx="78580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type physics interface developed and tes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s conversion sta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880" indent="-171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mulus Parameterization [Adapted from WRF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880" indent="-171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diation [On-go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880" indent="-171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d-surface [Complet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880" indent="-171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face/Boundary Layer [On-go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880" indent="-171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icit Moist Physics [On-go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880" indent="-171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erosols [On-go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1020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complish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304920"/>
            <a:ext cx="79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-term data assimilation sim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04840" y="1457280"/>
            <a:ext cx="6080400" cy="3802680"/>
            <a:chOff x="2004840" y="1457280"/>
            <a:chExt cx="6080400" cy="3802680"/>
          </a:xfrm>
        </p:grpSpPr>
        <p:grpSp>
          <p:nvGrpSpPr>
            <p:cNvPr id="138" name=""/>
            <p:cNvGrpSpPr/>
            <p:nvPr/>
          </p:nvGrpSpPr>
          <p:grpSpPr>
            <a:xfrm>
              <a:off x="2004840" y="1457280"/>
              <a:ext cx="5162400" cy="3757680"/>
              <a:chOff x="2004840" y="1457280"/>
              <a:chExt cx="5162400" cy="3757680"/>
            </a:xfrm>
          </p:grpSpPr>
          <p:pic>
            <p:nvPicPr>
              <p:cNvPr id="139" name="" descr=""/>
              <p:cNvPicPr/>
              <p:nvPr/>
            </p:nvPicPr>
            <p:blipFill>
              <a:blip r:embed="rId2"/>
              <a:srcRect l="1994" t="25167" r="9964" b="11423"/>
              <a:stretch/>
            </p:blipFill>
            <p:spPr>
              <a:xfrm>
                <a:off x="2004840" y="1457280"/>
                <a:ext cx="5162400" cy="375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2018880" y="1468440"/>
                <a:ext cx="5137200" cy="373212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41" name="" descr=""/>
            <p:cNvPicPr/>
            <p:nvPr/>
          </p:nvPicPr>
          <p:blipFill>
            <a:blip r:embed="rId3"/>
            <a:srcRect l="90707" t="25100" r="5712" b="11423"/>
            <a:stretch/>
          </p:blipFill>
          <p:spPr>
            <a:xfrm>
              <a:off x="7253280" y="1566720"/>
              <a:ext cx="200160" cy="35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421400" y="4952880"/>
              <a:ext cx="28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07280" y="1457280"/>
              <a:ext cx="77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6640" y="3200400"/>
              <a:ext cx="55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639800" y="4829040"/>
            <a:ext cx="32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st 1:  111 x 80 x 30 lev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4480" y="9144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AMP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perational Europe domain (81 k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5760" y="123840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rr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245200"/>
            <a:ext cx="8077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8-h forecasts from 25 January to 16 September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hree experime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cont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- operational COAMPS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 Slab surface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lsm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- WRF LSM (“unified” v1.3; Dec 2003) with no soil initialization (climatolog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agr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- WRF LSM (“unified” v1.3; Dec 2003) with AGRMET (AFWA) initi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150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151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5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3189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SM data assimilation experi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6720" y="1187280"/>
            <a:ext cx="84582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  CONTROL uses COAMPS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isting soil slab model with force-restore surface energy bud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ls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  uses NOAH LSM with </a:t>
            </a: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climatological soil and vegetation initial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ld start initialization: Soil temperatures = ground temperatures (constant in depth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il moisture = Soil porosity * climatological ground wet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frozen soil moisture = soil mois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opy water content = snow water equivalent = 0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getation greenness = climatolo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rm start:  previous forecast soil/vegetation fields used as analysis fields for next forec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g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  uses NOAH LSM with </a:t>
            </a: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AGRMET soil and vegetation initial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Force Weather Agency (AFWA) Agricultural Meteorology (AGRMET) modeling 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ar real-time, off-line, global 47-km resolution agricultural meteorology analysis mo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put dat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572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st guess fields from NOGAPS analyses (surface winds, isobaric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eratures, geopotential heights, and relative humid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572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rface observ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572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ree-hourly SSM/I rain rate 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572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ipitation analysis based on rain gauge observ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572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WA SNODEP snow depth analysis based on surface and satellite observ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572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WA CDFSII global cloud analysis for up to four lev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AH LSM, outputting soil temperatures, soil moistures, and unfrozen soil moistu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t 4 levels, and canopy moisture content, snow water equivalent, and green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uns four cycles per day, each at approximately +0430 h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rm start:  reinitialize soil/vegetation fields using AGRMET analy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159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160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90504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rational COAMPS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urope domain (81 km): 25 January to 16 September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48-h forecasts valid 12 UTC (day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218280"/>
            <a:ext cx="888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mo soil initialization (lsm) is too dry for the entire period; yet daytime air temperature is warmer (better) only from Apr onward (not in winter). Why? Snow-related? Spin-up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GRMET soil initialization (agr) differs little from slab (cont); largest differences: agr drier from Aug-S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6252" t="4054" r="7248" b="3443"/>
          <a:stretch/>
        </p:blipFill>
        <p:spPr>
          <a:xfrm>
            <a:off x="1305000" y="1677960"/>
            <a:ext cx="3295440" cy="4560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6243" t="4082" r="7203" b="3525"/>
          <a:stretch/>
        </p:blipFill>
        <p:spPr>
          <a:xfrm>
            <a:off x="5133960" y="1677960"/>
            <a:ext cx="3297240" cy="4556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688000" y="1438200"/>
            <a:ext cx="245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-m dew point temper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3189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SM data assimilation experi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172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0" y="3048120"/>
            <a:ext cx="1295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erage number of observations per forecast used for verification = ~1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59040" y="1438200"/>
            <a:ext cx="213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-m air temper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rcRect l="6243" t="4082" r="7203" b="3525"/>
          <a:stretch/>
        </p:blipFill>
        <p:spPr>
          <a:xfrm>
            <a:off x="1305000" y="1679400"/>
            <a:ext cx="3297240" cy="4556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6243" t="4082" r="7203" b="3525"/>
          <a:stretch/>
        </p:blipFill>
        <p:spPr>
          <a:xfrm>
            <a:off x="5141880" y="1679400"/>
            <a:ext cx="3297240" cy="4556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626760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mo soil initialization (lsm) is too dry for the entire period and daytime air temperature is colder for the entire peri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GRMET soil initialization (agr) similar to slab model (cont) until mid Apr, then agr too dry and 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59040" y="1438200"/>
            <a:ext cx="213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-m air temper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88000" y="1438200"/>
            <a:ext cx="245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-m dew point temper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3189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SM data assimilation experi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187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188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5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0" y="3048120"/>
            <a:ext cx="1295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erage number of observations per forecast used for verification = ~1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90504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rational COAMPS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urope domain (81 km): 25 January to 16 September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48-h forecasts valid 00 UTC (night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71760" y="6127920"/>
            <a:ext cx="70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RMET soil initialization (agr) and slab (cont) similar during day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mo soil initialization (lsm) too cold at night and warmer (best of three) during the d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mo soil initialization too dry both day and n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189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SM data assimilation experi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38400" y="933480"/>
            <a:ext cx="79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228600"/>
            <a:ext cx="1447200" cy="1294560"/>
            <a:chOff x="0" y="228600"/>
            <a:chExt cx="1447200" cy="1294560"/>
          </a:xfrm>
        </p:grpSpPr>
        <p:grpSp>
          <p:nvGrpSpPr>
            <p:cNvPr id="198" name=""/>
            <p:cNvGrpSpPr/>
            <p:nvPr/>
          </p:nvGrpSpPr>
          <p:grpSpPr>
            <a:xfrm>
              <a:off x="0" y="228600"/>
              <a:ext cx="1366200" cy="1294560"/>
              <a:chOff x="0" y="228600"/>
              <a:chExt cx="1366200" cy="1294560"/>
            </a:xfrm>
          </p:grpSpPr>
          <p:sp>
            <p:nvSpPr>
              <p:cNvPr id="199" name=""/>
              <p:cNvSpPr/>
              <p:nvPr/>
            </p:nvSpPr>
            <p:spPr>
              <a:xfrm>
                <a:off x="194760" y="424800"/>
                <a:ext cx="975960" cy="982080"/>
              </a:xfrm>
              <a:prstGeom prst="ellipse">
                <a:avLst/>
              </a:prstGeom>
              <a:solidFill>
                <a:srgbClr val="0000a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28600"/>
                <a:ext cx="1366200" cy="12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162000" y="334800"/>
              <a:ext cx="1017000" cy="106200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15840" y="228600"/>
              <a:ext cx="1431360" cy="128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0" y="3048120"/>
            <a:ext cx="1295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erage number of observations per forecast used for verification = ~1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307120" y="1428840"/>
            <a:ext cx="3112920" cy="4686120"/>
            <a:chOff x="5307120" y="1428840"/>
            <a:chExt cx="3112920" cy="4686120"/>
          </a:xfrm>
        </p:grpSpPr>
        <p:pic>
          <p:nvPicPr>
            <p:cNvPr id="205" name="" descr=""/>
            <p:cNvPicPr/>
            <p:nvPr/>
          </p:nvPicPr>
          <p:blipFill>
            <a:blip r:embed="rId4"/>
            <a:srcRect l="0" t="13926" r="16506" b="4082"/>
            <a:stretch/>
          </p:blipFill>
          <p:spPr>
            <a:xfrm>
              <a:off x="5307120" y="1428840"/>
              <a:ext cx="308916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621400" y="1441440"/>
              <a:ext cx="278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-m dew point temperature rm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5"/>
            <a:srcRect l="83267" t="26501" r="735" b="58008"/>
            <a:stretch/>
          </p:blipFill>
          <p:spPr>
            <a:xfrm>
              <a:off x="7488360" y="2803680"/>
              <a:ext cx="7887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715000" y="1679400"/>
              <a:ext cx="3510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702400" y="1812960"/>
              <a:ext cx="380880" cy="0"/>
            </a:xfrm>
            <a:prstGeom prst="line">
              <a:avLst/>
            </a:prstGeom>
            <a:ln cap="rnd" w="648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705640" y="1984320"/>
              <a:ext cx="380880" cy="0"/>
            </a:xfrm>
            <a:prstGeom prst="line">
              <a:avLst/>
            </a:prstGeom>
            <a:ln cap="rnd" w="648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705640" y="2158920"/>
              <a:ext cx="380880" cy="0"/>
            </a:xfrm>
            <a:prstGeom prst="line">
              <a:avLst/>
            </a:prstGeom>
            <a:ln cap="rnd" w="648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705640" y="2336760"/>
              <a:ext cx="380880" cy="0"/>
            </a:xfrm>
            <a:prstGeom prst="line">
              <a:avLst/>
            </a:prstGeom>
            <a:ln cap="rnd" w="648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711400" y="2511360"/>
              <a:ext cx="381240" cy="0"/>
            </a:xfrm>
            <a:prstGeom prst="line">
              <a:avLst/>
            </a:prstGeom>
            <a:ln cap="rnd" w="648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683320" y="2676600"/>
              <a:ext cx="380880" cy="0"/>
            </a:xfrm>
            <a:prstGeom prst="line">
              <a:avLst/>
            </a:prstGeom>
            <a:ln cap="rnd" w="648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05600" y="1736640"/>
              <a:ext cx="55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96000" y="1746360"/>
              <a:ext cx="63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941c"/>
                  </a:solidFill>
                  <a:latin typeface="Arial"/>
                </a:rPr>
                <a:t>nigh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04120" y="1765440"/>
              <a:ext cx="55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68480" y="2755800"/>
              <a:ext cx="519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6"/>
            <a:srcRect l="0" t="13926" r="16506" b="4082"/>
            <a:stretch/>
          </p:blipFill>
          <p:spPr>
            <a:xfrm>
              <a:off x="5307120" y="3770280"/>
              <a:ext cx="308916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630760" y="3763800"/>
              <a:ext cx="278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-m dew point temperature bi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7"/>
            <a:srcRect l="83267" t="26501" r="735" b="58008"/>
            <a:stretch/>
          </p:blipFill>
          <p:spPr>
            <a:xfrm>
              <a:off x="7497720" y="5126040"/>
              <a:ext cx="789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749920" y="4745160"/>
              <a:ext cx="30816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715000" y="4853160"/>
              <a:ext cx="380880" cy="0"/>
            </a:xfrm>
            <a:prstGeom prst="line">
              <a:avLst/>
            </a:prstGeom>
            <a:ln cap="rnd" w="648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711400" y="5062680"/>
              <a:ext cx="381240" cy="0"/>
            </a:xfrm>
            <a:prstGeom prst="line">
              <a:avLst/>
            </a:prstGeom>
            <a:ln cap="rnd" w="648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711400" y="5272200"/>
              <a:ext cx="381240" cy="0"/>
            </a:xfrm>
            <a:prstGeom prst="line">
              <a:avLst/>
            </a:prstGeom>
            <a:ln cap="rnd" w="648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705640" y="5478480"/>
              <a:ext cx="380880" cy="0"/>
            </a:xfrm>
            <a:prstGeom prst="line">
              <a:avLst/>
            </a:prstGeom>
            <a:ln cap="rnd" w="648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711400" y="5688000"/>
              <a:ext cx="381240" cy="0"/>
            </a:xfrm>
            <a:prstGeom prst="line">
              <a:avLst/>
            </a:prstGeom>
            <a:ln cap="rnd" w="6480">
              <a:solidFill>
                <a:srgbClr val="4d4d4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08840" y="4214880"/>
              <a:ext cx="55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4224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941c"/>
                  </a:solidFill>
                  <a:latin typeface="Arial"/>
                </a:rPr>
                <a:t>nigh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97640" y="4221000"/>
              <a:ext cx="55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78200" y="5097600"/>
              <a:ext cx="519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715000" y="5894280"/>
              <a:ext cx="380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35760" y="2041560"/>
              <a:ext cx="2292120" cy="442800"/>
            </a:xfrm>
            <a:custGeom>
              <a:avLst/>
              <a:gdLst/>
              <a:ahLst/>
              <a:rect l="l" t="t" r="r" b="b"/>
              <a:pathLst>
                <a:path w="1444" h="279">
                  <a:moveTo>
                    <a:pt x="0" y="279"/>
                  </a:moveTo>
                  <a:lnTo>
                    <a:pt x="204" y="178"/>
                  </a:lnTo>
                  <a:lnTo>
                    <a:pt x="415" y="130"/>
                  </a:lnTo>
                  <a:lnTo>
                    <a:pt x="624" y="87"/>
                  </a:lnTo>
                  <a:lnTo>
                    <a:pt x="830" y="128"/>
                  </a:lnTo>
                  <a:lnTo>
                    <a:pt x="1034" y="58"/>
                  </a:lnTo>
                  <a:lnTo>
                    <a:pt x="1245" y="29"/>
                  </a:lnTo>
                  <a:lnTo>
                    <a:pt x="1444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49800" y="2416320"/>
              <a:ext cx="2283120" cy="196560"/>
            </a:xfrm>
            <a:custGeom>
              <a:avLst/>
              <a:gdLst/>
              <a:ahLst/>
              <a:rect l="l" t="t" r="r" b="b"/>
              <a:pathLst>
                <a:path w="1438" h="124">
                  <a:moveTo>
                    <a:pt x="0" y="124"/>
                  </a:moveTo>
                  <a:lnTo>
                    <a:pt x="199" y="50"/>
                  </a:lnTo>
                  <a:lnTo>
                    <a:pt x="406" y="48"/>
                  </a:lnTo>
                  <a:lnTo>
                    <a:pt x="612" y="72"/>
                  </a:lnTo>
                  <a:lnTo>
                    <a:pt x="819" y="76"/>
                  </a:lnTo>
                  <a:lnTo>
                    <a:pt x="1025" y="0"/>
                  </a:lnTo>
                  <a:lnTo>
                    <a:pt x="1231" y="2"/>
                  </a:lnTo>
                  <a:lnTo>
                    <a:pt x="1438" y="19"/>
                  </a:lnTo>
                  <a:lnTo>
                    <a:pt x="1421" y="14"/>
                  </a:ln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60960" y="2498760"/>
              <a:ext cx="2274840" cy="190440"/>
            </a:xfrm>
            <a:custGeom>
              <a:avLst/>
              <a:gdLst/>
              <a:ahLst/>
              <a:rect l="l" t="t" r="r" b="b"/>
              <a:pathLst>
                <a:path w="1433" h="120">
                  <a:moveTo>
                    <a:pt x="0" y="120"/>
                  </a:moveTo>
                  <a:lnTo>
                    <a:pt x="195" y="48"/>
                  </a:lnTo>
                  <a:lnTo>
                    <a:pt x="399" y="44"/>
                  </a:lnTo>
                  <a:lnTo>
                    <a:pt x="603" y="94"/>
                  </a:lnTo>
                  <a:lnTo>
                    <a:pt x="812" y="89"/>
                  </a:lnTo>
                  <a:lnTo>
                    <a:pt x="1018" y="8"/>
                  </a:lnTo>
                  <a:lnTo>
                    <a:pt x="1224" y="0"/>
                  </a:lnTo>
                  <a:lnTo>
                    <a:pt x="1433" y="41"/>
                  </a:lnTo>
                </a:path>
              </a:pathLst>
            </a:custGeom>
            <a:noFill/>
            <a:ln w="38160">
              <a:solidFill>
                <a:srgbClr val="0000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00880" y="2975040"/>
              <a:ext cx="476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gr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04120" y="3209760"/>
              <a:ext cx="457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lsm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362640" y="2013120"/>
              <a:ext cx="0" cy="1295280"/>
            </a:xfrm>
            <a:prstGeom prst="line">
              <a:avLst/>
            </a:prstGeom>
            <a:ln w="1908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7020000" y="2013120"/>
              <a:ext cx="0" cy="1295280"/>
            </a:xfrm>
            <a:prstGeom prst="line">
              <a:avLst/>
            </a:prstGeom>
            <a:ln w="19080">
              <a:solidFill>
                <a:srgbClr val="00cc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7677000" y="2011320"/>
              <a:ext cx="1800" cy="782640"/>
            </a:xfrm>
            <a:prstGeom prst="line">
              <a:avLst/>
            </a:prstGeom>
            <a:ln w="1908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41920" y="5308560"/>
              <a:ext cx="476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gr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67480" y="5584680"/>
              <a:ext cx="331920" cy="1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45520" y="55087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lsm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41880" y="4621320"/>
              <a:ext cx="2286000" cy="296640"/>
            </a:xfrm>
            <a:custGeom>
              <a:avLst/>
              <a:gdLst/>
              <a:ahLst/>
              <a:rect l="l" t="t" r="r" b="b"/>
              <a:pathLst>
                <a:path w="1440" h="187">
                  <a:moveTo>
                    <a:pt x="0" y="187"/>
                  </a:moveTo>
                  <a:lnTo>
                    <a:pt x="207" y="147"/>
                  </a:lnTo>
                  <a:lnTo>
                    <a:pt x="413" y="29"/>
                  </a:lnTo>
                  <a:lnTo>
                    <a:pt x="617" y="5"/>
                  </a:lnTo>
                  <a:lnTo>
                    <a:pt x="824" y="106"/>
                  </a:lnTo>
                  <a:lnTo>
                    <a:pt x="1032" y="127"/>
                  </a:lnTo>
                  <a:lnTo>
                    <a:pt x="1236" y="39"/>
                  </a:lnTo>
                  <a:lnTo>
                    <a:pt x="1440" y="0"/>
                  </a:lnTo>
                </a:path>
              </a:pathLst>
            </a:custGeom>
            <a:noFill/>
            <a:ln w="38160">
              <a:solidFill>
                <a:srgbClr val="0000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46920" y="4827600"/>
              <a:ext cx="2280960" cy="285840"/>
            </a:xfrm>
            <a:custGeom>
              <a:avLst/>
              <a:gdLst/>
              <a:ahLst/>
              <a:rect l="l" t="t" r="r" b="b"/>
              <a:pathLst>
                <a:path w="1437" h="180">
                  <a:moveTo>
                    <a:pt x="0" y="127"/>
                  </a:moveTo>
                  <a:lnTo>
                    <a:pt x="201" y="60"/>
                  </a:lnTo>
                  <a:lnTo>
                    <a:pt x="408" y="0"/>
                  </a:lnTo>
                  <a:lnTo>
                    <a:pt x="619" y="137"/>
                  </a:lnTo>
                  <a:lnTo>
                    <a:pt x="821" y="170"/>
                  </a:lnTo>
                  <a:lnTo>
                    <a:pt x="1029" y="127"/>
                  </a:lnTo>
                  <a:lnTo>
                    <a:pt x="1236" y="69"/>
                  </a:lnTo>
                  <a:lnTo>
                    <a:pt x="1437" y="180"/>
                  </a:ln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46920" y="5440320"/>
              <a:ext cx="2286000" cy="397080"/>
            </a:xfrm>
            <a:custGeom>
              <a:avLst/>
              <a:gdLst/>
              <a:ahLst/>
              <a:rect l="l" t="t" r="r" b="b"/>
              <a:pathLst>
                <a:path w="1440" h="250">
                  <a:moveTo>
                    <a:pt x="0" y="0"/>
                  </a:moveTo>
                  <a:lnTo>
                    <a:pt x="199" y="94"/>
                  </a:lnTo>
                  <a:lnTo>
                    <a:pt x="413" y="108"/>
                  </a:lnTo>
                  <a:lnTo>
                    <a:pt x="614" y="175"/>
                  </a:lnTo>
                  <a:lnTo>
                    <a:pt x="823" y="173"/>
                  </a:lnTo>
                  <a:lnTo>
                    <a:pt x="1025" y="223"/>
                  </a:lnTo>
                  <a:lnTo>
                    <a:pt x="1236" y="204"/>
                  </a:lnTo>
                  <a:lnTo>
                    <a:pt x="1440" y="25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365880" y="4491000"/>
              <a:ext cx="0" cy="1295280"/>
            </a:xfrm>
            <a:prstGeom prst="line">
              <a:avLst/>
            </a:prstGeom>
            <a:ln w="1908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023240" y="4491000"/>
              <a:ext cx="0" cy="1295280"/>
            </a:xfrm>
            <a:prstGeom prst="line">
              <a:avLst/>
            </a:prstGeom>
            <a:ln w="19080">
              <a:solidFill>
                <a:srgbClr val="00cc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7678800" y="4503240"/>
              <a:ext cx="1440" cy="584280"/>
            </a:xfrm>
            <a:prstGeom prst="line">
              <a:avLst/>
            </a:prstGeom>
            <a:ln w="1908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523880" y="1428840"/>
            <a:ext cx="3089520" cy="4697280"/>
            <a:chOff x="1523880" y="1428840"/>
            <a:chExt cx="3089520" cy="4697280"/>
          </a:xfrm>
        </p:grpSpPr>
        <p:pic>
          <p:nvPicPr>
            <p:cNvPr id="251" name="" descr=""/>
            <p:cNvPicPr/>
            <p:nvPr/>
          </p:nvPicPr>
          <p:blipFill>
            <a:blip r:embed="rId8"/>
            <a:srcRect l="0" t="13926" r="16506" b="4082"/>
            <a:stretch/>
          </p:blipFill>
          <p:spPr>
            <a:xfrm>
              <a:off x="1523880" y="3781440"/>
              <a:ext cx="308952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971720" y="3784680"/>
              <a:ext cx="245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-m air temperature bi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9"/>
            <a:srcRect l="82683" t="25754" r="-1574" b="56505"/>
            <a:stretch/>
          </p:blipFill>
          <p:spPr>
            <a:xfrm>
              <a:off x="3600360" y="4137120"/>
              <a:ext cx="9320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322360" y="4270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13120" y="4280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941c"/>
                  </a:solidFill>
                  <a:latin typeface="Arial"/>
                </a:rPr>
                <a:t>nigh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23680" y="4098960"/>
              <a:ext cx="519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0"/>
            <a:srcRect l="0" t="13926" r="16506" b="4082"/>
            <a:stretch/>
          </p:blipFill>
          <p:spPr>
            <a:xfrm>
              <a:off x="1523880" y="1434960"/>
              <a:ext cx="3089520" cy="23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009880" y="1428840"/>
              <a:ext cx="245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-m air temperature rm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11"/>
            <a:srcRect l="82683" t="25754" r="-1574" b="56505"/>
            <a:stretch/>
          </p:blipFill>
          <p:spPr>
            <a:xfrm>
              <a:off x="3591000" y="2847960"/>
              <a:ext cx="9316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322360" y="182880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13120" y="1847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941c"/>
                  </a:solidFill>
                  <a:latin typeface="Arial"/>
                </a:rPr>
                <a:t>nigh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18000" y="1838160"/>
              <a:ext cx="55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04600" y="2811600"/>
              <a:ext cx="519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68680" y="3267000"/>
              <a:ext cx="457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lsm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55720" y="3048120"/>
              <a:ext cx="476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gr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87760" y="4554360"/>
              <a:ext cx="457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lsm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74800" y="4335480"/>
              <a:ext cx="476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gr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24200" y="2517840"/>
              <a:ext cx="2625480" cy="293760"/>
            </a:xfrm>
            <a:custGeom>
              <a:avLst/>
              <a:gdLst/>
              <a:ahLst/>
              <a:rect l="l" t="t" r="r" b="b"/>
              <a:pathLst>
                <a:path w="1654" h="185">
                  <a:moveTo>
                    <a:pt x="0" y="185"/>
                  </a:moveTo>
                  <a:lnTo>
                    <a:pt x="209" y="108"/>
                  </a:lnTo>
                  <a:lnTo>
                    <a:pt x="415" y="70"/>
                  </a:lnTo>
                  <a:lnTo>
                    <a:pt x="624" y="128"/>
                  </a:lnTo>
                  <a:lnTo>
                    <a:pt x="828" y="123"/>
                  </a:lnTo>
                  <a:lnTo>
                    <a:pt x="1039" y="82"/>
                  </a:lnTo>
                  <a:lnTo>
                    <a:pt x="1238" y="0"/>
                  </a:lnTo>
                  <a:lnTo>
                    <a:pt x="1447" y="80"/>
                  </a:lnTo>
                  <a:lnTo>
                    <a:pt x="1654" y="87"/>
                  </a:lnTo>
                </a:path>
              </a:pathLst>
            </a:custGeom>
            <a:noFill/>
            <a:ln w="38160">
              <a:solidFill>
                <a:srgbClr val="0000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24200" y="2468520"/>
              <a:ext cx="2628720" cy="277920"/>
            </a:xfrm>
            <a:custGeom>
              <a:avLst/>
              <a:gdLst/>
              <a:ahLst/>
              <a:rect l="l" t="t" r="r" b="b"/>
              <a:pathLst>
                <a:path w="1656" h="175">
                  <a:moveTo>
                    <a:pt x="0" y="175"/>
                  </a:moveTo>
                  <a:lnTo>
                    <a:pt x="209" y="118"/>
                  </a:lnTo>
                  <a:lnTo>
                    <a:pt x="415" y="75"/>
                  </a:lnTo>
                  <a:lnTo>
                    <a:pt x="624" y="65"/>
                  </a:lnTo>
                  <a:lnTo>
                    <a:pt x="828" y="43"/>
                  </a:lnTo>
                  <a:lnTo>
                    <a:pt x="1034" y="72"/>
                  </a:lnTo>
                  <a:lnTo>
                    <a:pt x="1241" y="5"/>
                  </a:lnTo>
                  <a:lnTo>
                    <a:pt x="1450" y="10"/>
                  </a:lnTo>
                  <a:lnTo>
                    <a:pt x="1656" y="0"/>
                  </a:ln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24200" y="2193840"/>
              <a:ext cx="2628720" cy="397080"/>
            </a:xfrm>
            <a:custGeom>
              <a:avLst/>
              <a:gdLst/>
              <a:ahLst/>
              <a:rect l="l" t="t" r="r" b="b"/>
              <a:pathLst>
                <a:path w="1656" h="250">
                  <a:moveTo>
                    <a:pt x="0" y="221"/>
                  </a:moveTo>
                  <a:lnTo>
                    <a:pt x="204" y="250"/>
                  </a:lnTo>
                  <a:lnTo>
                    <a:pt x="415" y="248"/>
                  </a:lnTo>
                  <a:lnTo>
                    <a:pt x="624" y="137"/>
                  </a:lnTo>
                  <a:lnTo>
                    <a:pt x="828" y="48"/>
                  </a:lnTo>
                  <a:lnTo>
                    <a:pt x="1030" y="190"/>
                  </a:lnTo>
                  <a:lnTo>
                    <a:pt x="1241" y="183"/>
                  </a:lnTo>
                  <a:lnTo>
                    <a:pt x="1450" y="92"/>
                  </a:lnTo>
                  <a:lnTo>
                    <a:pt x="1656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20960" y="4838760"/>
              <a:ext cx="2628720" cy="644400"/>
            </a:xfrm>
            <a:custGeom>
              <a:avLst/>
              <a:gdLst/>
              <a:ahLst/>
              <a:rect l="l" t="t" r="r" b="b"/>
              <a:pathLst>
                <a:path w="1656" h="406">
                  <a:moveTo>
                    <a:pt x="0" y="0"/>
                  </a:moveTo>
                  <a:lnTo>
                    <a:pt x="211" y="266"/>
                  </a:lnTo>
                  <a:lnTo>
                    <a:pt x="412" y="326"/>
                  </a:lnTo>
                  <a:lnTo>
                    <a:pt x="626" y="146"/>
                  </a:lnTo>
                  <a:lnTo>
                    <a:pt x="830" y="46"/>
                  </a:lnTo>
                  <a:lnTo>
                    <a:pt x="1039" y="242"/>
                  </a:lnTo>
                  <a:lnTo>
                    <a:pt x="1238" y="406"/>
                  </a:lnTo>
                  <a:lnTo>
                    <a:pt x="1449" y="204"/>
                  </a:lnTo>
                  <a:lnTo>
                    <a:pt x="1656" y="60"/>
                  </a:lnTo>
                </a:path>
              </a:pathLst>
            </a:custGeom>
            <a:noFill/>
            <a:ln w="38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24200" y="5013360"/>
              <a:ext cx="2628720" cy="492120"/>
            </a:xfrm>
            <a:custGeom>
              <a:avLst/>
              <a:gdLst/>
              <a:ahLst/>
              <a:rect l="l" t="t" r="r" b="b"/>
              <a:pathLst>
                <a:path w="1656" h="310">
                  <a:moveTo>
                    <a:pt x="0" y="0"/>
                  </a:moveTo>
                  <a:lnTo>
                    <a:pt x="206" y="173"/>
                  </a:lnTo>
                  <a:lnTo>
                    <a:pt x="418" y="226"/>
                  </a:lnTo>
                  <a:lnTo>
                    <a:pt x="622" y="219"/>
                  </a:lnTo>
                  <a:lnTo>
                    <a:pt x="830" y="173"/>
                  </a:lnTo>
                  <a:lnTo>
                    <a:pt x="1034" y="204"/>
                  </a:lnTo>
                  <a:lnTo>
                    <a:pt x="1243" y="310"/>
                  </a:lnTo>
                  <a:lnTo>
                    <a:pt x="1452" y="286"/>
                  </a:lnTo>
                  <a:lnTo>
                    <a:pt x="1656" y="212"/>
                  </a:ln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4200" y="4952880"/>
              <a:ext cx="2631960" cy="677880"/>
            </a:xfrm>
            <a:custGeom>
              <a:avLst/>
              <a:gdLst/>
              <a:ahLst/>
              <a:rect l="l" t="t" r="r" b="b"/>
              <a:pathLst>
                <a:path w="1658" h="427">
                  <a:moveTo>
                    <a:pt x="0" y="190"/>
                  </a:moveTo>
                  <a:lnTo>
                    <a:pt x="206" y="206"/>
                  </a:lnTo>
                  <a:lnTo>
                    <a:pt x="410" y="0"/>
                  </a:lnTo>
                  <a:lnTo>
                    <a:pt x="622" y="197"/>
                  </a:lnTo>
                  <a:lnTo>
                    <a:pt x="826" y="398"/>
                  </a:lnTo>
                  <a:lnTo>
                    <a:pt x="1042" y="259"/>
                  </a:lnTo>
                  <a:lnTo>
                    <a:pt x="1241" y="60"/>
                  </a:lnTo>
                  <a:lnTo>
                    <a:pt x="1450" y="252"/>
                  </a:lnTo>
                  <a:lnTo>
                    <a:pt x="1658" y="427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579760" y="4546080"/>
              <a:ext cx="0" cy="1295640"/>
            </a:xfrm>
            <a:prstGeom prst="line">
              <a:avLst/>
            </a:prstGeom>
            <a:ln w="1908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236760" y="4546080"/>
              <a:ext cx="0" cy="1295640"/>
            </a:xfrm>
            <a:prstGeom prst="line">
              <a:avLst/>
            </a:prstGeom>
            <a:ln w="19080">
              <a:solidFill>
                <a:srgbClr val="00cc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884760" y="4896000"/>
              <a:ext cx="9360" cy="993600"/>
            </a:xfrm>
            <a:prstGeom prst="line">
              <a:avLst/>
            </a:prstGeom>
            <a:ln w="1908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579760" y="2104560"/>
              <a:ext cx="0" cy="1295640"/>
            </a:xfrm>
            <a:prstGeom prst="line">
              <a:avLst/>
            </a:prstGeom>
            <a:ln w="1908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236760" y="2114640"/>
              <a:ext cx="0" cy="1295280"/>
            </a:xfrm>
            <a:prstGeom prst="line">
              <a:avLst/>
            </a:prstGeom>
            <a:ln w="19080">
              <a:solidFill>
                <a:srgbClr val="00cc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3884760" y="2085840"/>
              <a:ext cx="9360" cy="666720"/>
            </a:xfrm>
            <a:prstGeom prst="line">
              <a:avLst/>
            </a:prstGeom>
            <a:ln w="1908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886040" y="4867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67480" y="4854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90504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rational COAMPS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urope domain (81 km): 25 January to 16 September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ll forecasts from 00 U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21:05:53Z</dcterms:created>
  <dc:creator>Pat Phoebus</dc:creator>
  <dc:description/>
  <dc:language>en-US</dc:language>
  <cp:lastModifiedBy>Dr. Teddy Holt</cp:lastModifiedBy>
  <dcterms:modified xsi:type="dcterms:W3CDTF">2005-09-12T21:49:32Z</dcterms:modified>
  <cp:revision>286</cp:revision>
  <dc:subject/>
  <dc:title>No Slide Title</dc:title>
</cp:coreProperties>
</file>